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hyperlink" Target="mailto:pawel.gorski@pta.med.pl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800" spc="-1" strike="noStrike">
                <a:solidFill>
                  <a:srgbClr val="ffffcc"/>
                </a:solidFill>
                <a:latin typeface="Penguin"/>
              </a:rPr>
              <a:t>Znaczenie czynników środowiskowych </a:t>
            </a:r>
            <a:br>
              <a:rPr sz="6800"/>
            </a:br>
            <a:r>
              <a:rPr b="0" lang="pl-PL" sz="6800" spc="-1" strike="noStrike">
                <a:solidFill>
                  <a:srgbClr val="ffffcc"/>
                </a:solidFill>
                <a:latin typeface="Penguin"/>
              </a:rPr>
              <a:t>w rozwoju astmy i POChP</a:t>
            </a:r>
            <a:endParaRPr b="0" lang="en-US" sz="68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61760" y="4114800"/>
            <a:ext cx="8762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Paweł Górsk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c1da"/>
                </a:solidFill>
                <a:latin typeface="Tahoma"/>
              </a:rPr>
              <a:t>Akademia Medyczna w Łodz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1021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1760" y="5105520"/>
            <a:ext cx="7238880" cy="914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wa Gwine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roztoc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71760" y="3962520"/>
            <a:ext cx="7238880" cy="99036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Kuweit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„prosopis juliflor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894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28800"/>
            <a:ext cx="3505320" cy="16002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Zawodow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1828800"/>
            <a:ext cx="3809880" cy="16002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Sporadycz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905120"/>
            <a:ext cx="1371600" cy="1523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enguin"/>
              </a:rPr>
              <a:t>Rola „nowych” alergenów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02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Zalety systemu HEPA w usuwaniu alergenów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590920"/>
            <a:ext cx="8991720" cy="17524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ydajność 99,97% dla cząst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 średnicy 0,3 </a:t>
            </a:r>
            <a:r>
              <a:rPr b="0" lang="en-US" sz="32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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95680"/>
            <a:ext cx="8991720" cy="175284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zastosowanie tylko w odkurzaczach klasycznych (dla centralnych zbyt duży opó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894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1371600"/>
            <a:ext cx="3505320" cy="10666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iltry HE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7146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Penguin"/>
              </a:rPr>
              <a:t>  </a:t>
            </a:r>
            <a:r>
              <a:rPr b="0" lang="en-US" sz="8000" spc="-1" strike="noStrike">
                <a:solidFill>
                  <a:srgbClr val="ffffcc"/>
                </a:solidFill>
                <a:latin typeface="Penguin"/>
              </a:rPr>
              <a:t>DE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51440" y="2379960"/>
            <a:ext cx="1596600" cy="72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638360"/>
            <a:ext cx="4114800" cy="685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całk. IgE in vivo </a:t>
            </a:r>
            <a:r>
              <a:rPr b="0" lang="pl-PL" sz="2800" spc="-1" strike="noStrike">
                <a:solidFill>
                  <a:srgbClr val="66ccff"/>
                </a:solidFill>
                <a:latin typeface="GreekMathSymbols"/>
                <a:ea typeface="GreekMathSymbols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8440" y="2526120"/>
            <a:ext cx="2306520" cy="140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03120" y="2674800"/>
            <a:ext cx="3021840" cy="237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71600" y="1973160"/>
            <a:ext cx="1191240" cy="177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43080"/>
            <a:ext cx="8991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2857680"/>
            <a:ext cx="4647960" cy="685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sIgE in vivo </a:t>
            </a:r>
            <a:r>
              <a:rPr b="0" lang="pl-PL" sz="2800" spc="-1" strike="noStrike">
                <a:solidFill>
                  <a:srgbClr val="66ccff"/>
                </a:solidFill>
                <a:latin typeface="GreekMathSymbols"/>
                <a:ea typeface="GreekMathSymbols"/>
              </a:rPr>
              <a:t></a:t>
            </a: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 (pył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848040"/>
            <a:ext cx="4114800" cy="76212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IgE in vitro </a:t>
            </a:r>
            <a:r>
              <a:rPr b="0" lang="pl-PL" sz="2800" spc="-1" strike="noStrike">
                <a:solidFill>
                  <a:srgbClr val="66ccff"/>
                </a:solidFill>
                <a:latin typeface="GreekMathSymbols"/>
                <a:ea typeface="GreekMathSymbols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5143680"/>
            <a:ext cx="4114800" cy="12952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ekspresja genów cytokin typu Th</a:t>
            </a:r>
            <a:r>
              <a:rPr b="0" lang="pl-PL" sz="2800" spc="-1" strike="noStrike" baseline="-25000">
                <a:solidFill>
                  <a:srgbClr val="66ccff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66ccff"/>
                </a:solidFill>
                <a:latin typeface="GreekMathSymbols"/>
                <a:ea typeface="GreekMathSymbols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000680"/>
            <a:ext cx="3886200" cy="24382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stężenie cytokin Th</a:t>
            </a:r>
            <a:r>
              <a:rPr b="0" lang="pl-PL" sz="2800" spc="-1" strike="noStrike" baseline="-25000">
                <a:solidFill>
                  <a:srgbClr val="66ccff"/>
                </a:solidFill>
                <a:latin typeface="Tahoma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w wydzielnie z no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i popłuczynach oskrzelowych </a:t>
            </a:r>
            <a:r>
              <a:rPr b="0" lang="pl-PL" sz="2800" spc="-1" strike="noStrike">
                <a:solidFill>
                  <a:srgbClr val="66ccff"/>
                </a:solidFill>
                <a:latin typeface="GreekMathSymbols"/>
                <a:ea typeface="GreekMathSymbols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24800" y="2799360"/>
            <a:ext cx="579600" cy="1107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Spaliny z silników wysokoprężnych (DEP) a rozwój alergii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52280"/>
            <a:ext cx="1021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352680"/>
            <a:ext cx="8991720" cy="266724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GreekMathSymbol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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rodukcji IgE u szczu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GreekMathSymbol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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liczby dodatnich testów skórnych i całkowitej IgE u palac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stymulacja 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ierne narażenie w ciąży lub w połogu powoduje wzrost ryzyka alergii u dz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894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219320"/>
            <a:ext cx="8153640" cy="16002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„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even if smoking has a proven effect on allergic disease, it does not seem probable that it is a major causative factor in the global increase of these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958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Halken i wsp., Allergy, 1995, 50, 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2819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Strannegard,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Narażenie na dym tytoniowy a rozwój alergii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1143000"/>
            <a:ext cx="5943600" cy="5257800"/>
          </a:xfrm>
          <a:custGeom>
            <a:avLst/>
            <a:gdLst/>
            <a:ahLst/>
            <a:rect l="l" t="t" r="r" b="b"/>
            <a:pathLst>
              <a:path w="2155" h="2169">
                <a:moveTo>
                  <a:pt x="838" y="46"/>
                </a:moveTo>
                <a:cubicBezTo>
                  <a:pt x="722" y="34"/>
                  <a:pt x="616" y="40"/>
                  <a:pt x="500" y="46"/>
                </a:cubicBezTo>
                <a:cubicBezTo>
                  <a:pt x="431" y="54"/>
                  <a:pt x="372" y="82"/>
                  <a:pt x="347" y="153"/>
                </a:cubicBezTo>
                <a:cubicBezTo>
                  <a:pt x="338" y="179"/>
                  <a:pt x="334" y="206"/>
                  <a:pt x="324" y="232"/>
                </a:cubicBezTo>
                <a:cubicBezTo>
                  <a:pt x="300" y="294"/>
                  <a:pt x="244" y="346"/>
                  <a:pt x="217" y="407"/>
                </a:cubicBezTo>
                <a:cubicBezTo>
                  <a:pt x="172" y="507"/>
                  <a:pt x="262" y="348"/>
                  <a:pt x="172" y="497"/>
                </a:cubicBezTo>
                <a:cubicBezTo>
                  <a:pt x="168" y="504"/>
                  <a:pt x="160" y="508"/>
                  <a:pt x="155" y="514"/>
                </a:cubicBezTo>
                <a:cubicBezTo>
                  <a:pt x="149" y="521"/>
                  <a:pt x="143" y="529"/>
                  <a:pt x="138" y="537"/>
                </a:cubicBezTo>
                <a:cubicBezTo>
                  <a:pt x="121" y="568"/>
                  <a:pt x="110" y="593"/>
                  <a:pt x="87" y="622"/>
                </a:cubicBezTo>
                <a:cubicBezTo>
                  <a:pt x="75" y="687"/>
                  <a:pt x="91" y="616"/>
                  <a:pt x="70" y="672"/>
                </a:cubicBezTo>
                <a:cubicBezTo>
                  <a:pt x="59" y="702"/>
                  <a:pt x="58" y="737"/>
                  <a:pt x="48" y="768"/>
                </a:cubicBezTo>
                <a:cubicBezTo>
                  <a:pt x="78" y="1028"/>
                  <a:pt x="0" y="1353"/>
                  <a:pt x="116" y="1576"/>
                </a:cubicBezTo>
                <a:cubicBezTo>
                  <a:pt x="131" y="1646"/>
                  <a:pt x="181" y="1679"/>
                  <a:pt x="223" y="1734"/>
                </a:cubicBezTo>
                <a:cubicBezTo>
                  <a:pt x="234" y="1773"/>
                  <a:pt x="258" y="1784"/>
                  <a:pt x="291" y="1808"/>
                </a:cubicBezTo>
                <a:cubicBezTo>
                  <a:pt x="326" y="1834"/>
                  <a:pt x="365" y="1850"/>
                  <a:pt x="404" y="1870"/>
                </a:cubicBezTo>
                <a:cubicBezTo>
                  <a:pt x="454" y="1896"/>
                  <a:pt x="483" y="1913"/>
                  <a:pt x="539" y="1920"/>
                </a:cubicBezTo>
                <a:cubicBezTo>
                  <a:pt x="547" y="1924"/>
                  <a:pt x="554" y="1929"/>
                  <a:pt x="562" y="1932"/>
                </a:cubicBezTo>
                <a:cubicBezTo>
                  <a:pt x="575" y="1937"/>
                  <a:pt x="601" y="1943"/>
                  <a:pt x="601" y="1943"/>
                </a:cubicBezTo>
                <a:cubicBezTo>
                  <a:pt x="621" y="1958"/>
                  <a:pt x="639" y="1962"/>
                  <a:pt x="658" y="1977"/>
                </a:cubicBezTo>
                <a:cubicBezTo>
                  <a:pt x="673" y="1989"/>
                  <a:pt x="685" y="2007"/>
                  <a:pt x="703" y="2011"/>
                </a:cubicBezTo>
                <a:cubicBezTo>
                  <a:pt x="808" y="2034"/>
                  <a:pt x="913" y="2060"/>
                  <a:pt x="1019" y="2079"/>
                </a:cubicBezTo>
                <a:cubicBezTo>
                  <a:pt x="1159" y="2146"/>
                  <a:pt x="1328" y="2160"/>
                  <a:pt x="1482" y="2169"/>
                </a:cubicBezTo>
                <a:cubicBezTo>
                  <a:pt x="1599" y="2167"/>
                  <a:pt x="1715" y="2166"/>
                  <a:pt x="1832" y="2163"/>
                </a:cubicBezTo>
                <a:cubicBezTo>
                  <a:pt x="1912" y="2161"/>
                  <a:pt x="1955" y="2151"/>
                  <a:pt x="2002" y="2090"/>
                </a:cubicBezTo>
                <a:cubicBezTo>
                  <a:pt x="2017" y="2037"/>
                  <a:pt x="2041" y="1990"/>
                  <a:pt x="2058" y="1937"/>
                </a:cubicBezTo>
                <a:cubicBezTo>
                  <a:pt x="2069" y="1843"/>
                  <a:pt x="2063" y="1745"/>
                  <a:pt x="2092" y="1655"/>
                </a:cubicBezTo>
                <a:cubicBezTo>
                  <a:pt x="2104" y="1503"/>
                  <a:pt x="2093" y="1652"/>
                  <a:pt x="2103" y="1463"/>
                </a:cubicBezTo>
                <a:cubicBezTo>
                  <a:pt x="2106" y="1398"/>
                  <a:pt x="2098" y="1377"/>
                  <a:pt x="2126" y="1333"/>
                </a:cubicBezTo>
                <a:cubicBezTo>
                  <a:pt x="2135" y="1293"/>
                  <a:pt x="2139" y="1256"/>
                  <a:pt x="2143" y="1215"/>
                </a:cubicBezTo>
                <a:cubicBezTo>
                  <a:pt x="2147" y="1090"/>
                  <a:pt x="2155" y="984"/>
                  <a:pt x="2148" y="859"/>
                </a:cubicBezTo>
                <a:cubicBezTo>
                  <a:pt x="2146" y="831"/>
                  <a:pt x="2145" y="789"/>
                  <a:pt x="2132" y="763"/>
                </a:cubicBezTo>
                <a:cubicBezTo>
                  <a:pt x="2117" y="732"/>
                  <a:pt x="2056" y="638"/>
                  <a:pt x="2030" y="605"/>
                </a:cubicBezTo>
                <a:cubicBezTo>
                  <a:pt x="2023" y="585"/>
                  <a:pt x="1990" y="554"/>
                  <a:pt x="1990" y="554"/>
                </a:cubicBezTo>
                <a:cubicBezTo>
                  <a:pt x="1981" y="534"/>
                  <a:pt x="1926" y="460"/>
                  <a:pt x="1906" y="452"/>
                </a:cubicBezTo>
                <a:cubicBezTo>
                  <a:pt x="1886" y="445"/>
                  <a:pt x="1865" y="445"/>
                  <a:pt x="1844" y="441"/>
                </a:cubicBezTo>
                <a:cubicBezTo>
                  <a:pt x="1805" y="422"/>
                  <a:pt x="1757" y="403"/>
                  <a:pt x="1725" y="373"/>
                </a:cubicBezTo>
                <a:cubicBezTo>
                  <a:pt x="1703" y="352"/>
                  <a:pt x="1644" y="301"/>
                  <a:pt x="1618" y="288"/>
                </a:cubicBezTo>
                <a:cubicBezTo>
                  <a:pt x="1593" y="275"/>
                  <a:pt x="1565" y="269"/>
                  <a:pt x="1539" y="260"/>
                </a:cubicBezTo>
                <a:cubicBezTo>
                  <a:pt x="1501" y="231"/>
                  <a:pt x="1461" y="208"/>
                  <a:pt x="1426" y="176"/>
                </a:cubicBezTo>
                <a:cubicBezTo>
                  <a:pt x="1400" y="153"/>
                  <a:pt x="1365" y="122"/>
                  <a:pt x="1341" y="96"/>
                </a:cubicBezTo>
                <a:cubicBezTo>
                  <a:pt x="1306" y="58"/>
                  <a:pt x="1315" y="51"/>
                  <a:pt x="1273" y="23"/>
                </a:cubicBezTo>
                <a:cubicBezTo>
                  <a:pt x="1252" y="9"/>
                  <a:pt x="1205" y="9"/>
                  <a:pt x="1183" y="6"/>
                </a:cubicBezTo>
                <a:cubicBezTo>
                  <a:pt x="1087" y="11"/>
                  <a:pt x="996" y="8"/>
                  <a:pt x="900" y="0"/>
                </a:cubicBezTo>
                <a:cubicBezTo>
                  <a:pt x="889" y="2"/>
                  <a:pt x="877" y="0"/>
                  <a:pt x="867" y="6"/>
                </a:cubicBezTo>
                <a:cubicBezTo>
                  <a:pt x="860" y="10"/>
                  <a:pt x="858" y="36"/>
                  <a:pt x="838" y="46"/>
                </a:cubicBezTo>
                <a:close/>
              </a:path>
            </a:pathLst>
          </a:custGeom>
          <a:solidFill>
            <a:srgbClr val="006666"/>
          </a:solidFill>
          <a:ln w="9360">
            <a:solidFill>
              <a:srgbClr val="08c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10960" y="960480"/>
            <a:ext cx="51091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700" spc="-1" strike="noStrike">
                <a:solidFill>
                  <a:srgbClr val="009999"/>
                </a:solidFill>
                <a:latin typeface="Times New Roman"/>
              </a:rPr>
              <a:t>Th</a:t>
            </a:r>
            <a:r>
              <a:rPr b="0" lang="en-US" sz="277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Penguin"/>
              </a:rPr>
              <a:t>Protekcyjny wpływ zanieczyszczeń powietrza na rozwój alergii</a:t>
            </a:r>
            <a:endParaRPr b="0" lang="en-US" sz="40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43" name=""/>
          <p:cNvSpPr/>
          <p:nvPr/>
        </p:nvSpPr>
        <p:spPr>
          <a:xfrm>
            <a:off x="1346040" y="1828800"/>
            <a:ext cx="3315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Narażenie zawod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na trzodę chlewn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Penguin"/>
              </a:rPr>
              <a:t>(Wang, Eur. Respir. J. 1997, 10, 3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960" y="3962520"/>
            <a:ext cx="29498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Endotoksy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z kurzu dom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Penguin"/>
              </a:rPr>
              <a:t>(Gereda, Lancet, 2000, 355, 168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82720" y="2971800"/>
            <a:ext cx="42087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Gram(+) bakterie wyzwalaj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IL-12 silniej niż Gram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Penguin"/>
              </a:rPr>
              <a:t>(Hessle, Infect. Immunol, 2000, 68, 35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2040" y="5029200"/>
            <a:ext cx="384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Dzieci farmerów rzadz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chorują na pyłkowic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Penguin"/>
              </a:rPr>
              <a:t>(Kilpelainen, Clin Exp Aleergy, 2000, 30, 2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867280" y="2362320"/>
            <a:ext cx="3886200" cy="3809880"/>
            <a:chOff x="5867280" y="2362320"/>
            <a:chExt cx="3886200" cy="3809880"/>
          </a:xfrm>
        </p:grpSpPr>
        <p:sp>
          <p:nvSpPr>
            <p:cNvPr id="148" name=""/>
            <p:cNvSpPr/>
            <p:nvPr/>
          </p:nvSpPr>
          <p:spPr>
            <a:xfrm>
              <a:off x="5867280" y="2362320"/>
              <a:ext cx="3886200" cy="3809880"/>
            </a:xfrm>
            <a:custGeom>
              <a:avLst/>
              <a:gdLst/>
              <a:ahLst/>
              <a:rect l="l" t="t" r="r" b="b"/>
              <a:pathLst>
                <a:path w="2155" h="2169">
                  <a:moveTo>
                    <a:pt x="838" y="46"/>
                  </a:moveTo>
                  <a:cubicBezTo>
                    <a:pt x="722" y="34"/>
                    <a:pt x="616" y="40"/>
                    <a:pt x="500" y="46"/>
                  </a:cubicBezTo>
                  <a:cubicBezTo>
                    <a:pt x="431" y="54"/>
                    <a:pt x="372" y="82"/>
                    <a:pt x="347" y="153"/>
                  </a:cubicBezTo>
                  <a:cubicBezTo>
                    <a:pt x="338" y="179"/>
                    <a:pt x="334" y="206"/>
                    <a:pt x="324" y="232"/>
                  </a:cubicBezTo>
                  <a:cubicBezTo>
                    <a:pt x="300" y="294"/>
                    <a:pt x="244" y="346"/>
                    <a:pt x="217" y="407"/>
                  </a:cubicBezTo>
                  <a:cubicBezTo>
                    <a:pt x="172" y="507"/>
                    <a:pt x="262" y="348"/>
                    <a:pt x="172" y="497"/>
                  </a:cubicBezTo>
                  <a:cubicBezTo>
                    <a:pt x="168" y="504"/>
                    <a:pt x="160" y="508"/>
                    <a:pt x="155" y="514"/>
                  </a:cubicBezTo>
                  <a:cubicBezTo>
                    <a:pt x="149" y="521"/>
                    <a:pt x="143" y="529"/>
                    <a:pt x="138" y="537"/>
                  </a:cubicBezTo>
                  <a:cubicBezTo>
                    <a:pt x="121" y="568"/>
                    <a:pt x="110" y="593"/>
                    <a:pt x="87" y="622"/>
                  </a:cubicBezTo>
                  <a:cubicBezTo>
                    <a:pt x="75" y="687"/>
                    <a:pt x="91" y="616"/>
                    <a:pt x="70" y="672"/>
                  </a:cubicBezTo>
                  <a:cubicBezTo>
                    <a:pt x="59" y="702"/>
                    <a:pt x="58" y="737"/>
                    <a:pt x="48" y="768"/>
                  </a:cubicBezTo>
                  <a:cubicBezTo>
                    <a:pt x="78" y="1028"/>
                    <a:pt x="0" y="1353"/>
                    <a:pt x="116" y="1576"/>
                  </a:cubicBezTo>
                  <a:cubicBezTo>
                    <a:pt x="131" y="1646"/>
                    <a:pt x="181" y="1679"/>
                    <a:pt x="223" y="1734"/>
                  </a:cubicBezTo>
                  <a:cubicBezTo>
                    <a:pt x="234" y="1773"/>
                    <a:pt x="258" y="1784"/>
                    <a:pt x="291" y="1808"/>
                  </a:cubicBezTo>
                  <a:cubicBezTo>
                    <a:pt x="326" y="1834"/>
                    <a:pt x="365" y="1850"/>
                    <a:pt x="404" y="1870"/>
                  </a:cubicBezTo>
                  <a:cubicBezTo>
                    <a:pt x="454" y="1896"/>
                    <a:pt x="483" y="1913"/>
                    <a:pt x="539" y="1920"/>
                  </a:cubicBezTo>
                  <a:cubicBezTo>
                    <a:pt x="547" y="1924"/>
                    <a:pt x="554" y="1929"/>
                    <a:pt x="562" y="1932"/>
                  </a:cubicBezTo>
                  <a:cubicBezTo>
                    <a:pt x="575" y="1937"/>
                    <a:pt x="601" y="1943"/>
                    <a:pt x="601" y="1943"/>
                  </a:cubicBezTo>
                  <a:cubicBezTo>
                    <a:pt x="621" y="1958"/>
                    <a:pt x="639" y="1962"/>
                    <a:pt x="658" y="1977"/>
                  </a:cubicBezTo>
                  <a:cubicBezTo>
                    <a:pt x="673" y="1989"/>
                    <a:pt x="685" y="2007"/>
                    <a:pt x="703" y="2011"/>
                  </a:cubicBezTo>
                  <a:cubicBezTo>
                    <a:pt x="808" y="2034"/>
                    <a:pt x="913" y="2060"/>
                    <a:pt x="1019" y="2079"/>
                  </a:cubicBezTo>
                  <a:cubicBezTo>
                    <a:pt x="1159" y="2146"/>
                    <a:pt x="1328" y="2160"/>
                    <a:pt x="1482" y="2169"/>
                  </a:cubicBezTo>
                  <a:cubicBezTo>
                    <a:pt x="1599" y="2167"/>
                    <a:pt x="1715" y="2166"/>
                    <a:pt x="1832" y="2163"/>
                  </a:cubicBezTo>
                  <a:cubicBezTo>
                    <a:pt x="1912" y="2161"/>
                    <a:pt x="1955" y="2151"/>
                    <a:pt x="2002" y="2090"/>
                  </a:cubicBezTo>
                  <a:cubicBezTo>
                    <a:pt x="2017" y="2037"/>
                    <a:pt x="2041" y="1990"/>
                    <a:pt x="2058" y="1937"/>
                  </a:cubicBezTo>
                  <a:cubicBezTo>
                    <a:pt x="2069" y="1843"/>
                    <a:pt x="2063" y="1745"/>
                    <a:pt x="2092" y="1655"/>
                  </a:cubicBezTo>
                  <a:cubicBezTo>
                    <a:pt x="2104" y="1503"/>
                    <a:pt x="2093" y="1652"/>
                    <a:pt x="2103" y="1463"/>
                  </a:cubicBezTo>
                  <a:cubicBezTo>
                    <a:pt x="2106" y="1398"/>
                    <a:pt x="2098" y="1377"/>
                    <a:pt x="2126" y="1333"/>
                  </a:cubicBezTo>
                  <a:cubicBezTo>
                    <a:pt x="2135" y="1293"/>
                    <a:pt x="2139" y="1256"/>
                    <a:pt x="2143" y="1215"/>
                  </a:cubicBezTo>
                  <a:cubicBezTo>
                    <a:pt x="2147" y="1090"/>
                    <a:pt x="2155" y="984"/>
                    <a:pt x="2148" y="859"/>
                  </a:cubicBezTo>
                  <a:cubicBezTo>
                    <a:pt x="2146" y="831"/>
                    <a:pt x="2145" y="789"/>
                    <a:pt x="2132" y="763"/>
                  </a:cubicBezTo>
                  <a:cubicBezTo>
                    <a:pt x="2117" y="732"/>
                    <a:pt x="2056" y="638"/>
                    <a:pt x="2030" y="605"/>
                  </a:cubicBezTo>
                  <a:cubicBezTo>
                    <a:pt x="2023" y="585"/>
                    <a:pt x="1990" y="554"/>
                    <a:pt x="1990" y="554"/>
                  </a:cubicBezTo>
                  <a:cubicBezTo>
                    <a:pt x="1981" y="534"/>
                    <a:pt x="1926" y="460"/>
                    <a:pt x="1906" y="452"/>
                  </a:cubicBezTo>
                  <a:cubicBezTo>
                    <a:pt x="1886" y="445"/>
                    <a:pt x="1865" y="445"/>
                    <a:pt x="1844" y="441"/>
                  </a:cubicBezTo>
                  <a:cubicBezTo>
                    <a:pt x="1805" y="422"/>
                    <a:pt x="1757" y="403"/>
                    <a:pt x="1725" y="373"/>
                  </a:cubicBezTo>
                  <a:cubicBezTo>
                    <a:pt x="1703" y="352"/>
                    <a:pt x="1644" y="301"/>
                    <a:pt x="1618" y="288"/>
                  </a:cubicBezTo>
                  <a:cubicBezTo>
                    <a:pt x="1593" y="275"/>
                    <a:pt x="1565" y="269"/>
                    <a:pt x="1539" y="260"/>
                  </a:cubicBezTo>
                  <a:cubicBezTo>
                    <a:pt x="1501" y="231"/>
                    <a:pt x="1461" y="208"/>
                    <a:pt x="1426" y="176"/>
                  </a:cubicBezTo>
                  <a:cubicBezTo>
                    <a:pt x="1400" y="153"/>
                    <a:pt x="1365" y="122"/>
                    <a:pt x="1341" y="96"/>
                  </a:cubicBezTo>
                  <a:cubicBezTo>
                    <a:pt x="1306" y="58"/>
                    <a:pt x="1315" y="51"/>
                    <a:pt x="1273" y="23"/>
                  </a:cubicBezTo>
                  <a:cubicBezTo>
                    <a:pt x="1252" y="9"/>
                    <a:pt x="1205" y="9"/>
                    <a:pt x="1183" y="6"/>
                  </a:cubicBezTo>
                  <a:cubicBezTo>
                    <a:pt x="1087" y="11"/>
                    <a:pt x="996" y="8"/>
                    <a:pt x="900" y="0"/>
                  </a:cubicBezTo>
                  <a:cubicBezTo>
                    <a:pt x="889" y="2"/>
                    <a:pt x="877" y="0"/>
                    <a:pt x="867" y="6"/>
                  </a:cubicBezTo>
                  <a:cubicBezTo>
                    <a:pt x="860" y="10"/>
                    <a:pt x="858" y="36"/>
                    <a:pt x="838" y="46"/>
                  </a:cubicBezTo>
                  <a:close/>
                </a:path>
              </a:pathLst>
            </a:custGeom>
            <a:solidFill>
              <a:srgbClr val="006666"/>
            </a:solidFill>
            <a:ln w="9360">
              <a:solidFill>
                <a:srgbClr val="08c1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9600" y="2835360"/>
              <a:ext cx="2955960" cy="27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600" spc="-1" strike="noStrike">
                  <a:solidFill>
                    <a:srgbClr val="009999"/>
                  </a:solidFill>
                  <a:latin typeface="Times New Roman"/>
                </a:rPr>
                <a:t>Th</a:t>
              </a:r>
              <a:r>
                <a:rPr b="0" lang="en-US" sz="15600" spc="-1" strike="noStrike" baseline="-25000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5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029200" y="1295280"/>
            <a:ext cx="2209680" cy="5181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1523880"/>
            <a:ext cx="4419720" cy="4191120"/>
          </a:xfrm>
          <a:custGeom>
            <a:avLst/>
            <a:gdLst/>
            <a:ahLst/>
            <a:rect l="l" t="t" r="r" b="b"/>
            <a:pathLst>
              <a:path w="2155" h="2169">
                <a:moveTo>
                  <a:pt x="838" y="46"/>
                </a:moveTo>
                <a:cubicBezTo>
                  <a:pt x="722" y="34"/>
                  <a:pt x="616" y="40"/>
                  <a:pt x="500" y="46"/>
                </a:cubicBezTo>
                <a:cubicBezTo>
                  <a:pt x="431" y="54"/>
                  <a:pt x="372" y="82"/>
                  <a:pt x="347" y="153"/>
                </a:cubicBezTo>
                <a:cubicBezTo>
                  <a:pt x="338" y="179"/>
                  <a:pt x="334" y="206"/>
                  <a:pt x="324" y="232"/>
                </a:cubicBezTo>
                <a:cubicBezTo>
                  <a:pt x="300" y="294"/>
                  <a:pt x="244" y="346"/>
                  <a:pt x="217" y="407"/>
                </a:cubicBezTo>
                <a:cubicBezTo>
                  <a:pt x="172" y="507"/>
                  <a:pt x="262" y="348"/>
                  <a:pt x="172" y="497"/>
                </a:cubicBezTo>
                <a:cubicBezTo>
                  <a:pt x="168" y="504"/>
                  <a:pt x="160" y="508"/>
                  <a:pt x="155" y="514"/>
                </a:cubicBezTo>
                <a:cubicBezTo>
                  <a:pt x="149" y="521"/>
                  <a:pt x="143" y="529"/>
                  <a:pt x="138" y="537"/>
                </a:cubicBezTo>
                <a:cubicBezTo>
                  <a:pt x="121" y="568"/>
                  <a:pt x="110" y="593"/>
                  <a:pt x="87" y="622"/>
                </a:cubicBezTo>
                <a:cubicBezTo>
                  <a:pt x="75" y="687"/>
                  <a:pt x="91" y="616"/>
                  <a:pt x="70" y="672"/>
                </a:cubicBezTo>
                <a:cubicBezTo>
                  <a:pt x="59" y="702"/>
                  <a:pt x="58" y="737"/>
                  <a:pt x="48" y="768"/>
                </a:cubicBezTo>
                <a:cubicBezTo>
                  <a:pt x="78" y="1028"/>
                  <a:pt x="0" y="1353"/>
                  <a:pt x="116" y="1576"/>
                </a:cubicBezTo>
                <a:cubicBezTo>
                  <a:pt x="131" y="1646"/>
                  <a:pt x="181" y="1679"/>
                  <a:pt x="223" y="1734"/>
                </a:cubicBezTo>
                <a:cubicBezTo>
                  <a:pt x="234" y="1773"/>
                  <a:pt x="258" y="1784"/>
                  <a:pt x="291" y="1808"/>
                </a:cubicBezTo>
                <a:cubicBezTo>
                  <a:pt x="326" y="1834"/>
                  <a:pt x="365" y="1850"/>
                  <a:pt x="404" y="1870"/>
                </a:cubicBezTo>
                <a:cubicBezTo>
                  <a:pt x="454" y="1896"/>
                  <a:pt x="483" y="1913"/>
                  <a:pt x="539" y="1920"/>
                </a:cubicBezTo>
                <a:cubicBezTo>
                  <a:pt x="547" y="1924"/>
                  <a:pt x="554" y="1929"/>
                  <a:pt x="562" y="1932"/>
                </a:cubicBezTo>
                <a:cubicBezTo>
                  <a:pt x="575" y="1937"/>
                  <a:pt x="601" y="1943"/>
                  <a:pt x="601" y="1943"/>
                </a:cubicBezTo>
                <a:cubicBezTo>
                  <a:pt x="621" y="1958"/>
                  <a:pt x="639" y="1962"/>
                  <a:pt x="658" y="1977"/>
                </a:cubicBezTo>
                <a:cubicBezTo>
                  <a:pt x="673" y="1989"/>
                  <a:pt x="685" y="2007"/>
                  <a:pt x="703" y="2011"/>
                </a:cubicBezTo>
                <a:cubicBezTo>
                  <a:pt x="808" y="2034"/>
                  <a:pt x="913" y="2060"/>
                  <a:pt x="1019" y="2079"/>
                </a:cubicBezTo>
                <a:cubicBezTo>
                  <a:pt x="1159" y="2146"/>
                  <a:pt x="1328" y="2160"/>
                  <a:pt x="1482" y="2169"/>
                </a:cubicBezTo>
                <a:cubicBezTo>
                  <a:pt x="1599" y="2167"/>
                  <a:pt x="1715" y="2166"/>
                  <a:pt x="1832" y="2163"/>
                </a:cubicBezTo>
                <a:cubicBezTo>
                  <a:pt x="1912" y="2161"/>
                  <a:pt x="1955" y="2151"/>
                  <a:pt x="2002" y="2090"/>
                </a:cubicBezTo>
                <a:cubicBezTo>
                  <a:pt x="2017" y="2037"/>
                  <a:pt x="2041" y="1990"/>
                  <a:pt x="2058" y="1937"/>
                </a:cubicBezTo>
                <a:cubicBezTo>
                  <a:pt x="2069" y="1843"/>
                  <a:pt x="2063" y="1745"/>
                  <a:pt x="2092" y="1655"/>
                </a:cubicBezTo>
                <a:cubicBezTo>
                  <a:pt x="2104" y="1503"/>
                  <a:pt x="2093" y="1652"/>
                  <a:pt x="2103" y="1463"/>
                </a:cubicBezTo>
                <a:cubicBezTo>
                  <a:pt x="2106" y="1398"/>
                  <a:pt x="2098" y="1377"/>
                  <a:pt x="2126" y="1333"/>
                </a:cubicBezTo>
                <a:cubicBezTo>
                  <a:pt x="2135" y="1293"/>
                  <a:pt x="2139" y="1256"/>
                  <a:pt x="2143" y="1215"/>
                </a:cubicBezTo>
                <a:cubicBezTo>
                  <a:pt x="2147" y="1090"/>
                  <a:pt x="2155" y="984"/>
                  <a:pt x="2148" y="859"/>
                </a:cubicBezTo>
                <a:cubicBezTo>
                  <a:pt x="2146" y="831"/>
                  <a:pt x="2145" y="789"/>
                  <a:pt x="2132" y="763"/>
                </a:cubicBezTo>
                <a:cubicBezTo>
                  <a:pt x="2117" y="732"/>
                  <a:pt x="2056" y="638"/>
                  <a:pt x="2030" y="605"/>
                </a:cubicBezTo>
                <a:cubicBezTo>
                  <a:pt x="2023" y="585"/>
                  <a:pt x="1990" y="554"/>
                  <a:pt x="1990" y="554"/>
                </a:cubicBezTo>
                <a:cubicBezTo>
                  <a:pt x="1981" y="534"/>
                  <a:pt x="1926" y="460"/>
                  <a:pt x="1906" y="452"/>
                </a:cubicBezTo>
                <a:cubicBezTo>
                  <a:pt x="1886" y="445"/>
                  <a:pt x="1865" y="445"/>
                  <a:pt x="1844" y="441"/>
                </a:cubicBezTo>
                <a:cubicBezTo>
                  <a:pt x="1805" y="422"/>
                  <a:pt x="1757" y="403"/>
                  <a:pt x="1725" y="373"/>
                </a:cubicBezTo>
                <a:cubicBezTo>
                  <a:pt x="1703" y="352"/>
                  <a:pt x="1644" y="301"/>
                  <a:pt x="1618" y="288"/>
                </a:cubicBezTo>
                <a:cubicBezTo>
                  <a:pt x="1593" y="275"/>
                  <a:pt x="1565" y="269"/>
                  <a:pt x="1539" y="260"/>
                </a:cubicBezTo>
                <a:cubicBezTo>
                  <a:pt x="1501" y="231"/>
                  <a:pt x="1461" y="208"/>
                  <a:pt x="1426" y="176"/>
                </a:cubicBezTo>
                <a:cubicBezTo>
                  <a:pt x="1400" y="153"/>
                  <a:pt x="1365" y="122"/>
                  <a:pt x="1341" y="96"/>
                </a:cubicBezTo>
                <a:cubicBezTo>
                  <a:pt x="1306" y="58"/>
                  <a:pt x="1315" y="51"/>
                  <a:pt x="1273" y="23"/>
                </a:cubicBezTo>
                <a:cubicBezTo>
                  <a:pt x="1252" y="9"/>
                  <a:pt x="1205" y="9"/>
                  <a:pt x="1183" y="6"/>
                </a:cubicBezTo>
                <a:cubicBezTo>
                  <a:pt x="1087" y="11"/>
                  <a:pt x="996" y="8"/>
                  <a:pt x="900" y="0"/>
                </a:cubicBezTo>
                <a:cubicBezTo>
                  <a:pt x="889" y="2"/>
                  <a:pt x="877" y="0"/>
                  <a:pt x="867" y="6"/>
                </a:cubicBezTo>
                <a:cubicBezTo>
                  <a:pt x="860" y="10"/>
                  <a:pt x="858" y="36"/>
                  <a:pt x="838" y="46"/>
                </a:cubicBezTo>
                <a:close/>
              </a:path>
            </a:pathLst>
          </a:custGeom>
          <a:solidFill>
            <a:srgbClr val="006666"/>
          </a:solidFill>
          <a:ln w="9360">
            <a:solidFill>
              <a:srgbClr val="08c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1447920"/>
            <a:ext cx="4419720" cy="4190760"/>
          </a:xfrm>
          <a:custGeom>
            <a:avLst/>
            <a:gdLst/>
            <a:ahLst/>
            <a:rect l="l" t="t" r="r" b="b"/>
            <a:pathLst>
              <a:path w="2155" h="2169">
                <a:moveTo>
                  <a:pt x="838" y="46"/>
                </a:moveTo>
                <a:cubicBezTo>
                  <a:pt x="722" y="34"/>
                  <a:pt x="616" y="40"/>
                  <a:pt x="500" y="46"/>
                </a:cubicBezTo>
                <a:cubicBezTo>
                  <a:pt x="431" y="54"/>
                  <a:pt x="372" y="82"/>
                  <a:pt x="347" y="153"/>
                </a:cubicBezTo>
                <a:cubicBezTo>
                  <a:pt x="338" y="179"/>
                  <a:pt x="334" y="206"/>
                  <a:pt x="324" y="232"/>
                </a:cubicBezTo>
                <a:cubicBezTo>
                  <a:pt x="300" y="294"/>
                  <a:pt x="244" y="346"/>
                  <a:pt x="217" y="407"/>
                </a:cubicBezTo>
                <a:cubicBezTo>
                  <a:pt x="172" y="507"/>
                  <a:pt x="262" y="348"/>
                  <a:pt x="172" y="497"/>
                </a:cubicBezTo>
                <a:cubicBezTo>
                  <a:pt x="168" y="504"/>
                  <a:pt x="160" y="508"/>
                  <a:pt x="155" y="514"/>
                </a:cubicBezTo>
                <a:cubicBezTo>
                  <a:pt x="149" y="521"/>
                  <a:pt x="143" y="529"/>
                  <a:pt x="138" y="537"/>
                </a:cubicBezTo>
                <a:cubicBezTo>
                  <a:pt x="121" y="568"/>
                  <a:pt x="110" y="593"/>
                  <a:pt x="87" y="622"/>
                </a:cubicBezTo>
                <a:cubicBezTo>
                  <a:pt x="75" y="687"/>
                  <a:pt x="91" y="616"/>
                  <a:pt x="70" y="672"/>
                </a:cubicBezTo>
                <a:cubicBezTo>
                  <a:pt x="59" y="702"/>
                  <a:pt x="58" y="737"/>
                  <a:pt x="48" y="768"/>
                </a:cubicBezTo>
                <a:cubicBezTo>
                  <a:pt x="78" y="1028"/>
                  <a:pt x="0" y="1353"/>
                  <a:pt x="116" y="1576"/>
                </a:cubicBezTo>
                <a:cubicBezTo>
                  <a:pt x="131" y="1646"/>
                  <a:pt x="181" y="1679"/>
                  <a:pt x="223" y="1734"/>
                </a:cubicBezTo>
                <a:cubicBezTo>
                  <a:pt x="234" y="1773"/>
                  <a:pt x="258" y="1784"/>
                  <a:pt x="291" y="1808"/>
                </a:cubicBezTo>
                <a:cubicBezTo>
                  <a:pt x="326" y="1834"/>
                  <a:pt x="365" y="1850"/>
                  <a:pt x="404" y="1870"/>
                </a:cubicBezTo>
                <a:cubicBezTo>
                  <a:pt x="454" y="1896"/>
                  <a:pt x="483" y="1913"/>
                  <a:pt x="539" y="1920"/>
                </a:cubicBezTo>
                <a:cubicBezTo>
                  <a:pt x="547" y="1924"/>
                  <a:pt x="554" y="1929"/>
                  <a:pt x="562" y="1932"/>
                </a:cubicBezTo>
                <a:cubicBezTo>
                  <a:pt x="575" y="1937"/>
                  <a:pt x="601" y="1943"/>
                  <a:pt x="601" y="1943"/>
                </a:cubicBezTo>
                <a:cubicBezTo>
                  <a:pt x="621" y="1958"/>
                  <a:pt x="639" y="1962"/>
                  <a:pt x="658" y="1977"/>
                </a:cubicBezTo>
                <a:cubicBezTo>
                  <a:pt x="673" y="1989"/>
                  <a:pt x="685" y="2007"/>
                  <a:pt x="703" y="2011"/>
                </a:cubicBezTo>
                <a:cubicBezTo>
                  <a:pt x="808" y="2034"/>
                  <a:pt x="913" y="2060"/>
                  <a:pt x="1019" y="2079"/>
                </a:cubicBezTo>
                <a:cubicBezTo>
                  <a:pt x="1159" y="2146"/>
                  <a:pt x="1328" y="2160"/>
                  <a:pt x="1482" y="2169"/>
                </a:cubicBezTo>
                <a:cubicBezTo>
                  <a:pt x="1599" y="2167"/>
                  <a:pt x="1715" y="2166"/>
                  <a:pt x="1832" y="2163"/>
                </a:cubicBezTo>
                <a:cubicBezTo>
                  <a:pt x="1912" y="2161"/>
                  <a:pt x="1955" y="2151"/>
                  <a:pt x="2002" y="2090"/>
                </a:cubicBezTo>
                <a:cubicBezTo>
                  <a:pt x="2017" y="2037"/>
                  <a:pt x="2041" y="1990"/>
                  <a:pt x="2058" y="1937"/>
                </a:cubicBezTo>
                <a:cubicBezTo>
                  <a:pt x="2069" y="1843"/>
                  <a:pt x="2063" y="1745"/>
                  <a:pt x="2092" y="1655"/>
                </a:cubicBezTo>
                <a:cubicBezTo>
                  <a:pt x="2104" y="1503"/>
                  <a:pt x="2093" y="1652"/>
                  <a:pt x="2103" y="1463"/>
                </a:cubicBezTo>
                <a:cubicBezTo>
                  <a:pt x="2106" y="1398"/>
                  <a:pt x="2098" y="1377"/>
                  <a:pt x="2126" y="1333"/>
                </a:cubicBezTo>
                <a:cubicBezTo>
                  <a:pt x="2135" y="1293"/>
                  <a:pt x="2139" y="1256"/>
                  <a:pt x="2143" y="1215"/>
                </a:cubicBezTo>
                <a:cubicBezTo>
                  <a:pt x="2147" y="1090"/>
                  <a:pt x="2155" y="984"/>
                  <a:pt x="2148" y="859"/>
                </a:cubicBezTo>
                <a:cubicBezTo>
                  <a:pt x="2146" y="831"/>
                  <a:pt x="2145" y="789"/>
                  <a:pt x="2132" y="763"/>
                </a:cubicBezTo>
                <a:cubicBezTo>
                  <a:pt x="2117" y="732"/>
                  <a:pt x="2056" y="638"/>
                  <a:pt x="2030" y="605"/>
                </a:cubicBezTo>
                <a:cubicBezTo>
                  <a:pt x="2023" y="585"/>
                  <a:pt x="1990" y="554"/>
                  <a:pt x="1990" y="554"/>
                </a:cubicBezTo>
                <a:cubicBezTo>
                  <a:pt x="1981" y="534"/>
                  <a:pt x="1926" y="460"/>
                  <a:pt x="1906" y="452"/>
                </a:cubicBezTo>
                <a:cubicBezTo>
                  <a:pt x="1886" y="445"/>
                  <a:pt x="1865" y="445"/>
                  <a:pt x="1844" y="441"/>
                </a:cubicBezTo>
                <a:cubicBezTo>
                  <a:pt x="1805" y="422"/>
                  <a:pt x="1757" y="403"/>
                  <a:pt x="1725" y="373"/>
                </a:cubicBezTo>
                <a:cubicBezTo>
                  <a:pt x="1703" y="352"/>
                  <a:pt x="1644" y="301"/>
                  <a:pt x="1618" y="288"/>
                </a:cubicBezTo>
                <a:cubicBezTo>
                  <a:pt x="1593" y="275"/>
                  <a:pt x="1565" y="269"/>
                  <a:pt x="1539" y="260"/>
                </a:cubicBezTo>
                <a:cubicBezTo>
                  <a:pt x="1501" y="231"/>
                  <a:pt x="1461" y="208"/>
                  <a:pt x="1426" y="176"/>
                </a:cubicBezTo>
                <a:cubicBezTo>
                  <a:pt x="1400" y="153"/>
                  <a:pt x="1365" y="122"/>
                  <a:pt x="1341" y="96"/>
                </a:cubicBezTo>
                <a:cubicBezTo>
                  <a:pt x="1306" y="58"/>
                  <a:pt x="1315" y="51"/>
                  <a:pt x="1273" y="23"/>
                </a:cubicBezTo>
                <a:cubicBezTo>
                  <a:pt x="1252" y="9"/>
                  <a:pt x="1205" y="9"/>
                  <a:pt x="1183" y="6"/>
                </a:cubicBezTo>
                <a:cubicBezTo>
                  <a:pt x="1087" y="11"/>
                  <a:pt x="996" y="8"/>
                  <a:pt x="900" y="0"/>
                </a:cubicBezTo>
                <a:cubicBezTo>
                  <a:pt x="889" y="2"/>
                  <a:pt x="877" y="0"/>
                  <a:pt x="867" y="6"/>
                </a:cubicBezTo>
                <a:cubicBezTo>
                  <a:pt x="860" y="10"/>
                  <a:pt x="858" y="36"/>
                  <a:pt x="838" y="46"/>
                </a:cubicBezTo>
                <a:close/>
              </a:path>
            </a:pathLst>
          </a:custGeom>
          <a:solidFill>
            <a:srgbClr val="006666"/>
          </a:solidFill>
          <a:ln w="9360">
            <a:solidFill>
              <a:srgbClr val="08c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560" y="3886200"/>
            <a:ext cx="339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Times New Roman"/>
              </a:rPr>
              <a:t>przeci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56520" y="1905120"/>
            <a:ext cx="3873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Strannegar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i wsp.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Allergy, 1990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45, 3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25840" y="5257800"/>
            <a:ext cx="377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Populac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generalna (Kuwe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5000" y="5715000"/>
            <a:ext cx="30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Tylko dla sIgE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480" y="3809880"/>
            <a:ext cx="1500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9999"/>
                </a:solidFill>
                <a:latin typeface="Times New Roman"/>
              </a:rPr>
              <a:t>za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2080" y="2133720"/>
            <a:ext cx="431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Custovic i wsp.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Allergy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1998, 53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48, 1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enguin"/>
              </a:rPr>
              <a:t>Wpływ klimatu na rozwój alergii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6440" y="1219320"/>
            <a:ext cx="8991360" cy="17524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Tahoma"/>
              </a:rPr>
              <a:t>Środowisko wewnatrzmaciczne ma naturę Th</a:t>
            </a:r>
            <a:r>
              <a:rPr b="0" lang="pl-PL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pl-PL" sz="4000" spc="-1" strike="noStrike">
                <a:solidFill>
                  <a:srgbClr val="ffffcc"/>
                </a:solidFill>
                <a:latin typeface="Tahoma"/>
              </a:rPr>
              <a:t> (progesteron !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440" y="4952880"/>
            <a:ext cx="8991360" cy="914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Tahoma"/>
              </a:rPr>
              <a:t>Uczulenie może się zdarzyć in ut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31240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Wegmann T.G. i wsp., Immunol Today, 1992, 14, 35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200400"/>
            <a:ext cx="472428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11e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60199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Jones i wsp., Allergy, 2000, 55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ffffcc"/>
                </a:solidFill>
                <a:latin typeface="Penguin"/>
              </a:rPr>
              <a:t>Uczulenie </a:t>
            </a:r>
            <a:r>
              <a:rPr b="0" i="1" lang="pl-PL" sz="6600" spc="-1" strike="noStrike">
                <a:solidFill>
                  <a:srgbClr val="ffffcc"/>
                </a:solidFill>
                <a:latin typeface="Penguin"/>
              </a:rPr>
              <a:t>in utero</a:t>
            </a:r>
            <a:endParaRPr b="0" lang="en-US" sz="66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1960" y="1676520"/>
            <a:ext cx="9134640" cy="3200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słabienie zdolności wytwarzania IFN-</a:t>
            </a:r>
            <a:r>
              <a:rPr b="0" lang="en-US" sz="40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w okresie noworodkowym prowadzi często do rozwoju alergii w późniejszym okresie ży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58672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Martinez i wsp., J. Allergy, Clin. Immunol, 1995, 96, 6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1814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Tang i wsp., Lancet, 1994, 344, 9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Alergia a wytwarzanie IFN-</a:t>
            </a:r>
            <a:r>
              <a:rPr b="0" lang="en-US" sz="44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 w okresie noworodkowym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 flipV="1">
            <a:off x="3582360" y="4930200"/>
            <a:ext cx="998280" cy="24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094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905120"/>
            <a:ext cx="4724640" cy="13716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kwasy 3-</a:t>
            </a:r>
            <a:r>
              <a:rPr b="0" lang="pl-PL" sz="2800" spc="-1" strike="noStrike">
                <a:solidFill>
                  <a:srgbClr val="66ccff"/>
                </a:solidFill>
                <a:latin typeface="GreekMathSymbols"/>
                <a:ea typeface="GreekMathSymbols"/>
              </a:rPr>
              <a:t></a:t>
            </a:r>
            <a:r>
              <a:rPr b="0" lang="pl-PL" sz="2800" spc="-1" strike="noStrike">
                <a:solidFill>
                  <a:srgbClr val="66ccff"/>
                </a:solidFill>
                <a:latin typeface="Tahoma"/>
              </a:rPr>
              <a:t>- wielonienasycone (ry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58280" y="4419720"/>
            <a:ext cx="1981080" cy="914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</a:t>
            </a:r>
            <a:r>
              <a:rPr b="0" lang="en-US" sz="3600" spc="-1" strike="noStrike">
                <a:solidFill>
                  <a:srgbClr val="ffffcc"/>
                </a:solidFill>
                <a:latin typeface="Pengui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Penguin"/>
              </a:rPr>
              <a:t>IFN- </a:t>
            </a:r>
            <a:r>
              <a:rPr b="0" lang="en-US" sz="40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3962520"/>
            <a:ext cx="2514600" cy="190476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cc"/>
                </a:solidFill>
                <a:latin typeface="Penguin"/>
              </a:rPr>
              <a:t>kwas linolenow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cc"/>
                </a:solidFill>
                <a:latin typeface="Penguin"/>
              </a:rPr>
              <a:t>(margary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14920" y="4419720"/>
            <a:ext cx="1523880" cy="914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enguin"/>
              </a:rPr>
              <a:t>PGE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Pengui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12920" y="3340800"/>
            <a:ext cx="8640" cy="147168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36000" y="4898880"/>
            <a:ext cx="1140840" cy="1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87080" y="3579840"/>
            <a:ext cx="60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Tahoma"/>
              </a:rPr>
              <a:t>(-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Penguin"/>
              </a:rPr>
              <a:t>Dieta a rozwój alergii</a:t>
            </a:r>
            <a:endParaRPr b="0" lang="en-US" sz="7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4572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447920"/>
            <a:ext cx="8534160" cy="4876560"/>
          </a:xfrm>
          <a:custGeom>
            <a:avLst/>
            <a:gdLst/>
            <a:ahLst/>
            <a:rect l="l" t="t" r="r" b="b"/>
            <a:pathLst>
              <a:path w="2155" h="2169">
                <a:moveTo>
                  <a:pt x="838" y="46"/>
                </a:moveTo>
                <a:cubicBezTo>
                  <a:pt x="722" y="34"/>
                  <a:pt x="616" y="40"/>
                  <a:pt x="500" y="46"/>
                </a:cubicBezTo>
                <a:cubicBezTo>
                  <a:pt x="431" y="54"/>
                  <a:pt x="372" y="82"/>
                  <a:pt x="347" y="153"/>
                </a:cubicBezTo>
                <a:cubicBezTo>
                  <a:pt x="338" y="179"/>
                  <a:pt x="334" y="206"/>
                  <a:pt x="324" y="232"/>
                </a:cubicBezTo>
                <a:cubicBezTo>
                  <a:pt x="300" y="294"/>
                  <a:pt x="244" y="346"/>
                  <a:pt x="217" y="407"/>
                </a:cubicBezTo>
                <a:cubicBezTo>
                  <a:pt x="172" y="507"/>
                  <a:pt x="262" y="348"/>
                  <a:pt x="172" y="497"/>
                </a:cubicBezTo>
                <a:cubicBezTo>
                  <a:pt x="168" y="504"/>
                  <a:pt x="160" y="508"/>
                  <a:pt x="155" y="514"/>
                </a:cubicBezTo>
                <a:cubicBezTo>
                  <a:pt x="149" y="521"/>
                  <a:pt x="143" y="529"/>
                  <a:pt x="138" y="537"/>
                </a:cubicBezTo>
                <a:cubicBezTo>
                  <a:pt x="121" y="568"/>
                  <a:pt x="110" y="593"/>
                  <a:pt x="87" y="622"/>
                </a:cubicBezTo>
                <a:cubicBezTo>
                  <a:pt x="75" y="687"/>
                  <a:pt x="91" y="616"/>
                  <a:pt x="70" y="672"/>
                </a:cubicBezTo>
                <a:cubicBezTo>
                  <a:pt x="59" y="702"/>
                  <a:pt x="58" y="737"/>
                  <a:pt x="48" y="768"/>
                </a:cubicBezTo>
                <a:cubicBezTo>
                  <a:pt x="78" y="1028"/>
                  <a:pt x="0" y="1353"/>
                  <a:pt x="116" y="1576"/>
                </a:cubicBezTo>
                <a:cubicBezTo>
                  <a:pt x="131" y="1646"/>
                  <a:pt x="181" y="1679"/>
                  <a:pt x="223" y="1734"/>
                </a:cubicBezTo>
                <a:cubicBezTo>
                  <a:pt x="234" y="1773"/>
                  <a:pt x="258" y="1784"/>
                  <a:pt x="291" y="1808"/>
                </a:cubicBezTo>
                <a:cubicBezTo>
                  <a:pt x="326" y="1834"/>
                  <a:pt x="365" y="1850"/>
                  <a:pt x="404" y="1870"/>
                </a:cubicBezTo>
                <a:cubicBezTo>
                  <a:pt x="454" y="1896"/>
                  <a:pt x="483" y="1913"/>
                  <a:pt x="539" y="1920"/>
                </a:cubicBezTo>
                <a:cubicBezTo>
                  <a:pt x="547" y="1924"/>
                  <a:pt x="554" y="1929"/>
                  <a:pt x="562" y="1932"/>
                </a:cubicBezTo>
                <a:cubicBezTo>
                  <a:pt x="575" y="1937"/>
                  <a:pt x="601" y="1943"/>
                  <a:pt x="601" y="1943"/>
                </a:cubicBezTo>
                <a:cubicBezTo>
                  <a:pt x="621" y="1958"/>
                  <a:pt x="639" y="1962"/>
                  <a:pt x="658" y="1977"/>
                </a:cubicBezTo>
                <a:cubicBezTo>
                  <a:pt x="673" y="1989"/>
                  <a:pt x="685" y="2007"/>
                  <a:pt x="703" y="2011"/>
                </a:cubicBezTo>
                <a:cubicBezTo>
                  <a:pt x="808" y="2034"/>
                  <a:pt x="913" y="2060"/>
                  <a:pt x="1019" y="2079"/>
                </a:cubicBezTo>
                <a:cubicBezTo>
                  <a:pt x="1159" y="2146"/>
                  <a:pt x="1328" y="2160"/>
                  <a:pt x="1482" y="2169"/>
                </a:cubicBezTo>
                <a:cubicBezTo>
                  <a:pt x="1599" y="2167"/>
                  <a:pt x="1715" y="2166"/>
                  <a:pt x="1832" y="2163"/>
                </a:cubicBezTo>
                <a:cubicBezTo>
                  <a:pt x="1912" y="2161"/>
                  <a:pt x="1955" y="2151"/>
                  <a:pt x="2002" y="2090"/>
                </a:cubicBezTo>
                <a:cubicBezTo>
                  <a:pt x="2017" y="2037"/>
                  <a:pt x="2041" y="1990"/>
                  <a:pt x="2058" y="1937"/>
                </a:cubicBezTo>
                <a:cubicBezTo>
                  <a:pt x="2069" y="1843"/>
                  <a:pt x="2063" y="1745"/>
                  <a:pt x="2092" y="1655"/>
                </a:cubicBezTo>
                <a:cubicBezTo>
                  <a:pt x="2104" y="1503"/>
                  <a:pt x="2093" y="1652"/>
                  <a:pt x="2103" y="1463"/>
                </a:cubicBezTo>
                <a:cubicBezTo>
                  <a:pt x="2106" y="1398"/>
                  <a:pt x="2098" y="1377"/>
                  <a:pt x="2126" y="1333"/>
                </a:cubicBezTo>
                <a:cubicBezTo>
                  <a:pt x="2135" y="1293"/>
                  <a:pt x="2139" y="1256"/>
                  <a:pt x="2143" y="1215"/>
                </a:cubicBezTo>
                <a:cubicBezTo>
                  <a:pt x="2147" y="1090"/>
                  <a:pt x="2155" y="984"/>
                  <a:pt x="2148" y="859"/>
                </a:cubicBezTo>
                <a:cubicBezTo>
                  <a:pt x="2146" y="831"/>
                  <a:pt x="2145" y="789"/>
                  <a:pt x="2132" y="763"/>
                </a:cubicBezTo>
                <a:cubicBezTo>
                  <a:pt x="2117" y="732"/>
                  <a:pt x="2056" y="638"/>
                  <a:pt x="2030" y="605"/>
                </a:cubicBezTo>
                <a:cubicBezTo>
                  <a:pt x="2023" y="585"/>
                  <a:pt x="1990" y="554"/>
                  <a:pt x="1990" y="554"/>
                </a:cubicBezTo>
                <a:cubicBezTo>
                  <a:pt x="1981" y="534"/>
                  <a:pt x="1926" y="460"/>
                  <a:pt x="1906" y="452"/>
                </a:cubicBezTo>
                <a:cubicBezTo>
                  <a:pt x="1886" y="445"/>
                  <a:pt x="1865" y="445"/>
                  <a:pt x="1844" y="441"/>
                </a:cubicBezTo>
                <a:cubicBezTo>
                  <a:pt x="1805" y="422"/>
                  <a:pt x="1757" y="403"/>
                  <a:pt x="1725" y="373"/>
                </a:cubicBezTo>
                <a:cubicBezTo>
                  <a:pt x="1703" y="352"/>
                  <a:pt x="1644" y="301"/>
                  <a:pt x="1618" y="288"/>
                </a:cubicBezTo>
                <a:cubicBezTo>
                  <a:pt x="1593" y="275"/>
                  <a:pt x="1565" y="269"/>
                  <a:pt x="1539" y="260"/>
                </a:cubicBezTo>
                <a:cubicBezTo>
                  <a:pt x="1501" y="231"/>
                  <a:pt x="1461" y="208"/>
                  <a:pt x="1426" y="176"/>
                </a:cubicBezTo>
                <a:cubicBezTo>
                  <a:pt x="1400" y="153"/>
                  <a:pt x="1365" y="122"/>
                  <a:pt x="1341" y="96"/>
                </a:cubicBezTo>
                <a:cubicBezTo>
                  <a:pt x="1306" y="58"/>
                  <a:pt x="1315" y="51"/>
                  <a:pt x="1273" y="23"/>
                </a:cubicBezTo>
                <a:cubicBezTo>
                  <a:pt x="1252" y="9"/>
                  <a:pt x="1205" y="9"/>
                  <a:pt x="1183" y="6"/>
                </a:cubicBezTo>
                <a:cubicBezTo>
                  <a:pt x="1087" y="11"/>
                  <a:pt x="996" y="8"/>
                  <a:pt x="900" y="0"/>
                </a:cubicBezTo>
                <a:cubicBezTo>
                  <a:pt x="889" y="2"/>
                  <a:pt x="877" y="0"/>
                  <a:pt x="867" y="6"/>
                </a:cubicBezTo>
                <a:cubicBezTo>
                  <a:pt x="860" y="10"/>
                  <a:pt x="858" y="36"/>
                  <a:pt x="838" y="46"/>
                </a:cubicBezTo>
                <a:close/>
              </a:path>
            </a:pathLst>
          </a:custGeom>
          <a:solidFill>
            <a:srgbClr val="006666"/>
          </a:solidFill>
          <a:ln w="9360">
            <a:solidFill>
              <a:srgbClr val="08c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2720" y="1676520"/>
            <a:ext cx="5142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99"/>
                </a:solidFill>
                <a:latin typeface="Times New Roman"/>
              </a:rPr>
              <a:t>tkanka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99"/>
                </a:solidFill>
                <a:latin typeface="Times New Roman"/>
              </a:rPr>
              <a:t>tłuszczow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99"/>
                </a:solidFill>
                <a:latin typeface="Times New Roman"/>
              </a:rPr>
              <a:t>alergikó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905120"/>
            <a:ext cx="1219320" cy="3352680"/>
          </a:xfrm>
          <a:prstGeom prst="upArrow">
            <a:avLst>
              <a:gd name="adj1" fmla="val 50000"/>
              <a:gd name="adj2" fmla="val 68741"/>
            </a:avLst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620120" y="2742480"/>
            <a:ext cx="1218960" cy="3352680"/>
          </a:xfrm>
          <a:prstGeom prst="upArrow">
            <a:avLst>
              <a:gd name="adj1" fmla="val 50000"/>
              <a:gd name="adj2" fmla="val 68761"/>
            </a:avLst>
          </a:prstGeom>
          <a:gradFill rotWithShape="0">
            <a:gsLst>
              <a:gs pos="0">
                <a:srgbClr val="000000"/>
              </a:gs>
              <a:gs pos="100000">
                <a:srgbClr val="33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657600"/>
            <a:ext cx="25146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cc"/>
                </a:solidFill>
                <a:latin typeface="Penguin"/>
              </a:rPr>
              <a:t>kwas linolenow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3962520"/>
            <a:ext cx="2590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cc"/>
                </a:solidFill>
                <a:latin typeface="Penguin"/>
              </a:rPr>
              <a:t>kwas arachidonow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Penguin"/>
              </a:rPr>
              <a:t>Dieta a rozwój alergii - 2</a:t>
            </a:r>
            <a:endParaRPr b="0" lang="en-US" sz="7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5000" y="5791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Strannegard i wsp., Allergy 2001, 56, 9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447920"/>
            <a:ext cx="8991720" cy="419076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„</a:t>
            </a: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The common therm &lt;Th</a:t>
            </a:r>
            <a:r>
              <a:rPr b="0" lang="pl-PL" sz="5400" spc="-1" strike="noStrike" baseline="-25000">
                <a:solidFill>
                  <a:srgbClr val="ffffcc"/>
                </a:solidFill>
                <a:latin typeface="Penguin"/>
              </a:rPr>
              <a:t>1</a:t>
            </a: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/Th</a:t>
            </a:r>
            <a:r>
              <a:rPr b="0" lang="pl-PL" sz="5400" spc="-1" strike="noStrike" baseline="-25000">
                <a:solidFill>
                  <a:srgbClr val="ffffcc"/>
                </a:solidFill>
                <a:latin typeface="Penguin"/>
              </a:rPr>
              <a:t>2</a:t>
            </a: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 cell balance&gt; is somewhat misleading, and it may be preferable to talk about a balance between type 1 and type 2 cytokines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ffcc"/>
                </a:solidFill>
                <a:latin typeface="Penguin"/>
              </a:rPr>
              <a:t>Cytokines type 1 vs. type 2</a:t>
            </a:r>
            <a:endParaRPr b="0" lang="en-US" sz="60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44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4572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752480"/>
            <a:ext cx="8991720" cy="45720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Wzrost częstości alergii koresponduje ze spożyciem margaryny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von Mutius i wsp., Lancet, 1998, 351, 86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Mleko matek atopowych zawiera głównie kwasy </a:t>
            </a:r>
            <a:r>
              <a:rPr b="0" lang="pl-PL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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-6, zaś matek zdrowych kwasy </a:t>
            </a:r>
            <a:r>
              <a:rPr b="0" lang="pl-PL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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-3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Yu i wsp. Acta Pediatr., 1998, 87, 7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Dzieci spożywające ryby rzadziej chorują na alergię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Hodge i wsp., Med.. J. Austr., 1996, 164, 1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Pengui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Penguin"/>
              </a:rPr>
              <a:t>Dieta a rozwój alergii - 3</a:t>
            </a:r>
            <a:endParaRPr b="0" lang="en-US" sz="7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5029200"/>
            <a:ext cx="1981080" cy="685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Lactobaci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200320" y="1861200"/>
            <a:ext cx="1390320" cy="11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3808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523880"/>
            <a:ext cx="1301760" cy="685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68040" y="2683800"/>
            <a:ext cx="2152800" cy="965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1523880"/>
            <a:ext cx="1447560" cy="685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L-10 </a:t>
            </a:r>
            <a:r>
              <a:rPr b="0" lang="en-US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048120"/>
            <a:ext cx="1523880" cy="914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Kolonizacja Gram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1468800" y="2281320"/>
            <a:ext cx="720" cy="63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1523880"/>
            <a:ext cx="1676160" cy="685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GF-</a:t>
            </a:r>
            <a:r>
              <a:rPr b="0" lang="en-US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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2362320"/>
            <a:ext cx="1600200" cy="6094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opóźnieni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1895760" y="2622960"/>
            <a:ext cx="1690920" cy="90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86880" y="2590920"/>
            <a:ext cx="60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Tahoma"/>
              </a:rPr>
              <a:t>(-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809880"/>
            <a:ext cx="3809880" cy="914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Kolonizac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Staphylococcus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038760" y="5366520"/>
            <a:ext cx="1390320" cy="11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029200"/>
            <a:ext cx="1447920" cy="685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59436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Epidemiologia – Alm i wsp., Lancet, 1999, 353, 14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cc"/>
                </a:solidFill>
                <a:latin typeface="Penguin"/>
              </a:rPr>
              <a:t>Flora jelitowa a rozwój alergii</a:t>
            </a:r>
            <a:endParaRPr b="0" lang="en-US" sz="62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80880"/>
            <a:ext cx="1021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905120"/>
            <a:ext cx="8991360" cy="42670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Znaczne spożycie NaCl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Wysokie stężenie HgCl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– sugestie z badań in vitro, brak potwierdzeń epidemiolog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Liczba komórek NK i produkcja IFN-</a:t>
            </a:r>
            <a:r>
              <a:rPr b="0" lang="pl-PL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u osób spożywających łososie z Bałtyku mniejsza niż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u odżywiających się rybami z m. Północnego (DDT 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enguin"/>
              </a:rPr>
              <a:t>Toksyny w diecie a rozwój alergii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362320" y="4876920"/>
            <a:ext cx="1981080" cy="685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Infek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352960" y="3614040"/>
            <a:ext cx="1390320" cy="11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990720"/>
            <a:ext cx="8991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4876920"/>
            <a:ext cx="1301760" cy="685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86520" y="3766320"/>
            <a:ext cx="1390320" cy="11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17520" y="4211280"/>
            <a:ext cx="810720" cy="1096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5000" y="4419720"/>
            <a:ext cx="3886200" cy="18288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enguin"/>
              </a:rPr>
              <a:t>IL-4, IL-5 </a:t>
            </a: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prawie bez efek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3124080"/>
            <a:ext cx="1981080" cy="914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</a:t>
            </a:r>
            <a:r>
              <a:rPr b="0" lang="en-US" sz="3600" spc="-1" strike="noStrike">
                <a:solidFill>
                  <a:srgbClr val="ffffcc"/>
                </a:solidFill>
                <a:latin typeface="Pengui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Penguin"/>
              </a:rPr>
              <a:t>IFN- </a:t>
            </a:r>
            <a:r>
              <a:rPr b="0" lang="en-US" sz="40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3124080"/>
            <a:ext cx="1981080" cy="914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</a:t>
            </a:r>
            <a:r>
              <a:rPr b="0" lang="en-US" sz="3600" spc="-1" strike="noStrike">
                <a:solidFill>
                  <a:srgbClr val="ffffcc"/>
                </a:solidFill>
                <a:latin typeface="Pengui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Penguin"/>
              </a:rPr>
              <a:t>c A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124080"/>
            <a:ext cx="1523880" cy="914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enguin"/>
              </a:rPr>
              <a:t>PGE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Pengui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357920" y="4127760"/>
            <a:ext cx="360" cy="6379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307960" y="4136760"/>
            <a:ext cx="970560" cy="61488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1120" y="7617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ffffcc"/>
                </a:solidFill>
                <a:latin typeface="Penguin"/>
              </a:rPr>
              <a:t>Hipoteza prostaglandynowa wpływu czynników środowiskowych na rozwój alergii</a:t>
            </a:r>
            <a:endParaRPr b="0" lang="en-US" sz="50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304920"/>
            <a:ext cx="1021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523880"/>
            <a:ext cx="8991720" cy="175284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Kortykosteroidy stymulują produkcję cytokin typu Th</a:t>
            </a:r>
            <a:r>
              <a:rPr b="0" lang="pl-PL" sz="32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(tylko in vi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962520"/>
            <a:ext cx="8991720" cy="17524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Katecholaminy poprzez cAMP stymulują produkcję cytokin typu Th</a:t>
            </a:r>
            <a:r>
              <a:rPr b="0" lang="pl-PL" sz="32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894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34290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Ramirez i wsp., J. Immunol, 1996, 156, 24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5867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Strannegard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enguin"/>
              </a:rPr>
              <a:t>Stres a rozwój alergii</a:t>
            </a:r>
            <a:endParaRPr b="0" lang="en-US" sz="60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76440" y="1905120"/>
            <a:ext cx="8991360" cy="320040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Tahoma"/>
              </a:rPr>
              <a:t>Spożycie paracetamolu koreluje ze wzrostem występowania alergi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54100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Varner i wsp. Ann. Allergy Asthma Immunol, 1998, 81, 34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cc"/>
                </a:solidFill>
                <a:latin typeface="Penguin"/>
              </a:rPr>
              <a:t>Paracetamol a alergie</a:t>
            </a:r>
            <a:endParaRPr b="0" lang="en-US" sz="72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2362320"/>
            <a:ext cx="8610840" cy="22096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Tahoma"/>
              </a:rPr>
              <a:t>„</a:t>
            </a:r>
            <a:r>
              <a:rPr b="0" lang="pl-PL" sz="5400" spc="-1" strike="noStrike">
                <a:solidFill>
                  <a:srgbClr val="ffffcc"/>
                </a:solidFill>
                <a:latin typeface="Tahoma"/>
              </a:rPr>
              <a:t>Atopy is a microbal deprivation disorder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05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Strannegard,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cc"/>
                </a:solidFill>
                <a:latin typeface="Penguin"/>
              </a:rPr>
              <a:t>Atopy – what is it?</a:t>
            </a:r>
            <a:endParaRPr b="0" lang="en-US" sz="72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523880"/>
            <a:ext cx="4419720" cy="4191120"/>
          </a:xfrm>
          <a:custGeom>
            <a:avLst/>
            <a:gdLst/>
            <a:ahLst/>
            <a:rect l="l" t="t" r="r" b="b"/>
            <a:pathLst>
              <a:path w="2155" h="2169">
                <a:moveTo>
                  <a:pt x="838" y="46"/>
                </a:moveTo>
                <a:cubicBezTo>
                  <a:pt x="722" y="34"/>
                  <a:pt x="616" y="40"/>
                  <a:pt x="500" y="46"/>
                </a:cubicBezTo>
                <a:cubicBezTo>
                  <a:pt x="431" y="54"/>
                  <a:pt x="372" y="82"/>
                  <a:pt x="347" y="153"/>
                </a:cubicBezTo>
                <a:cubicBezTo>
                  <a:pt x="338" y="179"/>
                  <a:pt x="334" y="206"/>
                  <a:pt x="324" y="232"/>
                </a:cubicBezTo>
                <a:cubicBezTo>
                  <a:pt x="300" y="294"/>
                  <a:pt x="244" y="346"/>
                  <a:pt x="217" y="407"/>
                </a:cubicBezTo>
                <a:cubicBezTo>
                  <a:pt x="172" y="507"/>
                  <a:pt x="262" y="348"/>
                  <a:pt x="172" y="497"/>
                </a:cubicBezTo>
                <a:cubicBezTo>
                  <a:pt x="168" y="504"/>
                  <a:pt x="160" y="508"/>
                  <a:pt x="155" y="514"/>
                </a:cubicBezTo>
                <a:cubicBezTo>
                  <a:pt x="149" y="521"/>
                  <a:pt x="143" y="529"/>
                  <a:pt x="138" y="537"/>
                </a:cubicBezTo>
                <a:cubicBezTo>
                  <a:pt x="121" y="568"/>
                  <a:pt x="110" y="593"/>
                  <a:pt x="87" y="622"/>
                </a:cubicBezTo>
                <a:cubicBezTo>
                  <a:pt x="75" y="687"/>
                  <a:pt x="91" y="616"/>
                  <a:pt x="70" y="672"/>
                </a:cubicBezTo>
                <a:cubicBezTo>
                  <a:pt x="59" y="702"/>
                  <a:pt x="58" y="737"/>
                  <a:pt x="48" y="768"/>
                </a:cubicBezTo>
                <a:cubicBezTo>
                  <a:pt x="78" y="1028"/>
                  <a:pt x="0" y="1353"/>
                  <a:pt x="116" y="1576"/>
                </a:cubicBezTo>
                <a:cubicBezTo>
                  <a:pt x="131" y="1646"/>
                  <a:pt x="181" y="1679"/>
                  <a:pt x="223" y="1734"/>
                </a:cubicBezTo>
                <a:cubicBezTo>
                  <a:pt x="234" y="1773"/>
                  <a:pt x="258" y="1784"/>
                  <a:pt x="291" y="1808"/>
                </a:cubicBezTo>
                <a:cubicBezTo>
                  <a:pt x="326" y="1834"/>
                  <a:pt x="365" y="1850"/>
                  <a:pt x="404" y="1870"/>
                </a:cubicBezTo>
                <a:cubicBezTo>
                  <a:pt x="454" y="1896"/>
                  <a:pt x="483" y="1913"/>
                  <a:pt x="539" y="1920"/>
                </a:cubicBezTo>
                <a:cubicBezTo>
                  <a:pt x="547" y="1924"/>
                  <a:pt x="554" y="1929"/>
                  <a:pt x="562" y="1932"/>
                </a:cubicBezTo>
                <a:cubicBezTo>
                  <a:pt x="575" y="1937"/>
                  <a:pt x="601" y="1943"/>
                  <a:pt x="601" y="1943"/>
                </a:cubicBezTo>
                <a:cubicBezTo>
                  <a:pt x="621" y="1958"/>
                  <a:pt x="639" y="1962"/>
                  <a:pt x="658" y="1977"/>
                </a:cubicBezTo>
                <a:cubicBezTo>
                  <a:pt x="673" y="1989"/>
                  <a:pt x="685" y="2007"/>
                  <a:pt x="703" y="2011"/>
                </a:cubicBezTo>
                <a:cubicBezTo>
                  <a:pt x="808" y="2034"/>
                  <a:pt x="913" y="2060"/>
                  <a:pt x="1019" y="2079"/>
                </a:cubicBezTo>
                <a:cubicBezTo>
                  <a:pt x="1159" y="2146"/>
                  <a:pt x="1328" y="2160"/>
                  <a:pt x="1482" y="2169"/>
                </a:cubicBezTo>
                <a:cubicBezTo>
                  <a:pt x="1599" y="2167"/>
                  <a:pt x="1715" y="2166"/>
                  <a:pt x="1832" y="2163"/>
                </a:cubicBezTo>
                <a:cubicBezTo>
                  <a:pt x="1912" y="2161"/>
                  <a:pt x="1955" y="2151"/>
                  <a:pt x="2002" y="2090"/>
                </a:cubicBezTo>
                <a:cubicBezTo>
                  <a:pt x="2017" y="2037"/>
                  <a:pt x="2041" y="1990"/>
                  <a:pt x="2058" y="1937"/>
                </a:cubicBezTo>
                <a:cubicBezTo>
                  <a:pt x="2069" y="1843"/>
                  <a:pt x="2063" y="1745"/>
                  <a:pt x="2092" y="1655"/>
                </a:cubicBezTo>
                <a:cubicBezTo>
                  <a:pt x="2104" y="1503"/>
                  <a:pt x="2093" y="1652"/>
                  <a:pt x="2103" y="1463"/>
                </a:cubicBezTo>
                <a:cubicBezTo>
                  <a:pt x="2106" y="1398"/>
                  <a:pt x="2098" y="1377"/>
                  <a:pt x="2126" y="1333"/>
                </a:cubicBezTo>
                <a:cubicBezTo>
                  <a:pt x="2135" y="1293"/>
                  <a:pt x="2139" y="1256"/>
                  <a:pt x="2143" y="1215"/>
                </a:cubicBezTo>
                <a:cubicBezTo>
                  <a:pt x="2147" y="1090"/>
                  <a:pt x="2155" y="984"/>
                  <a:pt x="2148" y="859"/>
                </a:cubicBezTo>
                <a:cubicBezTo>
                  <a:pt x="2146" y="831"/>
                  <a:pt x="2145" y="789"/>
                  <a:pt x="2132" y="763"/>
                </a:cubicBezTo>
                <a:cubicBezTo>
                  <a:pt x="2117" y="732"/>
                  <a:pt x="2056" y="638"/>
                  <a:pt x="2030" y="605"/>
                </a:cubicBezTo>
                <a:cubicBezTo>
                  <a:pt x="2023" y="585"/>
                  <a:pt x="1990" y="554"/>
                  <a:pt x="1990" y="554"/>
                </a:cubicBezTo>
                <a:cubicBezTo>
                  <a:pt x="1981" y="534"/>
                  <a:pt x="1926" y="460"/>
                  <a:pt x="1906" y="452"/>
                </a:cubicBezTo>
                <a:cubicBezTo>
                  <a:pt x="1886" y="445"/>
                  <a:pt x="1865" y="445"/>
                  <a:pt x="1844" y="441"/>
                </a:cubicBezTo>
                <a:cubicBezTo>
                  <a:pt x="1805" y="422"/>
                  <a:pt x="1757" y="403"/>
                  <a:pt x="1725" y="373"/>
                </a:cubicBezTo>
                <a:cubicBezTo>
                  <a:pt x="1703" y="352"/>
                  <a:pt x="1644" y="301"/>
                  <a:pt x="1618" y="288"/>
                </a:cubicBezTo>
                <a:cubicBezTo>
                  <a:pt x="1593" y="275"/>
                  <a:pt x="1565" y="269"/>
                  <a:pt x="1539" y="260"/>
                </a:cubicBezTo>
                <a:cubicBezTo>
                  <a:pt x="1501" y="231"/>
                  <a:pt x="1461" y="208"/>
                  <a:pt x="1426" y="176"/>
                </a:cubicBezTo>
                <a:cubicBezTo>
                  <a:pt x="1400" y="153"/>
                  <a:pt x="1365" y="122"/>
                  <a:pt x="1341" y="96"/>
                </a:cubicBezTo>
                <a:cubicBezTo>
                  <a:pt x="1306" y="58"/>
                  <a:pt x="1315" y="51"/>
                  <a:pt x="1273" y="23"/>
                </a:cubicBezTo>
                <a:cubicBezTo>
                  <a:pt x="1252" y="9"/>
                  <a:pt x="1205" y="9"/>
                  <a:pt x="1183" y="6"/>
                </a:cubicBezTo>
                <a:cubicBezTo>
                  <a:pt x="1087" y="11"/>
                  <a:pt x="996" y="8"/>
                  <a:pt x="900" y="0"/>
                </a:cubicBezTo>
                <a:cubicBezTo>
                  <a:pt x="889" y="2"/>
                  <a:pt x="877" y="0"/>
                  <a:pt x="867" y="6"/>
                </a:cubicBezTo>
                <a:cubicBezTo>
                  <a:pt x="860" y="10"/>
                  <a:pt x="858" y="36"/>
                  <a:pt x="838" y="46"/>
                </a:cubicBezTo>
                <a:close/>
              </a:path>
            </a:pathLst>
          </a:custGeom>
          <a:solidFill>
            <a:srgbClr val="006666"/>
          </a:solidFill>
          <a:ln w="9360">
            <a:solidFill>
              <a:srgbClr val="08c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447920"/>
            <a:ext cx="4419720" cy="4190760"/>
          </a:xfrm>
          <a:custGeom>
            <a:avLst/>
            <a:gdLst/>
            <a:ahLst/>
            <a:rect l="l" t="t" r="r" b="b"/>
            <a:pathLst>
              <a:path w="2155" h="2169">
                <a:moveTo>
                  <a:pt x="838" y="46"/>
                </a:moveTo>
                <a:cubicBezTo>
                  <a:pt x="722" y="34"/>
                  <a:pt x="616" y="40"/>
                  <a:pt x="500" y="46"/>
                </a:cubicBezTo>
                <a:cubicBezTo>
                  <a:pt x="431" y="54"/>
                  <a:pt x="372" y="82"/>
                  <a:pt x="347" y="153"/>
                </a:cubicBezTo>
                <a:cubicBezTo>
                  <a:pt x="338" y="179"/>
                  <a:pt x="334" y="206"/>
                  <a:pt x="324" y="232"/>
                </a:cubicBezTo>
                <a:cubicBezTo>
                  <a:pt x="300" y="294"/>
                  <a:pt x="244" y="346"/>
                  <a:pt x="217" y="407"/>
                </a:cubicBezTo>
                <a:cubicBezTo>
                  <a:pt x="172" y="507"/>
                  <a:pt x="262" y="348"/>
                  <a:pt x="172" y="497"/>
                </a:cubicBezTo>
                <a:cubicBezTo>
                  <a:pt x="168" y="504"/>
                  <a:pt x="160" y="508"/>
                  <a:pt x="155" y="514"/>
                </a:cubicBezTo>
                <a:cubicBezTo>
                  <a:pt x="149" y="521"/>
                  <a:pt x="143" y="529"/>
                  <a:pt x="138" y="537"/>
                </a:cubicBezTo>
                <a:cubicBezTo>
                  <a:pt x="121" y="568"/>
                  <a:pt x="110" y="593"/>
                  <a:pt x="87" y="622"/>
                </a:cubicBezTo>
                <a:cubicBezTo>
                  <a:pt x="75" y="687"/>
                  <a:pt x="91" y="616"/>
                  <a:pt x="70" y="672"/>
                </a:cubicBezTo>
                <a:cubicBezTo>
                  <a:pt x="59" y="702"/>
                  <a:pt x="58" y="737"/>
                  <a:pt x="48" y="768"/>
                </a:cubicBezTo>
                <a:cubicBezTo>
                  <a:pt x="78" y="1028"/>
                  <a:pt x="0" y="1353"/>
                  <a:pt x="116" y="1576"/>
                </a:cubicBezTo>
                <a:cubicBezTo>
                  <a:pt x="131" y="1646"/>
                  <a:pt x="181" y="1679"/>
                  <a:pt x="223" y="1734"/>
                </a:cubicBezTo>
                <a:cubicBezTo>
                  <a:pt x="234" y="1773"/>
                  <a:pt x="258" y="1784"/>
                  <a:pt x="291" y="1808"/>
                </a:cubicBezTo>
                <a:cubicBezTo>
                  <a:pt x="326" y="1834"/>
                  <a:pt x="365" y="1850"/>
                  <a:pt x="404" y="1870"/>
                </a:cubicBezTo>
                <a:cubicBezTo>
                  <a:pt x="454" y="1896"/>
                  <a:pt x="483" y="1913"/>
                  <a:pt x="539" y="1920"/>
                </a:cubicBezTo>
                <a:cubicBezTo>
                  <a:pt x="547" y="1924"/>
                  <a:pt x="554" y="1929"/>
                  <a:pt x="562" y="1932"/>
                </a:cubicBezTo>
                <a:cubicBezTo>
                  <a:pt x="575" y="1937"/>
                  <a:pt x="601" y="1943"/>
                  <a:pt x="601" y="1943"/>
                </a:cubicBezTo>
                <a:cubicBezTo>
                  <a:pt x="621" y="1958"/>
                  <a:pt x="639" y="1962"/>
                  <a:pt x="658" y="1977"/>
                </a:cubicBezTo>
                <a:cubicBezTo>
                  <a:pt x="673" y="1989"/>
                  <a:pt x="685" y="2007"/>
                  <a:pt x="703" y="2011"/>
                </a:cubicBezTo>
                <a:cubicBezTo>
                  <a:pt x="808" y="2034"/>
                  <a:pt x="913" y="2060"/>
                  <a:pt x="1019" y="2079"/>
                </a:cubicBezTo>
                <a:cubicBezTo>
                  <a:pt x="1159" y="2146"/>
                  <a:pt x="1328" y="2160"/>
                  <a:pt x="1482" y="2169"/>
                </a:cubicBezTo>
                <a:cubicBezTo>
                  <a:pt x="1599" y="2167"/>
                  <a:pt x="1715" y="2166"/>
                  <a:pt x="1832" y="2163"/>
                </a:cubicBezTo>
                <a:cubicBezTo>
                  <a:pt x="1912" y="2161"/>
                  <a:pt x="1955" y="2151"/>
                  <a:pt x="2002" y="2090"/>
                </a:cubicBezTo>
                <a:cubicBezTo>
                  <a:pt x="2017" y="2037"/>
                  <a:pt x="2041" y="1990"/>
                  <a:pt x="2058" y="1937"/>
                </a:cubicBezTo>
                <a:cubicBezTo>
                  <a:pt x="2069" y="1843"/>
                  <a:pt x="2063" y="1745"/>
                  <a:pt x="2092" y="1655"/>
                </a:cubicBezTo>
                <a:cubicBezTo>
                  <a:pt x="2104" y="1503"/>
                  <a:pt x="2093" y="1652"/>
                  <a:pt x="2103" y="1463"/>
                </a:cubicBezTo>
                <a:cubicBezTo>
                  <a:pt x="2106" y="1398"/>
                  <a:pt x="2098" y="1377"/>
                  <a:pt x="2126" y="1333"/>
                </a:cubicBezTo>
                <a:cubicBezTo>
                  <a:pt x="2135" y="1293"/>
                  <a:pt x="2139" y="1256"/>
                  <a:pt x="2143" y="1215"/>
                </a:cubicBezTo>
                <a:cubicBezTo>
                  <a:pt x="2147" y="1090"/>
                  <a:pt x="2155" y="984"/>
                  <a:pt x="2148" y="859"/>
                </a:cubicBezTo>
                <a:cubicBezTo>
                  <a:pt x="2146" y="831"/>
                  <a:pt x="2145" y="789"/>
                  <a:pt x="2132" y="763"/>
                </a:cubicBezTo>
                <a:cubicBezTo>
                  <a:pt x="2117" y="732"/>
                  <a:pt x="2056" y="638"/>
                  <a:pt x="2030" y="605"/>
                </a:cubicBezTo>
                <a:cubicBezTo>
                  <a:pt x="2023" y="585"/>
                  <a:pt x="1990" y="554"/>
                  <a:pt x="1990" y="554"/>
                </a:cubicBezTo>
                <a:cubicBezTo>
                  <a:pt x="1981" y="534"/>
                  <a:pt x="1926" y="460"/>
                  <a:pt x="1906" y="452"/>
                </a:cubicBezTo>
                <a:cubicBezTo>
                  <a:pt x="1886" y="445"/>
                  <a:pt x="1865" y="445"/>
                  <a:pt x="1844" y="441"/>
                </a:cubicBezTo>
                <a:cubicBezTo>
                  <a:pt x="1805" y="422"/>
                  <a:pt x="1757" y="403"/>
                  <a:pt x="1725" y="373"/>
                </a:cubicBezTo>
                <a:cubicBezTo>
                  <a:pt x="1703" y="352"/>
                  <a:pt x="1644" y="301"/>
                  <a:pt x="1618" y="288"/>
                </a:cubicBezTo>
                <a:cubicBezTo>
                  <a:pt x="1593" y="275"/>
                  <a:pt x="1565" y="269"/>
                  <a:pt x="1539" y="260"/>
                </a:cubicBezTo>
                <a:cubicBezTo>
                  <a:pt x="1501" y="231"/>
                  <a:pt x="1461" y="208"/>
                  <a:pt x="1426" y="176"/>
                </a:cubicBezTo>
                <a:cubicBezTo>
                  <a:pt x="1400" y="153"/>
                  <a:pt x="1365" y="122"/>
                  <a:pt x="1341" y="96"/>
                </a:cubicBezTo>
                <a:cubicBezTo>
                  <a:pt x="1306" y="58"/>
                  <a:pt x="1315" y="51"/>
                  <a:pt x="1273" y="23"/>
                </a:cubicBezTo>
                <a:cubicBezTo>
                  <a:pt x="1252" y="9"/>
                  <a:pt x="1205" y="9"/>
                  <a:pt x="1183" y="6"/>
                </a:cubicBezTo>
                <a:cubicBezTo>
                  <a:pt x="1087" y="11"/>
                  <a:pt x="996" y="8"/>
                  <a:pt x="900" y="0"/>
                </a:cubicBezTo>
                <a:cubicBezTo>
                  <a:pt x="889" y="2"/>
                  <a:pt x="877" y="0"/>
                  <a:pt x="867" y="6"/>
                </a:cubicBezTo>
                <a:cubicBezTo>
                  <a:pt x="860" y="10"/>
                  <a:pt x="858" y="36"/>
                  <a:pt x="838" y="46"/>
                </a:cubicBezTo>
                <a:close/>
              </a:path>
            </a:pathLst>
          </a:custGeom>
          <a:solidFill>
            <a:srgbClr val="006666"/>
          </a:solidFill>
          <a:ln w="9360">
            <a:solidFill>
              <a:srgbClr val="08c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"/>
            <a:ext cx="1028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560" y="3886200"/>
            <a:ext cx="339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Times New Roman"/>
              </a:rPr>
              <a:t>przeci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1520" y="1905120"/>
            <a:ext cx="39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Alm i wsp.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Lancet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1997, 350,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1240" y="5334120"/>
            <a:ext cx="505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tosowanie antybiotyk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ez względu na w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4160" y="5715000"/>
            <a:ext cx="40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ierwsze 2 lata ży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480" y="3809880"/>
            <a:ext cx="1500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9999"/>
                </a:solidFill>
                <a:latin typeface="Times New Roman"/>
              </a:rPr>
              <a:t>za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00880" y="1752480"/>
            <a:ext cx="303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Farogi i wsp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Thorax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1998, 53, 9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Wickens i wsp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Clin. Exp. Allerg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1999, 29, 7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Stosowanie antybiotyków a rozwój alergii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209680"/>
            <a:ext cx="4419720" cy="4191120"/>
          </a:xfrm>
          <a:custGeom>
            <a:avLst/>
            <a:gdLst/>
            <a:ahLst/>
            <a:rect l="l" t="t" r="r" b="b"/>
            <a:pathLst>
              <a:path w="2155" h="2169">
                <a:moveTo>
                  <a:pt x="838" y="46"/>
                </a:moveTo>
                <a:cubicBezTo>
                  <a:pt x="722" y="34"/>
                  <a:pt x="616" y="40"/>
                  <a:pt x="500" y="46"/>
                </a:cubicBezTo>
                <a:cubicBezTo>
                  <a:pt x="431" y="54"/>
                  <a:pt x="372" y="82"/>
                  <a:pt x="347" y="153"/>
                </a:cubicBezTo>
                <a:cubicBezTo>
                  <a:pt x="338" y="179"/>
                  <a:pt x="334" y="206"/>
                  <a:pt x="324" y="232"/>
                </a:cubicBezTo>
                <a:cubicBezTo>
                  <a:pt x="300" y="294"/>
                  <a:pt x="244" y="346"/>
                  <a:pt x="217" y="407"/>
                </a:cubicBezTo>
                <a:cubicBezTo>
                  <a:pt x="172" y="507"/>
                  <a:pt x="262" y="348"/>
                  <a:pt x="172" y="497"/>
                </a:cubicBezTo>
                <a:cubicBezTo>
                  <a:pt x="168" y="504"/>
                  <a:pt x="160" y="508"/>
                  <a:pt x="155" y="514"/>
                </a:cubicBezTo>
                <a:cubicBezTo>
                  <a:pt x="149" y="521"/>
                  <a:pt x="143" y="529"/>
                  <a:pt x="138" y="537"/>
                </a:cubicBezTo>
                <a:cubicBezTo>
                  <a:pt x="121" y="568"/>
                  <a:pt x="110" y="593"/>
                  <a:pt x="87" y="622"/>
                </a:cubicBezTo>
                <a:cubicBezTo>
                  <a:pt x="75" y="687"/>
                  <a:pt x="91" y="616"/>
                  <a:pt x="70" y="672"/>
                </a:cubicBezTo>
                <a:cubicBezTo>
                  <a:pt x="59" y="702"/>
                  <a:pt x="58" y="737"/>
                  <a:pt x="48" y="768"/>
                </a:cubicBezTo>
                <a:cubicBezTo>
                  <a:pt x="78" y="1028"/>
                  <a:pt x="0" y="1353"/>
                  <a:pt x="116" y="1576"/>
                </a:cubicBezTo>
                <a:cubicBezTo>
                  <a:pt x="131" y="1646"/>
                  <a:pt x="181" y="1679"/>
                  <a:pt x="223" y="1734"/>
                </a:cubicBezTo>
                <a:cubicBezTo>
                  <a:pt x="234" y="1773"/>
                  <a:pt x="258" y="1784"/>
                  <a:pt x="291" y="1808"/>
                </a:cubicBezTo>
                <a:cubicBezTo>
                  <a:pt x="326" y="1834"/>
                  <a:pt x="365" y="1850"/>
                  <a:pt x="404" y="1870"/>
                </a:cubicBezTo>
                <a:cubicBezTo>
                  <a:pt x="454" y="1896"/>
                  <a:pt x="483" y="1913"/>
                  <a:pt x="539" y="1920"/>
                </a:cubicBezTo>
                <a:cubicBezTo>
                  <a:pt x="547" y="1924"/>
                  <a:pt x="554" y="1929"/>
                  <a:pt x="562" y="1932"/>
                </a:cubicBezTo>
                <a:cubicBezTo>
                  <a:pt x="575" y="1937"/>
                  <a:pt x="601" y="1943"/>
                  <a:pt x="601" y="1943"/>
                </a:cubicBezTo>
                <a:cubicBezTo>
                  <a:pt x="621" y="1958"/>
                  <a:pt x="639" y="1962"/>
                  <a:pt x="658" y="1977"/>
                </a:cubicBezTo>
                <a:cubicBezTo>
                  <a:pt x="673" y="1989"/>
                  <a:pt x="685" y="2007"/>
                  <a:pt x="703" y="2011"/>
                </a:cubicBezTo>
                <a:cubicBezTo>
                  <a:pt x="808" y="2034"/>
                  <a:pt x="913" y="2060"/>
                  <a:pt x="1019" y="2079"/>
                </a:cubicBezTo>
                <a:cubicBezTo>
                  <a:pt x="1159" y="2146"/>
                  <a:pt x="1328" y="2160"/>
                  <a:pt x="1482" y="2169"/>
                </a:cubicBezTo>
                <a:cubicBezTo>
                  <a:pt x="1599" y="2167"/>
                  <a:pt x="1715" y="2166"/>
                  <a:pt x="1832" y="2163"/>
                </a:cubicBezTo>
                <a:cubicBezTo>
                  <a:pt x="1912" y="2161"/>
                  <a:pt x="1955" y="2151"/>
                  <a:pt x="2002" y="2090"/>
                </a:cubicBezTo>
                <a:cubicBezTo>
                  <a:pt x="2017" y="2037"/>
                  <a:pt x="2041" y="1990"/>
                  <a:pt x="2058" y="1937"/>
                </a:cubicBezTo>
                <a:cubicBezTo>
                  <a:pt x="2069" y="1843"/>
                  <a:pt x="2063" y="1745"/>
                  <a:pt x="2092" y="1655"/>
                </a:cubicBezTo>
                <a:cubicBezTo>
                  <a:pt x="2104" y="1503"/>
                  <a:pt x="2093" y="1652"/>
                  <a:pt x="2103" y="1463"/>
                </a:cubicBezTo>
                <a:cubicBezTo>
                  <a:pt x="2106" y="1398"/>
                  <a:pt x="2098" y="1377"/>
                  <a:pt x="2126" y="1333"/>
                </a:cubicBezTo>
                <a:cubicBezTo>
                  <a:pt x="2135" y="1293"/>
                  <a:pt x="2139" y="1256"/>
                  <a:pt x="2143" y="1215"/>
                </a:cubicBezTo>
                <a:cubicBezTo>
                  <a:pt x="2147" y="1090"/>
                  <a:pt x="2155" y="984"/>
                  <a:pt x="2148" y="859"/>
                </a:cubicBezTo>
                <a:cubicBezTo>
                  <a:pt x="2146" y="831"/>
                  <a:pt x="2145" y="789"/>
                  <a:pt x="2132" y="763"/>
                </a:cubicBezTo>
                <a:cubicBezTo>
                  <a:pt x="2117" y="732"/>
                  <a:pt x="2056" y="638"/>
                  <a:pt x="2030" y="605"/>
                </a:cubicBezTo>
                <a:cubicBezTo>
                  <a:pt x="2023" y="585"/>
                  <a:pt x="1990" y="554"/>
                  <a:pt x="1990" y="554"/>
                </a:cubicBezTo>
                <a:cubicBezTo>
                  <a:pt x="1981" y="534"/>
                  <a:pt x="1926" y="460"/>
                  <a:pt x="1906" y="452"/>
                </a:cubicBezTo>
                <a:cubicBezTo>
                  <a:pt x="1886" y="445"/>
                  <a:pt x="1865" y="445"/>
                  <a:pt x="1844" y="441"/>
                </a:cubicBezTo>
                <a:cubicBezTo>
                  <a:pt x="1805" y="422"/>
                  <a:pt x="1757" y="403"/>
                  <a:pt x="1725" y="373"/>
                </a:cubicBezTo>
                <a:cubicBezTo>
                  <a:pt x="1703" y="352"/>
                  <a:pt x="1644" y="301"/>
                  <a:pt x="1618" y="288"/>
                </a:cubicBezTo>
                <a:cubicBezTo>
                  <a:pt x="1593" y="275"/>
                  <a:pt x="1565" y="269"/>
                  <a:pt x="1539" y="260"/>
                </a:cubicBezTo>
                <a:cubicBezTo>
                  <a:pt x="1501" y="231"/>
                  <a:pt x="1461" y="208"/>
                  <a:pt x="1426" y="176"/>
                </a:cubicBezTo>
                <a:cubicBezTo>
                  <a:pt x="1400" y="153"/>
                  <a:pt x="1365" y="122"/>
                  <a:pt x="1341" y="96"/>
                </a:cubicBezTo>
                <a:cubicBezTo>
                  <a:pt x="1306" y="58"/>
                  <a:pt x="1315" y="51"/>
                  <a:pt x="1273" y="23"/>
                </a:cubicBezTo>
                <a:cubicBezTo>
                  <a:pt x="1252" y="9"/>
                  <a:pt x="1205" y="9"/>
                  <a:pt x="1183" y="6"/>
                </a:cubicBezTo>
                <a:cubicBezTo>
                  <a:pt x="1087" y="11"/>
                  <a:pt x="996" y="8"/>
                  <a:pt x="900" y="0"/>
                </a:cubicBezTo>
                <a:cubicBezTo>
                  <a:pt x="889" y="2"/>
                  <a:pt x="877" y="0"/>
                  <a:pt x="867" y="6"/>
                </a:cubicBezTo>
                <a:cubicBezTo>
                  <a:pt x="860" y="10"/>
                  <a:pt x="858" y="36"/>
                  <a:pt x="838" y="46"/>
                </a:cubicBezTo>
                <a:close/>
              </a:path>
            </a:pathLst>
          </a:custGeom>
          <a:solidFill>
            <a:srgbClr val="006666"/>
          </a:solidFill>
          <a:ln w="9360">
            <a:solidFill>
              <a:srgbClr val="08c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133720"/>
            <a:ext cx="4419720" cy="4190760"/>
          </a:xfrm>
          <a:custGeom>
            <a:avLst/>
            <a:gdLst/>
            <a:ahLst/>
            <a:rect l="l" t="t" r="r" b="b"/>
            <a:pathLst>
              <a:path w="2155" h="2169">
                <a:moveTo>
                  <a:pt x="838" y="46"/>
                </a:moveTo>
                <a:cubicBezTo>
                  <a:pt x="722" y="34"/>
                  <a:pt x="616" y="40"/>
                  <a:pt x="500" y="46"/>
                </a:cubicBezTo>
                <a:cubicBezTo>
                  <a:pt x="431" y="54"/>
                  <a:pt x="372" y="82"/>
                  <a:pt x="347" y="153"/>
                </a:cubicBezTo>
                <a:cubicBezTo>
                  <a:pt x="338" y="179"/>
                  <a:pt x="334" y="206"/>
                  <a:pt x="324" y="232"/>
                </a:cubicBezTo>
                <a:cubicBezTo>
                  <a:pt x="300" y="294"/>
                  <a:pt x="244" y="346"/>
                  <a:pt x="217" y="407"/>
                </a:cubicBezTo>
                <a:cubicBezTo>
                  <a:pt x="172" y="507"/>
                  <a:pt x="262" y="348"/>
                  <a:pt x="172" y="497"/>
                </a:cubicBezTo>
                <a:cubicBezTo>
                  <a:pt x="168" y="504"/>
                  <a:pt x="160" y="508"/>
                  <a:pt x="155" y="514"/>
                </a:cubicBezTo>
                <a:cubicBezTo>
                  <a:pt x="149" y="521"/>
                  <a:pt x="143" y="529"/>
                  <a:pt x="138" y="537"/>
                </a:cubicBezTo>
                <a:cubicBezTo>
                  <a:pt x="121" y="568"/>
                  <a:pt x="110" y="593"/>
                  <a:pt x="87" y="622"/>
                </a:cubicBezTo>
                <a:cubicBezTo>
                  <a:pt x="75" y="687"/>
                  <a:pt x="91" y="616"/>
                  <a:pt x="70" y="672"/>
                </a:cubicBezTo>
                <a:cubicBezTo>
                  <a:pt x="59" y="702"/>
                  <a:pt x="58" y="737"/>
                  <a:pt x="48" y="768"/>
                </a:cubicBezTo>
                <a:cubicBezTo>
                  <a:pt x="78" y="1028"/>
                  <a:pt x="0" y="1353"/>
                  <a:pt x="116" y="1576"/>
                </a:cubicBezTo>
                <a:cubicBezTo>
                  <a:pt x="131" y="1646"/>
                  <a:pt x="181" y="1679"/>
                  <a:pt x="223" y="1734"/>
                </a:cubicBezTo>
                <a:cubicBezTo>
                  <a:pt x="234" y="1773"/>
                  <a:pt x="258" y="1784"/>
                  <a:pt x="291" y="1808"/>
                </a:cubicBezTo>
                <a:cubicBezTo>
                  <a:pt x="326" y="1834"/>
                  <a:pt x="365" y="1850"/>
                  <a:pt x="404" y="1870"/>
                </a:cubicBezTo>
                <a:cubicBezTo>
                  <a:pt x="454" y="1896"/>
                  <a:pt x="483" y="1913"/>
                  <a:pt x="539" y="1920"/>
                </a:cubicBezTo>
                <a:cubicBezTo>
                  <a:pt x="547" y="1924"/>
                  <a:pt x="554" y="1929"/>
                  <a:pt x="562" y="1932"/>
                </a:cubicBezTo>
                <a:cubicBezTo>
                  <a:pt x="575" y="1937"/>
                  <a:pt x="601" y="1943"/>
                  <a:pt x="601" y="1943"/>
                </a:cubicBezTo>
                <a:cubicBezTo>
                  <a:pt x="621" y="1958"/>
                  <a:pt x="639" y="1962"/>
                  <a:pt x="658" y="1977"/>
                </a:cubicBezTo>
                <a:cubicBezTo>
                  <a:pt x="673" y="1989"/>
                  <a:pt x="685" y="2007"/>
                  <a:pt x="703" y="2011"/>
                </a:cubicBezTo>
                <a:cubicBezTo>
                  <a:pt x="808" y="2034"/>
                  <a:pt x="913" y="2060"/>
                  <a:pt x="1019" y="2079"/>
                </a:cubicBezTo>
                <a:cubicBezTo>
                  <a:pt x="1159" y="2146"/>
                  <a:pt x="1328" y="2160"/>
                  <a:pt x="1482" y="2169"/>
                </a:cubicBezTo>
                <a:cubicBezTo>
                  <a:pt x="1599" y="2167"/>
                  <a:pt x="1715" y="2166"/>
                  <a:pt x="1832" y="2163"/>
                </a:cubicBezTo>
                <a:cubicBezTo>
                  <a:pt x="1912" y="2161"/>
                  <a:pt x="1955" y="2151"/>
                  <a:pt x="2002" y="2090"/>
                </a:cubicBezTo>
                <a:cubicBezTo>
                  <a:pt x="2017" y="2037"/>
                  <a:pt x="2041" y="1990"/>
                  <a:pt x="2058" y="1937"/>
                </a:cubicBezTo>
                <a:cubicBezTo>
                  <a:pt x="2069" y="1843"/>
                  <a:pt x="2063" y="1745"/>
                  <a:pt x="2092" y="1655"/>
                </a:cubicBezTo>
                <a:cubicBezTo>
                  <a:pt x="2104" y="1503"/>
                  <a:pt x="2093" y="1652"/>
                  <a:pt x="2103" y="1463"/>
                </a:cubicBezTo>
                <a:cubicBezTo>
                  <a:pt x="2106" y="1398"/>
                  <a:pt x="2098" y="1377"/>
                  <a:pt x="2126" y="1333"/>
                </a:cubicBezTo>
                <a:cubicBezTo>
                  <a:pt x="2135" y="1293"/>
                  <a:pt x="2139" y="1256"/>
                  <a:pt x="2143" y="1215"/>
                </a:cubicBezTo>
                <a:cubicBezTo>
                  <a:pt x="2147" y="1090"/>
                  <a:pt x="2155" y="984"/>
                  <a:pt x="2148" y="859"/>
                </a:cubicBezTo>
                <a:cubicBezTo>
                  <a:pt x="2146" y="831"/>
                  <a:pt x="2145" y="789"/>
                  <a:pt x="2132" y="763"/>
                </a:cubicBezTo>
                <a:cubicBezTo>
                  <a:pt x="2117" y="732"/>
                  <a:pt x="2056" y="638"/>
                  <a:pt x="2030" y="605"/>
                </a:cubicBezTo>
                <a:cubicBezTo>
                  <a:pt x="2023" y="585"/>
                  <a:pt x="1990" y="554"/>
                  <a:pt x="1990" y="554"/>
                </a:cubicBezTo>
                <a:cubicBezTo>
                  <a:pt x="1981" y="534"/>
                  <a:pt x="1926" y="460"/>
                  <a:pt x="1906" y="452"/>
                </a:cubicBezTo>
                <a:cubicBezTo>
                  <a:pt x="1886" y="445"/>
                  <a:pt x="1865" y="445"/>
                  <a:pt x="1844" y="441"/>
                </a:cubicBezTo>
                <a:cubicBezTo>
                  <a:pt x="1805" y="422"/>
                  <a:pt x="1757" y="403"/>
                  <a:pt x="1725" y="373"/>
                </a:cubicBezTo>
                <a:cubicBezTo>
                  <a:pt x="1703" y="352"/>
                  <a:pt x="1644" y="301"/>
                  <a:pt x="1618" y="288"/>
                </a:cubicBezTo>
                <a:cubicBezTo>
                  <a:pt x="1593" y="275"/>
                  <a:pt x="1565" y="269"/>
                  <a:pt x="1539" y="260"/>
                </a:cubicBezTo>
                <a:cubicBezTo>
                  <a:pt x="1501" y="231"/>
                  <a:pt x="1461" y="208"/>
                  <a:pt x="1426" y="176"/>
                </a:cubicBezTo>
                <a:cubicBezTo>
                  <a:pt x="1400" y="153"/>
                  <a:pt x="1365" y="122"/>
                  <a:pt x="1341" y="96"/>
                </a:cubicBezTo>
                <a:cubicBezTo>
                  <a:pt x="1306" y="58"/>
                  <a:pt x="1315" y="51"/>
                  <a:pt x="1273" y="23"/>
                </a:cubicBezTo>
                <a:cubicBezTo>
                  <a:pt x="1252" y="9"/>
                  <a:pt x="1205" y="9"/>
                  <a:pt x="1183" y="6"/>
                </a:cubicBezTo>
                <a:cubicBezTo>
                  <a:pt x="1087" y="11"/>
                  <a:pt x="996" y="8"/>
                  <a:pt x="900" y="0"/>
                </a:cubicBezTo>
                <a:cubicBezTo>
                  <a:pt x="889" y="2"/>
                  <a:pt x="877" y="0"/>
                  <a:pt x="867" y="6"/>
                </a:cubicBezTo>
                <a:cubicBezTo>
                  <a:pt x="860" y="10"/>
                  <a:pt x="858" y="36"/>
                  <a:pt x="838" y="46"/>
                </a:cubicBezTo>
                <a:close/>
              </a:path>
            </a:pathLst>
          </a:custGeom>
          <a:solidFill>
            <a:srgbClr val="006666"/>
          </a:solidFill>
          <a:ln w="9360">
            <a:solidFill>
              <a:srgbClr val="08c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720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560" y="4572000"/>
            <a:ext cx="339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Times New Roman"/>
              </a:rPr>
              <a:t>przeci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38240" y="2789280"/>
            <a:ext cx="372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Strannegard i ws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Allergy, 1998, 53, 2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Yilmaz i ws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Penguin"/>
              </a:rPr>
              <a:t>Allergy, 2000, 55, 6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480" y="4495680"/>
            <a:ext cx="1500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9999"/>
                </a:solidFill>
                <a:latin typeface="Times New Roman"/>
              </a:rPr>
              <a:t>za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1080" y="2987640"/>
            <a:ext cx="452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Shirakawa i ws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Science, 1997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275, 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27320" y="1295280"/>
            <a:ext cx="58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dpowiedź na tuberkulin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cc"/>
                </a:solidFill>
                <a:latin typeface="Penguin"/>
              </a:rPr>
              <a:t>Mycobacterium tuberculosis a rozwój alergii</a:t>
            </a:r>
            <a:endParaRPr b="0" lang="en-US" sz="48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4572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5333760" cy="434340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648320" y="1904040"/>
            <a:ext cx="5333760" cy="434340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00"/>
              </a:gs>
              <a:gs pos="100000">
                <a:srgbClr val="33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53400" y="2362320"/>
            <a:ext cx="371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RSV – 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Sigurs i wsp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Am. J. Respi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Crit. Care Med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2000, 161, 1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EBV – 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Rystedt i wsp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Int. Arch. all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Appl Immunol 198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75, 1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Adenowirusy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Yamada i wsp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J. Allergy Clin. Immunol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2000, 106, 8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2637000"/>
            <a:ext cx="290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Odra – 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Shaheen i w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Lancet 1996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347, 17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Zapalenie wątro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typu A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Matricardi BMJ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1998, 314, 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400" spc="-1" strike="noStrike">
                <a:solidFill>
                  <a:srgbClr val="ffffcc"/>
                </a:solidFill>
                <a:latin typeface="Penguin"/>
              </a:rPr>
              <a:t>Wiursy a rozwój alergii</a:t>
            </a:r>
            <a:endParaRPr b="0" lang="en-US" sz="7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102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Zakażenie adenowirusami a rozwój astmy oraz wrażliwość na kortykosteroidy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828800"/>
            <a:ext cx="8991360" cy="76212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ahoma"/>
              </a:rPr>
              <a:t>Przewlekłe zakażenie układu oddechowego u świnek morskich sprzyja rozwojowi nacieku eozynofilowego pod wpływem albuminy jaja kurz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8948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666880"/>
            <a:ext cx="8991360" cy="4906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ahoma"/>
              </a:rPr>
              <a:t>Przewlekła infekcja hamuje przeciwzapalne działanie kortykosteroid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2767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K. Yamada i wsp., J. Allergy Clin. Immunol, 2000, 106, 844-8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848040"/>
            <a:ext cx="8991360" cy="76212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ahoma"/>
              </a:rPr>
              <a:t>Adenowirusy są obecne u 91% chorych na astmę ze słabą odpowiedzią na kortykosteroidy (u chorych z dobrą reakcją – 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6864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Macek i wsp. Am. J. Respir. Crit. Care Med., 1994, 150, 7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334120"/>
            <a:ext cx="8991360" cy="49032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Ostra infekcja hamuje odpowiedź na aler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5943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Suzuki i wsp., Human Gene Ther., 2000,11,827-8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676520"/>
            <a:ext cx="8991720" cy="3581280"/>
          </a:xfrm>
          <a:prstGeom prst="rect">
            <a:avLst/>
          </a:prstGeom>
          <a:gradFill rotWithShape="0">
            <a:gsLst>
              <a:gs pos="0">
                <a:srgbClr val="033849"/>
              </a:gs>
              <a:gs pos="50000">
                <a:srgbClr val="355f6c"/>
              </a:gs>
              <a:gs pos="100000">
                <a:srgbClr val="033849"/>
              </a:gs>
            </a:gsLst>
            <a:lin ang="108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ahoma"/>
              </a:rPr>
              <a:t>Częstość występowania alergii koreluje z liczbą szczepionych MMR (odra, świnka, różyczka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ahoma"/>
              </a:rPr>
              <a:t>i spożyciem antybiotyk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55627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Alm i wsp., Lancet, 1997, 350, 4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Penguin"/>
              </a:rPr>
              <a:t>Alergia a szczepienia</a:t>
            </a:r>
            <a:endParaRPr b="0" lang="en-US" sz="66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38280"/>
            <a:ext cx="8686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6880"/>
                <a:tab algn="l" pos="448164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Cross-sectional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Eliminacja alergenów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IgG w surowicy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(kot, pszczoła)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6880"/>
                <a:tab algn="l" pos="448164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populacja generalna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Nie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              Nie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        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6880"/>
                <a:tab algn="l" pos="448164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GreekMathSymbols" charset="2"/>
              <a:buChar char=""/>
              <a:tabLst>
                <a:tab algn="l" pos="2666880"/>
                <a:tab algn="l" pos="448164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całkowitego IgE</a:t>
            </a:r>
            <a:r>
              <a:rPr b="0" lang="pl-PL" sz="18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00ff00"/>
                </a:solidFill>
                <a:latin typeface="Tahoma"/>
              </a:rPr>
              <a:t>     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Nie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              Nie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        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GreekMathSymbols" charset="2"/>
              <a:buChar char=""/>
              <a:tabLst>
                <a:tab algn="l" pos="2666880"/>
                <a:tab algn="l" pos="448164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6880"/>
                <a:tab algn="l" pos="448164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Bezobjawowe s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6880"/>
                <a:tab algn="l" pos="448164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(surowica / prick test)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Tak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              Tak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        T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200400"/>
            <a:ext cx="853452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3886200"/>
            <a:ext cx="853452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495680"/>
            <a:ext cx="853452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590920"/>
            <a:ext cx="0" cy="28954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2590920"/>
            <a:ext cx="0" cy="28954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867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Penguin"/>
              </a:rPr>
              <a:t>(wg Platts-Mills i wsp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2590920"/>
            <a:ext cx="0" cy="28954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5334120"/>
            <a:ext cx="853452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Ekspozycja na alergen a rozwój alergii w zależności od IgE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2:52:28Z</dcterms:created>
  <dc:creator>Radosław Zajdel</dc:creator>
  <dc:description/>
  <dc:language>en-US</dc:language>
  <cp:lastModifiedBy>Radosław Zajdel</cp:lastModifiedBy>
  <dcterms:modified xsi:type="dcterms:W3CDTF">2001-11-12T16:45:13Z</dcterms:modified>
  <cp:revision>220</cp:revision>
  <dc:subject/>
  <dc:title>The role of magnetic resonance imaging in diagnosis and monitoring the treatment of multiple sclerosis </dc:title>
</cp:coreProperties>
</file>