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77248-010F-4343-8823-5E80A4222C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1730-9B35-4480-9D1D-521B422D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C1DF2-F4B9-40B9-9D83-EA0298E0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3189B-3FD0-42F3-BD35-EAF78303D7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820FD-0038-472A-AB1E-9BCFB6EC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32E73-B956-4972-9D95-95B2AEA3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1D739-5201-485B-8957-4378ADF1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C6FCC-47C2-4C67-9E0E-64698A2D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9D286-24EB-4916-AC3F-60A5424F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73E45-07EC-418C-823A-5CB2958A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9D110-E7C1-4608-9349-ECDF79AC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0C881-38B8-45F1-8E59-41E47BE5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80A3B-EF4A-413A-9B6A-458BCE48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A952E-0A4A-425F-A3E6-D8A4035B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A4C7E-0BDB-4333-9CCD-52D1B788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5FC14-6476-4B7D-8524-C7F60594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7E510-6711-426C-B918-AF70CFE4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89FF8-72CC-4BCD-9CB9-279C459B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0853C-6A5A-4ECC-83F6-CEE2715B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5D149-87E3-43F0-8F37-D08FA7EC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69944-2207-4EF5-BE75-189CFC7E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F3D2F-406B-4FDC-8C72-1F7066DC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525E5-A627-4838-B893-624B8A5D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70162-CE78-4DB2-AD8B-7762720A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461520" y="1440"/>
            <a:ext cx="19735560" cy="13690440"/>
            <a:chOff x="-9461520" y="1440"/>
            <a:chExt cx="19735560" cy="13690440"/>
          </a:xfrm>
        </p:grpSpPr>
        <p:sp>
          <p:nvSpPr>
            <p:cNvPr id="1" name=""/>
            <p:cNvSpPr/>
            <p:nvPr/>
          </p:nvSpPr>
          <p:spPr>
            <a:xfrm>
              <a:off x="6061320" y="1585800"/>
              <a:ext cx="4212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461520" y="1440"/>
              <a:ext cx="189230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DECE-24FC-4785-A468-5A5B08B1D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8732880" y="1460520"/>
            <a:ext cx="19019520" cy="10794600"/>
            <a:chOff x="-8732880" y="1460520"/>
            <a:chExt cx="19019520" cy="10794600"/>
          </a:xfrm>
        </p:grpSpPr>
        <p:sp>
          <p:nvSpPr>
            <p:cNvPr id="44" name=""/>
            <p:cNvSpPr/>
            <p:nvPr/>
          </p:nvSpPr>
          <p:spPr>
            <a:xfrm>
              <a:off x="3679920" y="2709720"/>
              <a:ext cx="66067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8732880" y="1460520"/>
              <a:ext cx="1513476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55840" y="7617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6709-117A-41AC-AE2F-DF7AC1C4CA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awel.gorski@pta.med.pl" TargetMode="External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pawel.gorski@pta.med.pl" TargetMode="External"/><Relationship Id="rId2" Type="http://schemas.openxmlformats.org/officeDocument/2006/relationships/hyperlink" Target="mailto:pawel.gorski@pta.med.pl" TargetMode="Externa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pawel.gorski@pta.med.pl" TargetMode="External"/><Relationship Id="rId2" Type="http://schemas.openxmlformats.org/officeDocument/2006/relationships/hyperlink" Target="mailto:pawel.gorski@pta.med.pl" TargetMode="Externa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pawel.gorski@pta.med.pl" TargetMode="External"/><Relationship Id="rId2" Type="http://schemas.openxmlformats.org/officeDocument/2006/relationships/hyperlink" Target="mailto:pawel.gorski@pta.med.pl" TargetMode="Externa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pawel.gorski@pta.med.pl" TargetMode="External"/><Relationship Id="rId2" Type="http://schemas.openxmlformats.org/officeDocument/2006/relationships/hyperlink" Target="mailto:pawel.gorski@pta.med.pl" TargetMode="Externa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pawel.gorski@pta.med.pl" TargetMode="External"/><Relationship Id="rId2" Type="http://schemas.openxmlformats.org/officeDocument/2006/relationships/hyperlink" Target="mailto:pawel.gorski@pta.med.pl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pawel.gorski@pta.med.pl" TargetMode="External"/><Relationship Id="rId2" Type="http://schemas.openxmlformats.org/officeDocument/2006/relationships/hyperlink" Target="mailto:pawel.gorski@pta.med.pl" TargetMode="External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pawel.gorski@pta.med.pl" TargetMode="External"/><Relationship Id="rId2" Type="http://schemas.openxmlformats.org/officeDocument/2006/relationships/hyperlink" Target="mailto:pawel.gorski@pta.med.pl" TargetMode="External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pawel.gorski@pta.med.pl" TargetMode="External"/><Relationship Id="rId2" Type="http://schemas.openxmlformats.org/officeDocument/2006/relationships/hyperlink" Target="mailto:pawel.gorski@pta.med.p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pawel.gorski@pta.med.pl" TargetMode="External"/><Relationship Id="rId2" Type="http://schemas.openxmlformats.org/officeDocument/2006/relationships/hyperlink" Target="mailto:pawel.gorski@pta.med.pl" TargetMode="Externa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pawel.gorski@pta.med.pl" TargetMode="External"/><Relationship Id="rId2" Type="http://schemas.openxmlformats.org/officeDocument/2006/relationships/hyperlink" Target="mailto:pawel.gorski@pta.med.pl" TargetMode="Externa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pawel.gorski@pta.med.pl" TargetMode="External"/><Relationship Id="rId2" Type="http://schemas.openxmlformats.org/officeDocument/2006/relationships/hyperlink" Target="mailto:pawel.gorski@pta.med.pl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pawel.gorski@pta.med.pl" TargetMode="External"/><Relationship Id="rId2" Type="http://schemas.openxmlformats.org/officeDocument/2006/relationships/hyperlink" Target="mailto:pawel.gorski@pta.med.pl" TargetMode="Externa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pawel.gorski@pta.med.pl" TargetMode="External"/><Relationship Id="rId2" Type="http://schemas.openxmlformats.org/officeDocument/2006/relationships/hyperlink" Target="mailto:pawel.gorski@pta.med.pl" TargetMode="Externa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pawel.gorski@pta.med.pl" TargetMode="External"/><Relationship Id="rId2" Type="http://schemas.openxmlformats.org/officeDocument/2006/relationships/hyperlink" Target="mailto:pawel.gorski@pta.med.pl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Diagnostyka i leczenie POChP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1760" y="4419720"/>
            <a:ext cx="8762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 Unicode MS"/>
                <a:hlinkClick r:id="rId1"/>
              </a:rPr>
              <a:t>Paweł Górsk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Akademia Medyczna w Łodz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38880" y="6583320"/>
            <a:ext cx="14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2"/>
              </a:rPr>
              <a:t>E-</a:t>
            </a: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3"/>
              </a:rPr>
              <a:t>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62120" y="121932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180360"/>
            <a:ext cx="3655800" cy="5247360"/>
          </a:xfrm>
          <a:prstGeom prst="irregularSeal1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2133720"/>
            <a:ext cx="248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Edukac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Szczepie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396360"/>
            <a:ext cx="4264200" cy="5247360"/>
          </a:xfrm>
          <a:prstGeom prst="irregularSeal1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45720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990720" y="45720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1931400"/>
            <a:ext cx="5710320" cy="5247360"/>
          </a:xfrm>
          <a:prstGeom prst="irregularSeal1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39625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Regularnie betamimetyk długodziałający lub antycholinerg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Rehabilitac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Arial Unicode MS"/>
              </a:rPr>
              <a:t>Leczenie POChP- postać umiarkowanie ciężk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38880" y="6583320"/>
            <a:ext cx="14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1"/>
              </a:rPr>
              <a:t>E-</a:t>
            </a: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2"/>
              </a:rPr>
              <a:t>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410080" y="396360"/>
            <a:ext cx="4264200" cy="5247360"/>
          </a:xfrm>
          <a:prstGeom prst="irregularSeal1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5720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90720" y="45720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121932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80360"/>
            <a:ext cx="3655800" cy="5247360"/>
          </a:xfrm>
          <a:prstGeom prst="irregularSeal1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1931400"/>
            <a:ext cx="5710320" cy="5247360"/>
          </a:xfrm>
          <a:prstGeom prst="irregularSeal1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38400" y="2133720"/>
            <a:ext cx="240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Edukac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Szczepi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3962520"/>
            <a:ext cx="57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Regularnie 2 lub 3 leki rozkurczające oskrze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2590920"/>
            <a:ext cx="24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Rehabilitac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 Unicode MS"/>
              </a:rPr>
              <a:t>Leczenie POChP – postać cięż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38880" y="6583320"/>
            <a:ext cx="14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1"/>
              </a:rPr>
              <a:t>E-</a:t>
            </a: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2"/>
              </a:rPr>
              <a:t>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286000" y="1828800"/>
            <a:ext cx="746748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b1b"/>
                </a:solidFill>
                <a:latin typeface="Arial Unicode MS"/>
              </a:rPr>
              <a:t>Czas: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  6-12 tygod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3600" indent="-9360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b1b"/>
                </a:solidFill>
                <a:latin typeface="Arial Unicode MS"/>
              </a:rPr>
              <a:t>Kiedy?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  W okresie stabilny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3600" indent="-9360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b1b"/>
                </a:solidFill>
                <a:latin typeface="Arial Unicode MS"/>
              </a:rPr>
              <a:t>Ocena: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 Zwiększenie wartości FE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 Unicode MS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 o 200 ml lub o 1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3600" indent="-9360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b1b"/>
                </a:solidFill>
                <a:latin typeface="Arial Unicode MS"/>
              </a:rPr>
              <a:t>Warunki: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 Wartość FE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 Unicode MS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 rośnie ponad uzyskaną w prostej próbie rozkurczowe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5720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990720" y="45720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121932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1860480"/>
            <a:ext cx="3430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6800" y="1784520"/>
            <a:ext cx="85680" cy="3778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52480" y="2666880"/>
            <a:ext cx="3430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3429000"/>
            <a:ext cx="3430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52480" y="4756320"/>
            <a:ext cx="3430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 Unicode MS"/>
              </a:rPr>
              <a:t>Próba kortykosteroidow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38880" y="6583320"/>
            <a:ext cx="14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1"/>
              </a:rPr>
              <a:t>E-</a:t>
            </a: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2"/>
              </a:rPr>
              <a:t>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45720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990720" y="45720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21932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8200" y="2061000"/>
            <a:ext cx="7527960" cy="581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Wyłącznie eliminacja czynników ryzy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28600" y="3401640"/>
            <a:ext cx="4499640" cy="1783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Unicode MS"/>
              </a:rPr>
              <a:t>Farmakoterapi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Unicode MS"/>
              </a:rPr>
              <a:t>bezskuteczna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 Unicode MS"/>
              </a:rPr>
              <a:t>Spowolnienie progresji POCh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38880" y="6583320"/>
            <a:ext cx="14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1"/>
              </a:rPr>
              <a:t>E-</a:t>
            </a: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2"/>
              </a:rPr>
              <a:t>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981080" y="1676520"/>
            <a:ext cx="769644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....stosuj w zaostrzeniach infekcyjnych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....antybiotyki są skuteczne tylko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u chorych, u których nasileniu duszności i kaszlu towarzyszy zwiększenie objętości i charakteru plwociny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5720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990720" y="45720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121932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0" y="1600200"/>
            <a:ext cx="343080" cy="8380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1447920"/>
            <a:ext cx="76320" cy="3962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3200400"/>
            <a:ext cx="343080" cy="19810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 Unicode MS"/>
              </a:rPr>
              <a:t>Antybiotyki w POChP wg GO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-38880" y="6583320"/>
            <a:ext cx="14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1"/>
              </a:rPr>
              <a:t>E-</a:t>
            </a: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2"/>
              </a:rPr>
              <a:t>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86000" y="1828800"/>
            <a:ext cx="7467480" cy="42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Nie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 stosuj regular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3600" indent="-936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Zawsze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 przy podejrzeniu zaostrzenia infekcyjne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3600" indent="-936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W ciężkich zaostrzeniach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 niejasnego pochodz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3600" indent="-936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Na ogół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 w zaostrzeniach ciężkiej posta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3600" indent="-936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45720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990720" y="45720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121932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1828800"/>
            <a:ext cx="3430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66800" y="1784520"/>
            <a:ext cx="85680" cy="3701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2743200"/>
            <a:ext cx="3430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3886200"/>
            <a:ext cx="3430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4861080"/>
            <a:ext cx="3430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 Unicode MS"/>
              </a:rPr>
              <a:t>Antybiotyki w POCh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38880" y="6583320"/>
            <a:ext cx="14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1"/>
              </a:rPr>
              <a:t>E-</a:t>
            </a: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2"/>
              </a:rPr>
              <a:t>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209680" y="137160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Arial Unicode MS"/>
              </a:rPr>
              <a:t>Palenie tytoni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Arial Unicode MS"/>
              </a:rPr>
              <a:t>Inne czynniki ryzy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Arial Unicode MS"/>
              </a:rPr>
              <a:t>Kaszel- czas trwania, produktywność, poranny?, krwiopluc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Arial Unicode MS"/>
              </a:rPr>
              <a:t>„ </a:t>
            </a:r>
            <a:r>
              <a:rPr b="0" lang="pl-PL" sz="3200" spc="-1" strike="noStrike">
                <a:solidFill>
                  <a:srgbClr val="ffffcc"/>
                </a:solidFill>
                <a:latin typeface="Arial Unicode MS"/>
              </a:rPr>
              <a:t>Gra w piersiach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Arial Unicode MS"/>
              </a:rPr>
              <a:t>Duszność-wysiłkowa( ocenić ilościowo), spoczynkow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Arial Unicode MS"/>
              </a:rPr>
              <a:t>Częste infekcje układu oddechowe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38088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990720" y="45720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121932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1447920"/>
            <a:ext cx="34272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1447920"/>
            <a:ext cx="76320" cy="4800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6520" y="2057400"/>
            <a:ext cx="34272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2743200"/>
            <a:ext cx="34272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3902040"/>
            <a:ext cx="34272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4564080"/>
            <a:ext cx="34272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5715000"/>
            <a:ext cx="34272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"/>
              </a:rPr>
              <a:t>Diagnostyka POChP-wywi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-38880" y="658332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 Unicode MS"/>
              </a:rPr>
              <a:t>E-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267680" y="5867280"/>
            <a:ext cx="24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ATS 199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06668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0" indent="-9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 Unicode MS"/>
              </a:rPr>
              <a:t>Klatka piersiowa:</a:t>
            </a:r>
            <a:r>
              <a:rPr b="0" lang="pl-PL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Arial Unicode MS"/>
              </a:rPr>
              <a:t>Obturacja-świsty podczas swobodnego lub natężonego oddychania, wydłużenie wydechu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Arial Unicode MS"/>
              </a:rPr>
              <a:t>Rozedma-zmiana granic płuc i spadek głośności szmeru oddechowego oraz tonów serc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Arial Unicode MS"/>
              </a:rPr>
              <a:t>Ciężkość choroby-dodatkowe mięśnie oddechowe, wciąganie międzyżebrz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 Unicode MS"/>
              </a:rPr>
              <a:t>Inne:</a:t>
            </a:r>
            <a:r>
              <a:rPr b="0" lang="pl-PL" sz="28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Arial Unicode MS"/>
              </a:rPr>
              <a:t>pozycja ciała, tachykardia, tętno paradoksal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22860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990720" y="30492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106668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1600200"/>
            <a:ext cx="76320" cy="3048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1752480"/>
            <a:ext cx="34272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2666880"/>
            <a:ext cx="34272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4038480"/>
            <a:ext cx="34272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Arial"/>
              </a:rPr>
              <a:t>Diagnostyka POChP-badanie przedmiotow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38880" y="658332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 Unicode MS"/>
              </a:rPr>
              <a:t>E-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cc66"/>
                </a:solidFill>
                <a:latin typeface="Arial"/>
              </a:rPr>
              <a:t>Diagnostyka POChP - pracowni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71800" y="15238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3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b1b"/>
                </a:solidFill>
                <a:latin typeface="Arial Unicode MS"/>
              </a:rPr>
              <a:t>Spirometria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 – próba z bronchodilatatorem, FE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 Unicode MS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 i FV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3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3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b1b"/>
                </a:solidFill>
                <a:latin typeface="Arial Unicode MS"/>
              </a:rPr>
              <a:t>Rtg klasyczne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, wyjątkowo CT wysokiej rozdzielcz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3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3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b1b"/>
                </a:solidFill>
                <a:latin typeface="Arial Unicode MS"/>
              </a:rPr>
              <a:t>Gazy krwi tętniczej 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- w I stadium zbędne,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w II,III w zależności od dynamiki choro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3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67680" y="5867280"/>
            <a:ext cx="24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ATS 199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22860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990720" y="30492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06668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1447920"/>
            <a:ext cx="76320" cy="3657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1547640"/>
            <a:ext cx="34272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2971800"/>
            <a:ext cx="34272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76520" y="4495680"/>
            <a:ext cx="34272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-38880" y="658332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 Unicode MS"/>
              </a:rPr>
              <a:t>E-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66"/>
                </a:solidFill>
                <a:latin typeface="Arial"/>
              </a:rPr>
              <a:t>Wskazania do przewlekłej terapii tlenem w POChP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04840" y="1447560"/>
            <a:ext cx="7381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150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Arial Unicode MS"/>
              </a:rPr>
              <a:t>Bezwzględne </a:t>
            </a:r>
            <a:r>
              <a:rPr b="0" lang="pl-PL" sz="2800" spc="-1" strike="noStrike">
                <a:solidFill>
                  <a:srgbClr val="ffffcc"/>
                </a:solidFill>
                <a:latin typeface="Arial Unicode MS"/>
              </a:rPr>
              <a:t>- PaO</a:t>
            </a:r>
            <a:r>
              <a:rPr b="0" lang="pl-PL" sz="2800" spc="-1" strike="noStrike" baseline="-25000">
                <a:solidFill>
                  <a:srgbClr val="ffffcc"/>
                </a:solidFill>
                <a:latin typeface="Arial Unicode MS"/>
              </a:rPr>
              <a:t>2</a:t>
            </a:r>
            <a:r>
              <a:rPr b="0" lang="pl-PL" sz="2800" spc="-1" strike="noStrike">
                <a:solidFill>
                  <a:srgbClr val="ffffcc"/>
                </a:solidFill>
                <a:latin typeface="Arial Unicode MS"/>
              </a:rPr>
              <a:t>&lt;55mmHg, SaO</a:t>
            </a:r>
            <a:r>
              <a:rPr b="0" lang="pl-PL" sz="2800" spc="-1" strike="noStrike" baseline="-25000">
                <a:solidFill>
                  <a:srgbClr val="ffffcc"/>
                </a:solidFill>
                <a:latin typeface="Arial Unicode MS"/>
              </a:rPr>
              <a:t>2</a:t>
            </a:r>
            <a:r>
              <a:rPr b="0" lang="pl-PL" sz="2800" spc="-1" strike="noStrike">
                <a:solidFill>
                  <a:srgbClr val="ffffcc"/>
                </a:solidFill>
                <a:latin typeface="Arial Unicode MS"/>
              </a:rPr>
              <a:t>&lt;88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50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50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Arial Unicode MS"/>
              </a:rPr>
              <a:t>W obecności </a:t>
            </a:r>
            <a:r>
              <a:rPr b="0" lang="pl-PL" sz="2800" spc="-1" strike="noStrike">
                <a:solidFill>
                  <a:srgbClr val="ff0000"/>
                </a:solidFill>
                <a:latin typeface="Arial Unicode MS"/>
              </a:rPr>
              <a:t>cor pulmonale</a:t>
            </a:r>
            <a:r>
              <a:rPr b="0" lang="pl-PL" sz="2800" spc="-1" strike="noStrike">
                <a:solidFill>
                  <a:srgbClr val="ffffcc"/>
                </a:solidFill>
                <a:latin typeface="Arial Unicode MS"/>
              </a:rPr>
              <a:t> PaO</a:t>
            </a:r>
            <a:r>
              <a:rPr b="0" lang="pl-PL" sz="2800" spc="-1" strike="noStrike" baseline="-25000">
                <a:solidFill>
                  <a:srgbClr val="ffffcc"/>
                </a:solidFill>
                <a:latin typeface="Arial Unicode MS"/>
              </a:rPr>
              <a:t>2</a:t>
            </a:r>
            <a:r>
              <a:rPr b="0" lang="pl-PL" sz="2800" spc="-1" strike="noStrike">
                <a:solidFill>
                  <a:srgbClr val="ffffcc"/>
                </a:solidFill>
                <a:latin typeface="Arial Unicode MS"/>
              </a:rPr>
              <a:t>&lt;60mmHg, SaO</a:t>
            </a:r>
            <a:r>
              <a:rPr b="0" lang="pl-PL" sz="2800" spc="-1" strike="noStrike" baseline="-25000">
                <a:solidFill>
                  <a:srgbClr val="ffffcc"/>
                </a:solidFill>
                <a:latin typeface="Arial Unicode MS"/>
              </a:rPr>
              <a:t>2</a:t>
            </a:r>
            <a:r>
              <a:rPr b="0" lang="pl-PL" sz="2800" spc="-1" strike="noStrike">
                <a:solidFill>
                  <a:srgbClr val="ffffcc"/>
                </a:solidFill>
                <a:latin typeface="Arial Unicode MS"/>
              </a:rPr>
              <a:t>&gt;89%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50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50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Arial Unicode MS"/>
              </a:rPr>
              <a:t>W specjalnych sytuacjach</a:t>
            </a:r>
            <a:r>
              <a:rPr b="0" lang="pl-PL" sz="2800" spc="-1" strike="noStrike">
                <a:solidFill>
                  <a:srgbClr val="ffffcc"/>
                </a:solidFill>
                <a:latin typeface="Arial Unicode MS"/>
              </a:rPr>
              <a:t> np. </a:t>
            </a:r>
            <a:r>
              <a:rPr b="0" i="1" lang="pl-PL" sz="2800" spc="-1" strike="noStrike">
                <a:solidFill>
                  <a:srgbClr val="ffffcc"/>
                </a:solidFill>
                <a:latin typeface="Arial Unicode MS"/>
              </a:rPr>
              <a:t>sleep apnea</a:t>
            </a:r>
            <a:r>
              <a:rPr b="0" lang="pl-PL" sz="2800" spc="-1" strike="noStrike">
                <a:solidFill>
                  <a:srgbClr val="ffffcc"/>
                </a:solidFill>
                <a:latin typeface="Arial Unicode MS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Arial Unicode MS"/>
              </a:rPr>
              <a:t>z nocną desaturacją nie poddającą się korekcie poprzez CPAP (</a:t>
            </a:r>
            <a:r>
              <a:rPr b="0" i="1" lang="pl-PL" sz="2800" spc="-1" strike="noStrike">
                <a:solidFill>
                  <a:srgbClr val="ffffcc"/>
                </a:solidFill>
                <a:latin typeface="Arial Unicode MS"/>
              </a:rPr>
              <a:t>continous positive airway pressure</a:t>
            </a:r>
            <a:r>
              <a:rPr b="0" lang="pl-PL" sz="2800" spc="-1" strike="noStrike">
                <a:solidFill>
                  <a:srgbClr val="ffffcc"/>
                </a:solidFill>
                <a:latin typeface="Arial Unicode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38088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990720" y="30492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106668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1447920"/>
            <a:ext cx="76320" cy="32763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76520" y="1531800"/>
            <a:ext cx="34272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76520" y="2622600"/>
            <a:ext cx="34272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206960"/>
            <a:ext cx="34272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-38880" y="658332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 Unicode MS"/>
              </a:rPr>
              <a:t>E-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Arial"/>
              </a:rPr>
              <a:t>Global Inititive for Chronic Obstructive Lung Disease (GOLD)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62920" y="5715000"/>
            <a:ext cx="24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Unicode MS"/>
              </a:rPr>
              <a:t>200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8088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990720" y="45720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21932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1828800"/>
            <a:ext cx="342720" cy="12193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33640" y="1676520"/>
            <a:ext cx="85680" cy="3504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419720"/>
            <a:ext cx="34272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70320" y="1905120"/>
            <a:ext cx="821988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Arial Unicode MS"/>
              </a:rPr>
              <a:t>National Heart, Lung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Arial Unicode MS"/>
              </a:rPr>
              <a:t>and Blood Institute (NHLB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Arial Unicode MS"/>
              </a:rPr>
              <a:t>Światowa Organizacja Zdrow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38880" y="6583320"/>
            <a:ext cx="14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1"/>
              </a:rPr>
              <a:t>E-</a:t>
            </a: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2"/>
              </a:rPr>
              <a:t>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6172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Arial"/>
              </a:rPr>
              <a:t>Wskazania do opieki specjalistycznej w POChP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18960" y="3352680"/>
            <a:ext cx="3886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erapeutycz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77120" y="5791320"/>
            <a:ext cx="30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BTS 199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3320" y="380880"/>
            <a:ext cx="91728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990720" y="30492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106668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19120" y="1756080"/>
            <a:ext cx="5961240" cy="13136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Arial Unicode MS"/>
              </a:rPr>
              <a:t>Wiek &lt; 40 r.ż., rodzinna rozedma przedwczesn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Arial Unicode MS"/>
              </a:rPr>
              <a:t>częste infekcje dla wykluczenia rozstrzeni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Arial Unicode MS"/>
              </a:rPr>
              <a:t>niewspółmierność symptomów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Arial Unicode MS"/>
              </a:rPr>
              <a:t>i wyników badań czynnośćiowy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27880" y="114300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Diagnostycz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4097520"/>
            <a:ext cx="5791320" cy="1965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Arial Unicode MS"/>
              </a:rPr>
              <a:t>Ciężkie POChP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Arial Unicode MS"/>
              </a:rPr>
              <a:t>początek </a:t>
            </a:r>
            <a:r>
              <a:rPr b="0" i="1" lang="pl-PL" sz="2000" spc="-1" strike="noStrike">
                <a:solidFill>
                  <a:srgbClr val="ffffcc"/>
                </a:solidFill>
                <a:latin typeface="Arial Unicode MS"/>
              </a:rPr>
              <a:t>cor pulmonale</a:t>
            </a:r>
            <a:r>
              <a:rPr b="0" lang="pl-PL" sz="2000" spc="-1" strike="noStrike">
                <a:solidFill>
                  <a:srgbClr val="ffffcc"/>
                </a:solidFill>
                <a:latin typeface="Arial Unicode MS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Arial Unicode MS"/>
              </a:rPr>
              <a:t>wskazania do tlenoterapii lub nebulizacji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Arial Unicode MS"/>
              </a:rPr>
              <a:t>zasadność leczenia steroidami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Arial Unicode MS"/>
              </a:rPr>
              <a:t>pęcherze rozedmowe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Arial Unicode MS"/>
              </a:rPr>
              <a:t>gwałtowna dynamika FEV</a:t>
            </a:r>
            <a:r>
              <a:rPr b="0" lang="pl-PL" sz="2000" spc="-1" strike="noStrike" baseline="-25000">
                <a:solidFill>
                  <a:srgbClr val="ffffcc"/>
                </a:solidFill>
                <a:latin typeface="Arial Unicode MS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38880" y="658332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 Unicode MS"/>
              </a:rPr>
              <a:t>E-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66"/>
                </a:solidFill>
                <a:latin typeface="Arial Unicode MS"/>
              </a:rPr>
              <a:t>Czynniki ryzyka zabiegów operacyjnych w POChP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8120" y="12952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Choroba </a:t>
            </a:r>
            <a:r>
              <a:rPr b="0" i="1" lang="en-US" sz="2400" spc="-1" strike="noStrike">
                <a:solidFill>
                  <a:srgbClr val="ffffcc"/>
                </a:solidFill>
                <a:latin typeface="Arial Unicode MS"/>
              </a:rPr>
              <a:t>per 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Palenie papierosów, zwłaszcza &gt;10/dob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Niedawna infekc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Czas znieczulenia &gt;4 godz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Znieczulenie ogólne i rdzeniowe - gorzej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niż nadoponowe lub miejsco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15238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0" indent="-9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860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990720" y="30492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2120" y="106668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00200" y="1295280"/>
            <a:ext cx="76320" cy="2667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1434960"/>
            <a:ext cx="342720" cy="312840"/>
          </a:xfrm>
          <a:prstGeom prst="rightArrow">
            <a:avLst>
              <a:gd name="adj1" fmla="val 50000"/>
              <a:gd name="adj2" fmla="val 27388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9000" y="4495680"/>
            <a:ext cx="6787440" cy="17564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ffff"/>
                </a:solidFill>
                <a:uFillTx/>
                <a:latin typeface="Arial Unicode MS"/>
              </a:rPr>
              <a:t>Uwaga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ffff"/>
                </a:solidFill>
                <a:latin typeface="Arial Unicode MS"/>
              </a:rPr>
              <a:t>FEV</a:t>
            </a:r>
            <a:r>
              <a:rPr b="0" lang="pl-PL" sz="2000" spc="-1" strike="noStrike" baseline="-25000">
                <a:solidFill>
                  <a:srgbClr val="00ffff"/>
                </a:solidFill>
                <a:latin typeface="Arial Unicode MS"/>
              </a:rPr>
              <a:t>1 </a:t>
            </a:r>
            <a:r>
              <a:rPr b="0" lang="pl-PL" sz="2000" spc="-1" strike="noStrike">
                <a:solidFill>
                  <a:srgbClr val="00ffff"/>
                </a:solidFill>
                <a:latin typeface="Arial Unicode MS"/>
              </a:rPr>
              <a:t>nie koreluje z ryzykiem okołooperacyjnym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ffff"/>
                </a:solidFill>
                <a:latin typeface="Arial Unicode MS"/>
              </a:rPr>
              <a:t>ale przed zabiegiem zawsze konieczna spirometr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ffff"/>
                </a:solidFill>
                <a:latin typeface="Arial Unicode MS"/>
              </a:rPr>
              <a:t>dla optymalizacji postępowania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ffff"/>
                </a:solidFill>
                <a:latin typeface="Arial Unicode MS"/>
              </a:rPr>
              <a:t>0,8 l/s uważane jest za dolną granicę tolerancji zabieg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76520" y="1981080"/>
            <a:ext cx="342720" cy="312840"/>
          </a:xfrm>
          <a:prstGeom prst="rightArrow">
            <a:avLst>
              <a:gd name="adj1" fmla="val 50000"/>
              <a:gd name="adj2" fmla="val 27388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2438280"/>
            <a:ext cx="342720" cy="312840"/>
          </a:xfrm>
          <a:prstGeom prst="rightArrow">
            <a:avLst>
              <a:gd name="adj1" fmla="val 50000"/>
              <a:gd name="adj2" fmla="val 27388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76520" y="2971800"/>
            <a:ext cx="342720" cy="312840"/>
          </a:xfrm>
          <a:prstGeom prst="rightArrow">
            <a:avLst>
              <a:gd name="adj1" fmla="val 50000"/>
              <a:gd name="adj2" fmla="val 27388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76520" y="3505320"/>
            <a:ext cx="342720" cy="312480"/>
          </a:xfrm>
          <a:prstGeom prst="rightArrow">
            <a:avLst>
              <a:gd name="adj1" fmla="val 50000"/>
              <a:gd name="adj2" fmla="val 27419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38880" y="658332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 Unicode MS"/>
              </a:rPr>
              <a:t>E-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cc66"/>
                </a:solidFill>
                <a:latin typeface="Arial"/>
              </a:rPr>
              <a:t>Kortykosteroidy wziewne w POChP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00240" y="167652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 Unicode MS"/>
              </a:rPr>
              <a:t>EUROSCOP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 Unicode MS"/>
              </a:rPr>
              <a:t>(N = 127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 Unicode MS"/>
              </a:rPr>
              <a:t>Badan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 Unicode MS"/>
              </a:rPr>
              <a:t>Kopenhaskie</a:t>
            </a: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Arial Unicode MS"/>
              </a:rPr>
              <a:t>1999</a:t>
            </a: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 Unicode MS"/>
              </a:rPr>
              <a:t>(N = 29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 Unicode MS"/>
              </a:rPr>
              <a:t>ISOLDE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000840" y="434340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38088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990720" y="30492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106668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711320" y="1577880"/>
            <a:ext cx="4758840" cy="12416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Niewielka poprawa FE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 Unicode MS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w pierwszych 6 miesięcy.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Nie utrzymywała się przez 3 l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80080" y="3178440"/>
            <a:ext cx="3987720" cy="875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Bez wpływu 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dynamikę FE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 Unicode MS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 przez 3 l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66400" y="4626720"/>
            <a:ext cx="4473720" cy="510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Bez wpływu na dynamikę FE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 Unicode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62520" y="1752480"/>
            <a:ext cx="761760" cy="7621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62520" y="3200400"/>
            <a:ext cx="761760" cy="7621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495680"/>
            <a:ext cx="761760" cy="7621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38880" y="658332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 Unicode MS"/>
              </a:rPr>
              <a:t>E-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66"/>
                </a:solidFill>
                <a:latin typeface="Arial Unicode MS"/>
              </a:rPr>
              <a:t>Wskazania do intensywnej terapii zaostrzeń POChP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76360" y="1523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Arial Unicode MS"/>
              </a:rPr>
              <a:t>Ciężka duszność bez reakcji na doraźne leczenie rozkurczow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Arial Unicode MS"/>
              </a:rPr>
              <a:t>Zaburzenia świadomości, śpiącz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Arial Unicode MS"/>
              </a:rPr>
              <a:t>Hypoksemia &lt; 50 mmHg, hyperkapnia &gt;70mmHg, kwasi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38088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990720" y="30492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2120" y="106668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52480" y="1440000"/>
            <a:ext cx="76320" cy="4114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28800" y="152388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28800" y="320040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28800" y="441972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-38880" y="658332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 Unicode MS"/>
              </a:rPr>
              <a:t>E-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0980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cc66"/>
                </a:solidFill>
                <a:latin typeface="Arial"/>
              </a:rPr>
              <a:t>Wskazania do hospitalizacji chorych na POChP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819160" y="12952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Nagłe wystąpienie spoczynkowej dusznoś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Zaostrzenia ciężkiej POCh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Sinica, obrzę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Niedostateczna reakcja na lecze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Poważne choroby współistniejące lub powikła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Pojawienie się zaburzeń rytmu se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Podeszły wiek chore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Niewłaściwa opieka w do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38088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990720" y="30492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106668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95280" y="1295280"/>
            <a:ext cx="76320" cy="4114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371600" y="13795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19051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24382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2895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71600" y="34290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3886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44197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49528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-38880" y="658332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 Unicode MS"/>
              </a:rPr>
              <a:t>E-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514600" y="1523880"/>
            <a:ext cx="67057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Wentylacja nieinwazyj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Nieinwazyjna wentylacja mechaniczna z przerywanym ciśnieniem dodatnim (NIPP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Wentylacja mechaniczna inwazyj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" y="38088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990720" y="30492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106668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52480" y="1440000"/>
            <a:ext cx="76320" cy="4655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8800" y="152388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28800" y="297180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541008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 Unicode MS"/>
              </a:rPr>
              <a:t>Wspomaganie wentylacj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-38880" y="658332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 Unicode MS"/>
              </a:rPr>
              <a:t>E-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Wskazania do wentylacji inwazyjnej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0" y="12952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75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 Unicode MS"/>
              </a:rPr>
              <a:t>Widoczna praca mięśni oddechowych, paradoksalne ruchy oddechowe brzuch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5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 Unicode MS"/>
              </a:rPr>
              <a:t>Tachypnoe &gt; 35/m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5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 Unicode MS"/>
              </a:rPr>
              <a:t>Hypoksemia &lt; 40mmHg, hyperkapnia &gt; 60mmHg, </a:t>
            </a:r>
            <a:br>
              <a:rPr sz="2400"/>
            </a:br>
            <a:r>
              <a:rPr b="0" lang="pl-PL" sz="2400" spc="-1" strike="noStrike">
                <a:solidFill>
                  <a:srgbClr val="ffffcc"/>
                </a:solidFill>
                <a:latin typeface="Arial Unicode MS"/>
              </a:rPr>
              <a:t>pH &lt; 7,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5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 Unicode MS"/>
              </a:rPr>
              <a:t>Zatrzymanie oddec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5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 Unicode MS"/>
              </a:rPr>
              <a:t>Zaburzenia świadomoś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5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 Unicode MS"/>
              </a:rPr>
              <a:t>Podciśnienie tętnicze, wstrzą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5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 Unicode MS"/>
              </a:rPr>
              <a:t>Nieskuteczność NIPP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5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 Unicode MS"/>
              </a:rPr>
              <a:t>Ciężkie, nagłe powikłania (np. zator płucn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38088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990720" y="30492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120" y="106668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0" y="1295280"/>
            <a:ext cx="76320" cy="5029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47920" y="13795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7920" y="23623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851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38098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447920" y="43117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47920" y="48006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47920" y="53341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58672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-38880" y="658332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 Unicode MS"/>
              </a:rPr>
              <a:t>E-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112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"/>
              </a:rPr>
              <a:t>Wskazania do NIPPV w POCh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580920" y="16002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3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Arial Unicode MS"/>
              </a:rPr>
              <a:t>Umiarkowana lub ciężka dusznoś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3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3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Arial Unicode MS"/>
              </a:rPr>
              <a:t>Kwasica pH &lt; 7,35, </a:t>
            </a:r>
            <a:br>
              <a:rPr sz="3200"/>
            </a:br>
            <a:r>
              <a:rPr b="0" lang="pl-PL" sz="3200" spc="-1" strike="noStrike">
                <a:solidFill>
                  <a:srgbClr val="ffffcc"/>
                </a:solidFill>
                <a:latin typeface="Arial Unicode MS"/>
              </a:rPr>
              <a:t> hyperkapnia &gt; 45 mmH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3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3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Arial Unicode MS"/>
              </a:rPr>
              <a:t>Tachypnoe &gt; 25/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57440" y="5410080"/>
            <a:ext cx="59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 Unicode MS"/>
              </a:rPr>
              <a:t>Konieczne 2 lub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38088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990720" y="30492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2120" y="106668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1440000"/>
            <a:ext cx="76320" cy="3665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28800" y="154764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28800" y="274320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28800" y="44197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-38880" y="658332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 Unicode MS"/>
              </a:rPr>
              <a:t>E-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7112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Kiedy wypisać chorego ze szpital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438280" y="1447920"/>
            <a:ext cx="738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82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Betamimetyk krótkodziałający nie częściej niż co 4 godzi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2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Chory samodzielnie spożywa posiłki, spaceruje po pokoj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2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Stabilizacja objawów od 24.godz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2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Pełny kontakt psychiczny i intelektualny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z chorym i jego opiekun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2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Rodzina i lekarz POZ wyedukowani, akceptują chorobę i stan klinicz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5800" y="38088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990720" y="30492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2120" y="106668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371600" y="1447920"/>
            <a:ext cx="76320" cy="4267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15606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47920" y="25909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47920" y="36259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47920" y="4146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447920" y="5181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-38880" y="658332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 Unicode MS"/>
              </a:rPr>
              <a:t>E-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854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izyta kontrolna po hospitalizacj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2000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Nie później niż po 6 tygodni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Ocena stabilizacji objaw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Pomiar FE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 Unicode MS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Ocena stopnia świadomoś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Ocena techniki wziewa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Modyfikacje terap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" y="38088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990720" y="30492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2120" y="106668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3880" y="1676520"/>
            <a:ext cx="76320" cy="3962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00200" y="171288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00200" y="238608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600200" y="30481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00200" y="37497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44355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512928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-38880" y="658332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 Unicode MS"/>
              </a:rPr>
              <a:t>E-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38088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990720" y="45720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21932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1338120"/>
            <a:ext cx="8382240" cy="51674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 Unicode MS"/>
              </a:rPr>
              <a:t>Przewlekła obturacyjna choroba płuc (POChP)</a:t>
            </a:r>
            <a:r>
              <a:rPr b="0" lang="pl-PL" sz="24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Arial Unicode MS"/>
              </a:rPr>
              <a:t>jest chorobą charakteryzującą się niecałkowicie odwracalnym ograniczeniem przepływu powietrza przez drogi oddechow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Arial Unicode MS"/>
              </a:rPr>
              <a:t>Ograniczenie to jest zwykle postępujące i wiąże się </a:t>
            </a:r>
            <a:br>
              <a:rPr sz="2400"/>
            </a:br>
            <a:r>
              <a:rPr b="1" lang="pl-PL" sz="2400" spc="-1" strike="noStrike">
                <a:solidFill>
                  <a:srgbClr val="ffffcc"/>
                </a:solidFill>
                <a:latin typeface="Arial Unicode MS"/>
              </a:rPr>
              <a:t>z nieprawidłową odpowiedzią zapalną płuc na szkodliwe</a:t>
            </a:r>
            <a:br>
              <a:rPr sz="2400"/>
            </a:br>
            <a:r>
              <a:rPr b="1" lang="pl-PL" sz="2400" spc="-1" strike="noStrike">
                <a:solidFill>
                  <a:srgbClr val="ffffcc"/>
                </a:solidFill>
                <a:latin typeface="Arial Unicode MS"/>
              </a:rPr>
              <a:t>gazy lub pył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ffcc66"/>
                </a:solidFill>
                <a:latin typeface="Arial Unicode MS"/>
              </a:rPr>
              <a:t>Definicja POChP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880" y="6583320"/>
            <a:ext cx="14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1"/>
              </a:rPr>
              <a:t>E-</a:t>
            </a: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2"/>
              </a:rPr>
              <a:t>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"/>
              </a:rPr>
              <a:t>Klasyfikacja ciężkości POCh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40972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6019920"/>
            <a:ext cx="78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* Kaszel, odkrztuszanie tak lub 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8088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990720" y="45720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121932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45320" y="1943280"/>
            <a:ext cx="2184840" cy="45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0 (zagrożen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37400" y="3051360"/>
            <a:ext cx="1462320" cy="45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I (lekka)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630600"/>
            <a:ext cx="2581200" cy="825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II (umiarkowana)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63480"/>
            <a:ext cx="4952880" cy="119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 Unicode MS"/>
              </a:rPr>
              <a:t>Przewlekły kaszel lub odkrztuszanie, spirometria </a:t>
            </a:r>
            <a:br>
              <a:rPr sz="2400"/>
            </a:br>
            <a:r>
              <a:rPr b="0" lang="pl-PL" sz="2400" spc="-1" strike="noStrike">
                <a:solidFill>
                  <a:srgbClr val="ffffcc"/>
                </a:solidFill>
                <a:latin typeface="Arial Unicode MS"/>
              </a:rPr>
              <a:t>w norm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92600" y="3026520"/>
            <a:ext cx="4700520" cy="510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Unicode MS"/>
              </a:rPr>
              <a:t>FEV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Arial Unicode MS"/>
              </a:rPr>
              <a:t>1</a:t>
            </a:r>
            <a:r>
              <a:rPr b="1" lang="en-US" sz="2400" spc="-1" strike="noStrike">
                <a:solidFill>
                  <a:srgbClr val="ffffcc"/>
                </a:solidFill>
                <a:latin typeface="Arial Unicode MS"/>
              </a:rPr>
              <a:t> &gt; 80 % N, FEV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Arial Unicode MS"/>
              </a:rPr>
              <a:t>1</a:t>
            </a:r>
            <a:r>
              <a:rPr b="1" lang="en-US" sz="2400" spc="-1" strike="noStrike">
                <a:solidFill>
                  <a:srgbClr val="ffffcc"/>
                </a:solidFill>
                <a:latin typeface="Arial Unicode MS"/>
              </a:rPr>
              <a:t>/FVC &lt; 70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95840" y="3788280"/>
            <a:ext cx="4779720" cy="510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Unicode MS"/>
              </a:rPr>
              <a:t>FEV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Arial Unicode MS"/>
              </a:rPr>
              <a:t>1</a:t>
            </a:r>
            <a:r>
              <a:rPr b="1" lang="en-US" sz="2400" spc="-1" strike="noStrike">
                <a:solidFill>
                  <a:srgbClr val="ffffcc"/>
                </a:solidFill>
                <a:latin typeface="Arial Unicode MS"/>
              </a:rPr>
              <a:t>/FVC&lt;70%, FEV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Arial Unicode MS"/>
              </a:rPr>
              <a:t>1</a:t>
            </a:r>
            <a:r>
              <a:rPr b="1" lang="en-US" sz="2400" spc="-1" strike="noStrike">
                <a:solidFill>
                  <a:srgbClr val="ffffcc"/>
                </a:solidFill>
                <a:latin typeface="Arial Unicode MS"/>
              </a:rPr>
              <a:t>&lt;80%,&gt;3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12960" y="4499280"/>
            <a:ext cx="637920" cy="45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II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4680" y="5185080"/>
            <a:ext cx="654840" cy="45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II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69600" y="5159880"/>
            <a:ext cx="1613160" cy="510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Unicode MS"/>
              </a:rPr>
              <a:t>FEV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Arial Unicode MS"/>
              </a:rPr>
              <a:t>1</a:t>
            </a:r>
            <a:r>
              <a:rPr b="1" lang="en-US" sz="2400" spc="-1" strike="noStrike">
                <a:solidFill>
                  <a:srgbClr val="ffffcc"/>
                </a:solidFill>
                <a:latin typeface="Arial Unicode MS"/>
              </a:rPr>
              <a:t>&lt;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69600" y="4474080"/>
            <a:ext cx="1613160" cy="510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Unicode MS"/>
              </a:rPr>
              <a:t>FEV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Arial Unicode MS"/>
              </a:rPr>
              <a:t>1</a:t>
            </a:r>
            <a:r>
              <a:rPr b="1" lang="en-US" sz="2400" spc="-1" strike="noStrike">
                <a:solidFill>
                  <a:srgbClr val="ffffcc"/>
                </a:solidFill>
                <a:latin typeface="Arial Unicode MS"/>
              </a:rPr>
              <a:t>&gt;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1523880"/>
            <a:ext cx="457200" cy="12956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3048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38098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44956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51814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38880" y="6583320"/>
            <a:ext cx="14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1"/>
              </a:rPr>
              <a:t>E-</a:t>
            </a: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2"/>
              </a:rPr>
              <a:t>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38088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990720" y="45720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21932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78720" y="3127680"/>
            <a:ext cx="1628640" cy="45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III (ciężk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2642040"/>
            <a:ext cx="5257800" cy="1671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FE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 Unicode MS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/FVC&lt;7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FE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 Unicode MS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&lt; 30% </a:t>
            </a:r>
            <a:br>
              <a:rPr sz="2800"/>
            </a:br>
            <a:r>
              <a:rPr b="0" lang="en-US" sz="1800" spc="-1" strike="noStrike">
                <a:solidFill>
                  <a:srgbClr val="ffffcc"/>
                </a:solidFill>
                <a:latin typeface="Arial Unicode MS"/>
              </a:rPr>
              <a:t>lub &lt; 50%+niewydolność oddechowa lub krąże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2743200"/>
            <a:ext cx="457200" cy="12952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cc66"/>
                </a:solidFill>
                <a:latin typeface="Arial"/>
              </a:rPr>
              <a:t>Klasyfikacja ciężkości POChP – c.d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38880" y="6583320"/>
            <a:ext cx="14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1"/>
              </a:rPr>
              <a:t>E-</a:t>
            </a: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2"/>
              </a:rPr>
              <a:t>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Kryteria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niecałkowitej odwracalności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przepływu powietrza przez drogi oddechow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00200" y="2286000"/>
            <a:ext cx="7686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1b1b"/>
                </a:solidFill>
                <a:latin typeface="Arial Unicode MS"/>
              </a:rPr>
              <a:t>Po leku rozkurczającym oskrzel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Arial Unicode MS"/>
              </a:rPr>
              <a:t>FEV</a:t>
            </a:r>
            <a:r>
              <a:rPr b="0" lang="en-US" sz="4000" spc="-1" strike="noStrike" baseline="-25000">
                <a:solidFill>
                  <a:srgbClr val="ffffcc"/>
                </a:solidFill>
                <a:latin typeface="Arial Unicode MS"/>
              </a:rPr>
              <a:t>1</a:t>
            </a:r>
            <a:r>
              <a:rPr b="0" lang="en-US" sz="4000" spc="-1" strike="noStrike">
                <a:solidFill>
                  <a:srgbClr val="ffffcc"/>
                </a:solidFill>
                <a:latin typeface="Arial Unicode MS"/>
              </a:rPr>
              <a:t> &lt; 80%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Arial Unicode MS"/>
              </a:rPr>
              <a:t>FEV</a:t>
            </a:r>
            <a:r>
              <a:rPr b="0" lang="en-US" sz="4000" spc="-1" strike="noStrike" baseline="-25000">
                <a:solidFill>
                  <a:srgbClr val="ffffcc"/>
                </a:solidFill>
                <a:latin typeface="Arial Unicode MS"/>
              </a:rPr>
              <a:t>1</a:t>
            </a:r>
            <a:r>
              <a:rPr b="0" lang="en-US" sz="4000" spc="-1" strike="noStrike">
                <a:solidFill>
                  <a:srgbClr val="ffffcc"/>
                </a:solidFill>
                <a:latin typeface="Arial Unicode MS"/>
              </a:rPr>
              <a:t>/FVC &lt; 70%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243828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941400"/>
            <a:ext cx="88675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990720" y="45720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220968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23960" y="3733920"/>
            <a:ext cx="343080" cy="761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3581280"/>
            <a:ext cx="85680" cy="2590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23960" y="5181480"/>
            <a:ext cx="343080" cy="7621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38880" y="6583320"/>
            <a:ext cx="14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1"/>
              </a:rPr>
              <a:t>E-</a:t>
            </a: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2"/>
              </a:rPr>
              <a:t>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09680" y="16765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Unicode MS"/>
              </a:rPr>
              <a:t>Ocena i monitorowan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Unicode MS"/>
              </a:rPr>
              <a:t>Eliminowanie czynników ryzyk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Unicode MS"/>
              </a:rPr>
              <a:t>Leczenie stabilnej chorob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Unicode MS"/>
              </a:rPr>
              <a:t>Leczenie zaostrze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8088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990720" y="45720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21932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1981080"/>
            <a:ext cx="34272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0840" y="1905120"/>
            <a:ext cx="85680" cy="4038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2971800"/>
            <a:ext cx="34272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4038480"/>
            <a:ext cx="34272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5105520"/>
            <a:ext cx="34272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 Unicode MS"/>
              </a:rPr>
              <a:t>Postępowanie w POCh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38880" y="6583320"/>
            <a:ext cx="14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1"/>
              </a:rPr>
              <a:t>E-</a:t>
            </a: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2"/>
              </a:rPr>
              <a:t>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09680" y="137160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Zahamowanie postępu choro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Łagodzenie objaw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Poprawa tolerancji wysił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Poprawa stanu ogólne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Zapobieganie i leczenie powikła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Zapobieganie i leczenie zaostrze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Zmniejszenie śmiertelnoś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38088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990720" y="45720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121932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85880" y="1515960"/>
            <a:ext cx="34308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1447920"/>
            <a:ext cx="76320" cy="4800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84440" y="2209680"/>
            <a:ext cx="34272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84440" y="2895480"/>
            <a:ext cx="34272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84440" y="3581280"/>
            <a:ext cx="34272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84440" y="4267080"/>
            <a:ext cx="34272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84440" y="4929120"/>
            <a:ext cx="34272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5638680"/>
            <a:ext cx="34272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 Unicode MS"/>
              </a:rPr>
              <a:t>Cele leczenia w POCh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38880" y="6583320"/>
            <a:ext cx="14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1"/>
              </a:rPr>
              <a:t>E-</a:t>
            </a: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2"/>
              </a:rPr>
              <a:t>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00001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410080" y="396360"/>
            <a:ext cx="4264200" cy="5247360"/>
          </a:xfrm>
          <a:prstGeom prst="irregularSeal1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57200"/>
            <a:ext cx="9172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990720" y="457200"/>
            <a:ext cx="0" cy="5943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219320"/>
            <a:ext cx="87627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80360"/>
            <a:ext cx="3655800" cy="5247360"/>
          </a:xfrm>
          <a:prstGeom prst="irregularSeal1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96880" y="2438280"/>
            <a:ext cx="188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Edukac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1931400"/>
            <a:ext cx="5710320" cy="5247360"/>
          </a:xfrm>
          <a:prstGeom prst="irregularSeal1">
            <a:avLst/>
          </a:prstGeom>
          <a:gradFill rotWithShape="0">
            <a:gsLst>
              <a:gs pos="0">
                <a:srgbClr val="003366"/>
              </a:gs>
              <a:gs pos="100000">
                <a:srgbClr val="001b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23623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Betamimetyk</a:t>
            </a:r>
            <a:r>
              <a:rPr b="0" lang="en-US" sz="3600" spc="-1" strike="noStrike">
                <a:solidFill>
                  <a:srgbClr val="ffffcc"/>
                </a:solidFill>
                <a:latin typeface="Arial Unicode M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 Unicode MS"/>
              </a:rPr>
              <a:t>na żądani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3120" y="4038480"/>
            <a:ext cx="419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Eliminacja czynników ryzy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Szczepienie przeciw gryp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 Unicode MS"/>
              </a:rPr>
              <a:t>Leczenie POChP – postać lek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38880" y="6583320"/>
            <a:ext cx="14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1"/>
              </a:rPr>
              <a:t>E-</a:t>
            </a:r>
            <a:r>
              <a:rPr b="0" lang="pl-PL" sz="1200" spc="-1" strike="noStrike" u="sng">
                <a:solidFill>
                  <a:srgbClr val="ff0033"/>
                </a:solidFill>
                <a:uFillTx/>
                <a:latin typeface="Arial Unicode MS"/>
                <a:hlinkClick r:id="rId2"/>
              </a:rPr>
              <a:t>mail the Auth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31T04:09:32Z</dcterms:created>
  <dc:creator>Pawel Gorski</dc:creator>
  <dc:description/>
  <dc:language>en-US</dc:language>
  <cp:lastModifiedBy>Radosław Zajdel</cp:lastModifiedBy>
  <dcterms:modified xsi:type="dcterms:W3CDTF">2001-11-12T16:30:48Z</dcterms:modified>
  <cp:revision>145</cp:revision>
  <dc:subject/>
  <dc:title>Bez tytułu slajdu</dc:title>
</cp:coreProperties>
</file>