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hyperlink" Target="mailto:pawel.gorski@pta.med.pl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pawel.gorski@pta.med.pl" TargetMode="External"/><Relationship Id="rId3" Type="http://schemas.openxmlformats.org/officeDocument/2006/relationships/hyperlink" Target="mailto:pawel.gorski@pta.med.pl" TargetMode="Externa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cc"/>
                </a:solidFill>
                <a:latin typeface="Penguin"/>
              </a:rPr>
              <a:t>Mechanizmy swoistej immunoterapii alergii</a:t>
            </a:r>
            <a:br>
              <a:rPr sz="8200"/>
            </a:br>
            <a:endParaRPr b="0" lang="en-US" sz="82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61760" y="4038120"/>
            <a:ext cx="8762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Paweł Górsk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ff"/>
                </a:solidFill>
                <a:latin typeface="Tahoma"/>
              </a:rPr>
              <a:t>Akademia Medyczna w Łodzi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657600"/>
            <a:ext cx="8915400" cy="27432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219320"/>
            <a:ext cx="8915400" cy="20574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295280"/>
            <a:ext cx="852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ptymalny czas immunoterapii nie jest znany. W praktyce trwa ona 3-5 lat, lecz wielu badaczy zaleca znacznie dłuższe okresy leczenia, nawet przez całe ży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ecyzja o zaprzestaniu terapii na owady może zapaść tylko w odniesieniu do symptomów u indywidualnego pacjenta po okresie nie krótszym niż 3-5 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HO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Immunoterapia - Synopsis (3)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8120" y="4419720"/>
            <a:ext cx="1904760" cy="137160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952880"/>
            <a:ext cx="1905120" cy="137160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4114800"/>
            <a:ext cx="1905120" cy="137160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2400" y="3962520"/>
            <a:ext cx="1905120" cy="167616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1828800"/>
            <a:ext cx="2743200" cy="220968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828800"/>
            <a:ext cx="2286000" cy="220968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523880"/>
            <a:ext cx="2438640" cy="190512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enguin"/>
              </a:rPr>
              <a:t>Markery skutecznej immunoterapii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90" name=""/>
          <p:cNvSpPr/>
          <p:nvPr/>
        </p:nvSpPr>
        <p:spPr>
          <a:xfrm>
            <a:off x="746280" y="1752480"/>
            <a:ext cx="2187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4000" spc="-1" strike="noStrike">
                <a:solidFill>
                  <a:srgbClr val="ffffcc"/>
                </a:solidFill>
                <a:latin typeface="Tahoma"/>
              </a:rPr>
              <a:t>IgG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(głównie IgG</a:t>
            </a:r>
            <a:r>
              <a:rPr b="0" lang="pl-PL" sz="2400" spc="-1" strike="noStrike" baseline="-25000">
                <a:solidFill>
                  <a:srgbClr val="ffffcc"/>
                </a:solidFill>
                <a:latin typeface="Tahoma"/>
              </a:rPr>
              <a:t>4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4160" y="2209680"/>
            <a:ext cx="226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CD8</a:t>
            </a:r>
            <a:r>
              <a:rPr b="0" lang="pl-PL" sz="3200" spc="-1" strike="noStrike" baseline="30000">
                <a:solidFill>
                  <a:srgbClr val="ffffcc"/>
                </a:solidFill>
                <a:latin typeface="Tahoma"/>
              </a:rPr>
              <a:t>+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modulując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rodukcję 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5520" y="4495680"/>
            <a:ext cx="16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L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15520" y="4876920"/>
            <a:ext cx="163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FN-</a:t>
            </a:r>
            <a:r>
              <a:rPr b="0" lang="en-US" sz="32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70320" y="5334120"/>
            <a:ext cx="164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L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82680" y="2362320"/>
            <a:ext cx="288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Redukcja licz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komórek tucz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i eozynof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36560" y="4343400"/>
            <a:ext cx="162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L-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L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3124080"/>
            <a:ext cx="8915400" cy="20574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120" y="990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enguin"/>
              </a:rPr>
              <a:t>Mechanizm docelowy swoistej immunoterapii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00" name=""/>
          <p:cNvSpPr/>
          <p:nvPr/>
        </p:nvSpPr>
        <p:spPr>
          <a:xfrm>
            <a:off x="2345400" y="3200400"/>
            <a:ext cx="572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cc"/>
                </a:solidFill>
                <a:latin typeface="Tahoma"/>
              </a:rPr>
              <a:t>Brak swoistej odpowiedz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cc"/>
                </a:solidFill>
                <a:latin typeface="Tahoma"/>
              </a:rPr>
              <a:t>lub anergia limfocytów 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Główna zasada mechanizmu immunoterapii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057400"/>
            <a:ext cx="1905120" cy="137160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23623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1981080"/>
            <a:ext cx="3809880" cy="137160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374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Limfocyt anergicz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4038480"/>
            <a:ext cx="3810240" cy="137160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495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ekspozycja na ale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724280"/>
            <a:ext cx="4572000" cy="1371600"/>
          </a:xfrm>
          <a:prstGeom prst="ellipse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Cytokiny z mikrośrodowis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666880"/>
            <a:ext cx="2057400" cy="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416840" y="3227400"/>
            <a:ext cx="1300320" cy="93528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6240" y="3510720"/>
            <a:ext cx="610920" cy="105516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40240" y="2971800"/>
            <a:ext cx="4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08160" y="37339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0120" y="1752480"/>
            <a:ext cx="8915400" cy="2514600"/>
          </a:xfrm>
          <a:prstGeom prst="rect">
            <a:avLst/>
          </a:prstGeom>
          <a:solidFill>
            <a:srgbClr val="011e3d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0120" y="4572000"/>
            <a:ext cx="8915400" cy="15238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0120" y="1752480"/>
            <a:ext cx="8915400" cy="25146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ffcc"/>
                </a:solidFill>
                <a:latin typeface="Penguin"/>
              </a:rPr>
              <a:t>Idealny limfocyt T anergiczny</a:t>
            </a:r>
            <a:endParaRPr b="0" lang="en-US" sz="60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204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Miejsca rozpoznawcze zachowa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5745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Epitopy są konieczne dla indukcji swoistej 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tolerancj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5745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574560" indent="-574560">
              <a:lnSpc>
                <a:spcPct val="16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Miejsca wiązania IgE są unieczynnion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Następstwa ekspozycji na różne stężenia antygenu (kultury komórkowe)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190512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0000"/>
                </a:solidFill>
                <a:latin typeface="Tahoma"/>
              </a:rPr>
              <a:t>Niskie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0000"/>
                </a:solidFill>
                <a:latin typeface="Tahoma"/>
              </a:rPr>
              <a:t>Wysok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ff00"/>
                </a:solidFill>
                <a:latin typeface="Tahoma"/>
              </a:rPr>
              <a:t>IL-4</a:t>
            </a:r>
            <a:r>
              <a:rPr b="0" lang="pl-PL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pl-PL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pl-PL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ff00"/>
                </a:solidFill>
                <a:latin typeface="Tahoma"/>
              </a:rPr>
              <a:t>IFN-</a:t>
            </a:r>
            <a:r>
              <a:rPr b="0" lang="pl-PL" sz="3200" spc="-1" strike="noStrike">
                <a:solidFill>
                  <a:srgbClr val="00ff00"/>
                </a:solidFill>
                <a:latin typeface="GreekMathSymbols"/>
                <a:ea typeface="GreekMathSymbols"/>
              </a:rPr>
              <a:t></a:t>
            </a:r>
            <a:r>
              <a:rPr b="0" lang="pl-PL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   0 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pl-PL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ff00"/>
                </a:solidFill>
                <a:latin typeface="Tahoma"/>
              </a:rPr>
              <a:t>IgE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0 lub </a:t>
            </a:r>
            <a:r>
              <a:rPr b="0" lang="pl-PL" sz="20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   0 lub </a:t>
            </a:r>
            <a:r>
              <a:rPr b="0" lang="pl-PL" sz="20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w zależności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w zależnoś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od ekspresji MHC II       od ekspresji MHC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583000"/>
            <a:ext cx="853416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649680"/>
            <a:ext cx="853416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4640400"/>
            <a:ext cx="853416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1973160"/>
            <a:ext cx="0" cy="419112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1973160"/>
            <a:ext cx="0" cy="419112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Markery anergii limfocytów T </a:t>
            </a:r>
            <a:br>
              <a:rPr sz="5400"/>
            </a:b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podczas SIT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8743680" cy="37339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62040" indent="-662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Supresja proliferacj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662040" indent="-662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produkcji IL-4, IL-13, IL-5 (profil Th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662040" indent="-662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produkcji IL-2, IFN-</a:t>
            </a:r>
            <a:r>
              <a:rPr b="0" lang="pl-PL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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(profil Th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662040" indent="-66204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Odpowiedź komórkowa na toksynę błoniczną zachowana (dowód swoistości anergii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66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662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94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cc"/>
                </a:solidFill>
                <a:latin typeface="Penguin"/>
              </a:rPr>
              <a:t>Molekularne markery anergii </a:t>
            </a:r>
            <a:br>
              <a:rPr sz="4800"/>
            </a:br>
            <a:r>
              <a:rPr b="0" lang="pl-PL" sz="4800" spc="-1" strike="noStrike">
                <a:solidFill>
                  <a:srgbClr val="ffffcc"/>
                </a:solidFill>
                <a:latin typeface="Penguin"/>
              </a:rPr>
              <a:t>komórek T podczas SIT</a:t>
            </a:r>
            <a:endParaRPr b="0" lang="en-US" sz="48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915400" cy="46483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ff00"/>
                </a:solidFill>
                <a:latin typeface="Tahoma"/>
              </a:rPr>
              <a:t>Zmiany czynnościowe TCR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lvl="1" marL="76356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brak wzrostu aktywności kinaz p56</a:t>
            </a:r>
            <a:r>
              <a:rPr b="0" lang="pl-PL" sz="2800" spc="-1" strike="noStrike" baseline="30000">
                <a:solidFill>
                  <a:srgbClr val="ffffcc"/>
                </a:solidFill>
                <a:latin typeface="Tahoma"/>
              </a:rPr>
              <a:t>lck 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pl-PL" sz="2800" spc="-1" strike="noStrike" baseline="30000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ZAP70 w  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odpowiedzi na antyCD3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63560" indent="-28584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odmienność konformacji Vbeta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635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( u alergików bez SIT - </a:t>
            </a:r>
            <a:r>
              <a:rPr b="0" lang="pl-PL" sz="20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ekspresji V8b</a:t>
            </a:r>
            <a:r>
              <a:rPr b="0" lang="pl-PL" sz="2000" spc="-1" strike="noStrike" baseline="30000">
                <a:solidFill>
                  <a:srgbClr val="ffffcc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2" marL="11826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SIT  - </a:t>
            </a:r>
            <a:r>
              <a:rPr b="0" lang="pl-PL" sz="20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ekspresji V8a, V5a, V12a )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ff00"/>
                </a:solidFill>
                <a:latin typeface="Tahoma"/>
              </a:rPr>
              <a:t>Brak wzrostu stężenia Ca</a:t>
            </a:r>
            <a:r>
              <a:rPr b="0" lang="pl-PL" sz="3000" spc="-1" strike="noStrike" baseline="30000">
                <a:solidFill>
                  <a:srgbClr val="00ff00"/>
                </a:solidFill>
                <a:latin typeface="Tahoma"/>
              </a:rPr>
              <a:t>2+</a:t>
            </a:r>
            <a:r>
              <a:rPr b="0" lang="pl-PL" sz="3000" spc="-1" strike="noStrike">
                <a:solidFill>
                  <a:srgbClr val="00ff00"/>
                </a:solidFill>
                <a:latin typeface="Tahoma"/>
              </a:rPr>
              <a:t> w Th</a:t>
            </a:r>
            <a:r>
              <a:rPr b="0" lang="pl-PL" sz="3000" spc="-1" strike="noStrike" baseline="-25000">
                <a:solidFill>
                  <a:srgbClr val="00ff00"/>
                </a:solidFill>
                <a:latin typeface="Tahoma"/>
              </a:rPr>
              <a:t>2</a:t>
            </a:r>
            <a:r>
              <a:rPr b="0" lang="pl-PL" sz="3000" spc="-1" strike="noStrike">
                <a:solidFill>
                  <a:srgbClr val="00ff00"/>
                </a:solidFill>
                <a:latin typeface="Tahoma"/>
              </a:rPr>
              <a:t> w odpowiedzi na antyCD3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28600"/>
            <a:ext cx="952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82840" y="1295280"/>
            <a:ext cx="792000" cy="648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1000" y="3809880"/>
            <a:ext cx="2117880" cy="4291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+ IL-2 lub IL-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91400" y="3429000"/>
            <a:ext cx="2460600" cy="459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Antygen in vi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10880" y="2666880"/>
            <a:ext cx="3819960" cy="459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Zahamowanie prolif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280" y="4648320"/>
            <a:ext cx="2789640" cy="459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Wzrost prolifer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56160" y="5715000"/>
            <a:ext cx="2564280" cy="5814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L-2, IFN-</a:t>
            </a:r>
            <a:r>
              <a:rPr b="0" lang="en-US" sz="32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04080" y="4648320"/>
            <a:ext cx="831600" cy="4291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+IL-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427040" y="4035960"/>
            <a:ext cx="2937960" cy="139896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64640" y="4045680"/>
            <a:ext cx="3223440" cy="162720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52440" y="1630800"/>
            <a:ext cx="1877760" cy="3196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16760" y="1837440"/>
            <a:ext cx="421560" cy="63144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2590920"/>
            <a:ext cx="1447920" cy="95364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Th</a:t>
            </a:r>
            <a:r>
              <a:rPr b="0" lang="pl-PL" sz="32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a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720" y="5791320"/>
            <a:ext cx="2992680" cy="5814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L-4, IL-5, IL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51240" y="1371600"/>
            <a:ext cx="583200" cy="4291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S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62400" y="3661920"/>
            <a:ext cx="1575360" cy="1468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58128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998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Penguin"/>
              </a:rPr>
              <a:t>Reaktywacja komórek T w obecności antygenu</a:t>
            </a:r>
            <a:endParaRPr b="0" lang="en-US" sz="42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cc"/>
                </a:solidFill>
                <a:latin typeface="Penguin"/>
              </a:rPr>
              <a:t>Niektóre właściwości interleukiny 10</a:t>
            </a:r>
            <a:endParaRPr b="0" lang="en-US" sz="48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743680" cy="518184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51520" indent="-551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Źródła - Th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, Th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, mononukleary, komórki NK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Rola generalnie - regulacyjna w zapaleniu - hamowanie proliferacji Th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, Th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i produkcji cytokin o profilu Th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, Th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Hamowanie produkcji cytokin wynika z blokowania kostymulacji zależnej od CD2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Hamowanie bezpośrednie ekspresji mRNA cytoki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Hamuje syntezę IgE i powoduje wzrost produkcji IgG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enguin"/>
              </a:rPr>
              <a:t>Immunoterapia swoista</a:t>
            </a:r>
            <a:endParaRPr b="0" lang="en-US" sz="60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991720" cy="419076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4560" indent="-574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Pryncypi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74560" indent="-574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Mechanizmy ogóln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74560" indent="-574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Odpowiedź immunologiczna a stężenia antygenu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74560" indent="-574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Indukcja anergii obwodowych komórek T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745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i ich reaktywac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74560" indent="-574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Anergia komórek T a IL-10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745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enguin"/>
              </a:rPr>
              <a:t>Mechanizm immunologiczny SIT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60" name=""/>
          <p:cNvSpPr/>
          <p:nvPr/>
        </p:nvSpPr>
        <p:spPr>
          <a:xfrm>
            <a:off x="4669200" y="1600200"/>
            <a:ext cx="768960" cy="5814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438280"/>
            <a:ext cx="1130040" cy="5814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L-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21200" y="5029200"/>
            <a:ext cx="1425960" cy="4291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IL-2/IL-1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82880" y="3352680"/>
            <a:ext cx="2171160" cy="648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IgE/IgG</a:t>
            </a:r>
            <a:r>
              <a:rPr b="0" lang="pl-PL" sz="3200" spc="-1" strike="noStrike" baseline="-25000">
                <a:solidFill>
                  <a:srgbClr val="ffff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9560" y="2590920"/>
            <a:ext cx="2128320" cy="119124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Supres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komór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efektor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9560" y="3505320"/>
            <a:ext cx="2907000" cy="459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Anergia komórek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82840" y="4419720"/>
            <a:ext cx="3553200" cy="459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Reaktywacja komórek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440" y="5410080"/>
            <a:ext cx="1326600" cy="10144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(suk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60920" y="5410080"/>
            <a:ext cx="2242800" cy="10144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(bark sukces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92120" y="4876920"/>
            <a:ext cx="671400" cy="4291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ahoma"/>
              </a:rPr>
              <a:t>IL-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3162240"/>
            <a:ext cx="0" cy="22860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4140360"/>
            <a:ext cx="0" cy="22860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30280" y="4545720"/>
            <a:ext cx="1711440" cy="66240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2640" y="4545720"/>
            <a:ext cx="1711800" cy="66240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800800" y="2691720"/>
            <a:ext cx="1535400" cy="15336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05720" y="2691360"/>
            <a:ext cx="2225160" cy="46044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Istotność roli IgG podczas immunoterapii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8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ff00"/>
                </a:solidFill>
                <a:latin typeface="Tahoma"/>
              </a:rPr>
              <a:t>Z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marL="528480" indent="-5284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oziom IgG1 i IgG4 koreluje ze stanem klinicznym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(Nakagawa 199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528480" indent="-5284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Bierne uczulanie bazofilów IgG4 hamuje uwalnianie histaminy pod wpływem IgE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(Nakagawa 198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19280" y="1828800"/>
            <a:ext cx="42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Tahoma"/>
              </a:rPr>
              <a:t>Przeciw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marL="540000" indent="-5400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odczas „rush” terapii nie obserwuje się wzrostu IgG w okresie wstępnym, choć zaznacza się skuteczność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(Adkis 1996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540000" indent="-5400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oziom IgG nie koreluje ze stanem klinicznym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(Brunet 199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438280"/>
            <a:ext cx="876312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905120"/>
            <a:ext cx="0" cy="449568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Mechanizmy hipotetyczne zależne od IgG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Penguin"/>
              </a:rPr>
              <a:t>4</a:t>
            </a:r>
            <a:r>
              <a:rPr b="0" lang="en-US" sz="4400" spc="-1" strike="noStrike">
                <a:solidFill>
                  <a:srgbClr val="ffffcc"/>
                </a:solidFill>
                <a:latin typeface="Penguin"/>
              </a:rPr>
              <a:t> podczas SIT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9058320" cy="41148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57280" indent="-5572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Blokowanie na poziomie receptorów dla IgE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???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Efekt uboczny immunoterapii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?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Indukcja idiotypów antyalergenowych IgE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?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Neutralizacja antygenu przed połączeniem z IgE </a:t>
            </a:r>
            <a:r>
              <a:rPr b="0" lang="pl-PL" sz="2800" spc="-1" strike="noStrike">
                <a:solidFill>
                  <a:srgbClr val="ff0000"/>
                </a:solidFill>
                <a:latin typeface="Tahoma"/>
              </a:rPr>
              <a:t>(?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IgG hamuje wspomaganą przez IgE prezentację antygenu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enguin"/>
              </a:rPr>
              <a:t>Reaktywność komórek zapalnych a SIT</a:t>
            </a:r>
            <a:endParaRPr b="0" lang="en-US" sz="48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187" name=""/>
          <p:cNvSpPr/>
          <p:nvPr/>
        </p:nvSpPr>
        <p:spPr>
          <a:xfrm>
            <a:off x="690840" y="3505320"/>
            <a:ext cx="1482120" cy="7642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L-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64760" y="1447920"/>
            <a:ext cx="1588680" cy="5814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NF</a:t>
            </a:r>
            <a:r>
              <a:rPr b="0" lang="en-US" sz="32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54080" y="2438280"/>
            <a:ext cx="2181600" cy="5814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M-CS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5640" y="3429000"/>
            <a:ext cx="1409040" cy="5814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L-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5640" y="4419720"/>
            <a:ext cx="1409040" cy="5814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IL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73360" y="5410080"/>
            <a:ext cx="2750040" cy="7038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ekspres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CD40 na eozynofil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56520" y="2209680"/>
            <a:ext cx="2954520" cy="1008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podatność komór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metachromatyczny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na degranulacj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01560" y="4343400"/>
            <a:ext cx="2381400" cy="7038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chemokinety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eozynof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24320" y="5486400"/>
            <a:ext cx="2242800" cy="7038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czas apoptoz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eozynof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133720" y="1752120"/>
            <a:ext cx="838080" cy="160020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286000" y="2819160"/>
            <a:ext cx="457200" cy="6094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3657600"/>
            <a:ext cx="761760" cy="7632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4038480"/>
            <a:ext cx="761760" cy="60984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4419720"/>
            <a:ext cx="533520" cy="83808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828800"/>
            <a:ext cx="1295640" cy="53352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181480" y="2666880"/>
            <a:ext cx="990720" cy="7632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76920" y="2971440"/>
            <a:ext cx="1295280" cy="76212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4724280"/>
            <a:ext cx="1981080" cy="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62720" y="5791320"/>
            <a:ext cx="1371600" cy="75960"/>
          </a:xfrm>
          <a:prstGeom prst="line">
            <a:avLst/>
          </a:prstGeom>
          <a:ln w="5724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Mechanizmy SIT w czasie („rush” - PLA</a:t>
            </a:r>
            <a:r>
              <a:rPr b="0" lang="pl-PL" sz="4400" spc="-1" strike="noStrike" baseline="-25000">
                <a:solidFill>
                  <a:srgbClr val="ffffcc"/>
                </a:solidFill>
                <a:latin typeface="Penguin"/>
              </a:rPr>
              <a:t>2</a:t>
            </a: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2286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3000" spc="-1" strike="noStrike">
                <a:solidFill>
                  <a:srgbClr val="ffffcc"/>
                </a:solidFill>
                <a:latin typeface="Tahoma"/>
              </a:rPr>
              <a:t>IL-4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marL="322200" indent="0" algn="r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pl-PL" sz="3000" spc="-1" strike="noStrike">
                <a:solidFill>
                  <a:srgbClr val="ffffcc"/>
                </a:solidFill>
                <a:latin typeface="Tahoma"/>
              </a:rPr>
              <a:t>IFN-</a:t>
            </a:r>
            <a:r>
              <a:rPr b="0" lang="pl-PL" sz="30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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marL="322200" indent="0" algn="r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3000" spc="-1" strike="noStrike">
                <a:solidFill>
                  <a:srgbClr val="ffffcc"/>
                </a:solidFill>
                <a:latin typeface="Tahoma"/>
              </a:rPr>
              <a:t>IgE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marL="322200" indent="0" algn="r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cc"/>
                </a:solidFill>
                <a:latin typeface="Wingdings"/>
                <a:ea typeface="Wingdings"/>
              </a:rPr>
              <a:t></a:t>
            </a:r>
            <a:r>
              <a:rPr b="0" lang="pl-PL" sz="3000" spc="-1" strike="noStrike">
                <a:solidFill>
                  <a:srgbClr val="ffffcc"/>
                </a:solidFill>
                <a:latin typeface="Tahoma"/>
              </a:rPr>
              <a:t>IgG</a:t>
            </a:r>
            <a:r>
              <a:rPr b="0" lang="pl-PL" sz="3000" spc="-1" strike="noStrike" baseline="-25000">
                <a:solidFill>
                  <a:srgbClr val="ffffcc"/>
                </a:solidFill>
                <a:latin typeface="Tahoma"/>
              </a:rPr>
              <a:t>4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  <a:p>
            <a:pPr marL="322200" indent="0" algn="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cc"/>
                </a:solidFill>
                <a:latin typeface="Wingdings"/>
                <a:ea typeface="Wingdings"/>
              </a:rPr>
              <a:t></a:t>
            </a: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wrażliwości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22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cc"/>
                </a:solidFill>
                <a:latin typeface="Tahoma"/>
              </a:rPr>
              <a:t>komórek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22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1371600"/>
            <a:ext cx="0" cy="441972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5791320"/>
            <a:ext cx="701064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10720" y="49276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5715000"/>
            <a:ext cx="0" cy="15228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5715000"/>
            <a:ext cx="0" cy="15228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77320" y="5715000"/>
            <a:ext cx="0" cy="15228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5715000"/>
            <a:ext cx="0" cy="15228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46320" y="2590920"/>
            <a:ext cx="26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- </a:t>
            </a: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stymulowane limfocyty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41280" y="190512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- </a:t>
            </a: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stymulowane limfocy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50160" y="411480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- </a:t>
            </a: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surow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50160" y="335268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- </a:t>
            </a: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surow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5600" y="5791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3800" y="579132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6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42440" y="57913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7d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63080" y="57913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21d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08480" y="5791320"/>
            <a:ext cx="10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6tyd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5181480"/>
            <a:ext cx="701064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9680" y="4343400"/>
            <a:ext cx="701064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3581280"/>
            <a:ext cx="701064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2819520"/>
            <a:ext cx="701064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133720"/>
            <a:ext cx="701064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enguin"/>
              </a:rPr>
              <a:t>Strategia modyfikacji alergenów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743680" cy="49528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572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Modyfikacja chemiczna alergenów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recypitacja w oleju mineralnym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(Norman 1967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recypitacja w glinie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(Norman 197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denaturacja mocznikiem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(Ishizaka 1975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recypitacja w glikolu polietylenowym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(Juniper 1983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konjugacja aminokwasów (D-glutamina / D-lizyna)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(Butterfield 198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konjugacja aldehydowa (alergoidy)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Marsch 198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konjugacja cyjankiem potasu (alergoidy) </a:t>
            </a:r>
            <a:r>
              <a:rPr b="0" i="1" lang="pl-PL" sz="2400" spc="-1" strike="noStrike">
                <a:solidFill>
                  <a:srgbClr val="ffffcc"/>
                </a:solidFill>
                <a:latin typeface="Tahoma"/>
              </a:rPr>
              <a:t>Passalaqua 1998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557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1828800"/>
            <a:ext cx="8743680" cy="44956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Modyfikacja epitopów komórki B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Ferreira 1998, Schramm 1999, Burks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Zmiana konformacji alergenu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Akdis 1998, Olsson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Fragmenty hypoalergenowe alergenu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Vrtala 1997, van Hage-Hamsten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Oligomery alergenowe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Nopp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Epitopy T i zmienione ligandy peptydowe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Norman 19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Penguin"/>
              </a:rPr>
              <a:t>Strategia modyfikacji alergenów - c.d.</a:t>
            </a:r>
            <a:endParaRPr b="0" lang="en-US" sz="50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enguin"/>
              </a:rPr>
              <a:t>Terapia genowa a epigenetyczna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239" name=""/>
          <p:cNvSpPr/>
          <p:nvPr/>
        </p:nvSpPr>
        <p:spPr>
          <a:xfrm>
            <a:off x="575640" y="2895480"/>
            <a:ext cx="3271320" cy="119124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Korekta muta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genetyczn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na materiale gen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89920" y="2895480"/>
            <a:ext cx="3237840" cy="8254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Modulacja ekspres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genu poza genom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840" y="1752480"/>
            <a:ext cx="2478960" cy="459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erapia gen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540400" y="1752480"/>
            <a:ext cx="3409920" cy="459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erapia epigenetycz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360" y="4572000"/>
            <a:ext cx="3952800" cy="119124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ezpośrednie następs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o no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(prawidłowe) 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85760" y="4572000"/>
            <a:ext cx="3952800" cy="119124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Bezpośrednie następs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to inna (antisens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ercepcja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362320" y="2286000"/>
            <a:ext cx="457200" cy="53352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286000"/>
            <a:ext cx="380880" cy="213372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943600" y="2286000"/>
            <a:ext cx="380880" cy="213372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2286000"/>
            <a:ext cx="380880" cy="53352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1371600"/>
            <a:ext cx="0" cy="51814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438280"/>
            <a:ext cx="17524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Mechanizm terapii „antisense” DNA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62120" y="2590920"/>
            <a:ext cx="1898640" cy="1938240"/>
            <a:chOff x="762120" y="2590920"/>
            <a:chExt cx="1898640" cy="1938240"/>
          </a:xfrm>
        </p:grpSpPr>
        <p:sp>
          <p:nvSpPr>
            <p:cNvPr id="254" name=""/>
            <p:cNvSpPr/>
            <p:nvPr/>
          </p:nvSpPr>
          <p:spPr>
            <a:xfrm>
              <a:off x="1474920" y="3538440"/>
              <a:ext cx="873000" cy="614160"/>
            </a:xfrm>
            <a:custGeom>
              <a:avLst/>
              <a:gdLst/>
              <a:ahLst/>
              <a:rect l="l" t="t" r="r" b="b"/>
              <a:pathLst>
                <a:path w="1170" h="1110">
                  <a:moveTo>
                    <a:pt x="422" y="110"/>
                  </a:moveTo>
                  <a:cubicBezTo>
                    <a:pt x="364" y="90"/>
                    <a:pt x="287" y="129"/>
                    <a:pt x="226" y="142"/>
                  </a:cubicBezTo>
                  <a:cubicBezTo>
                    <a:pt x="192" y="158"/>
                    <a:pt x="159" y="164"/>
                    <a:pt x="123" y="173"/>
                  </a:cubicBezTo>
                  <a:cubicBezTo>
                    <a:pt x="100" y="197"/>
                    <a:pt x="78" y="209"/>
                    <a:pt x="60" y="236"/>
                  </a:cubicBezTo>
                  <a:cubicBezTo>
                    <a:pt x="55" y="252"/>
                    <a:pt x="45" y="267"/>
                    <a:pt x="45" y="283"/>
                  </a:cubicBezTo>
                  <a:cubicBezTo>
                    <a:pt x="45" y="374"/>
                    <a:pt x="0" y="814"/>
                    <a:pt x="202" y="866"/>
                  </a:cubicBezTo>
                  <a:cubicBezTo>
                    <a:pt x="253" y="915"/>
                    <a:pt x="198" y="868"/>
                    <a:pt x="304" y="921"/>
                  </a:cubicBezTo>
                  <a:cubicBezTo>
                    <a:pt x="344" y="941"/>
                    <a:pt x="372" y="978"/>
                    <a:pt x="415" y="991"/>
                  </a:cubicBezTo>
                  <a:cubicBezTo>
                    <a:pt x="433" y="1020"/>
                    <a:pt x="446" y="1036"/>
                    <a:pt x="478" y="1047"/>
                  </a:cubicBezTo>
                  <a:cubicBezTo>
                    <a:pt x="520" y="1089"/>
                    <a:pt x="578" y="1100"/>
                    <a:pt x="635" y="1110"/>
                  </a:cubicBezTo>
                  <a:cubicBezTo>
                    <a:pt x="704" y="1103"/>
                    <a:pt x="764" y="1084"/>
                    <a:pt x="832" y="1070"/>
                  </a:cubicBezTo>
                  <a:cubicBezTo>
                    <a:pt x="862" y="1055"/>
                    <a:pt x="886" y="1047"/>
                    <a:pt x="918" y="1039"/>
                  </a:cubicBezTo>
                  <a:cubicBezTo>
                    <a:pt x="936" y="1011"/>
                    <a:pt x="953" y="994"/>
                    <a:pt x="981" y="976"/>
                  </a:cubicBezTo>
                  <a:cubicBezTo>
                    <a:pt x="995" y="955"/>
                    <a:pt x="999" y="945"/>
                    <a:pt x="1020" y="929"/>
                  </a:cubicBezTo>
                  <a:cubicBezTo>
                    <a:pt x="1035" y="917"/>
                    <a:pt x="1068" y="897"/>
                    <a:pt x="1068" y="897"/>
                  </a:cubicBezTo>
                  <a:cubicBezTo>
                    <a:pt x="1087" y="866"/>
                    <a:pt x="1107" y="836"/>
                    <a:pt x="1123" y="803"/>
                  </a:cubicBezTo>
                  <a:cubicBezTo>
                    <a:pt x="1133" y="782"/>
                    <a:pt x="1154" y="740"/>
                    <a:pt x="1154" y="740"/>
                  </a:cubicBezTo>
                  <a:cubicBezTo>
                    <a:pt x="1170" y="647"/>
                    <a:pt x="1164" y="543"/>
                    <a:pt x="1123" y="456"/>
                  </a:cubicBezTo>
                  <a:cubicBezTo>
                    <a:pt x="1095" y="320"/>
                    <a:pt x="1083" y="182"/>
                    <a:pt x="965" y="94"/>
                  </a:cubicBezTo>
                  <a:cubicBezTo>
                    <a:pt x="927" y="36"/>
                    <a:pt x="858" y="11"/>
                    <a:pt x="792" y="0"/>
                  </a:cubicBezTo>
                  <a:cubicBezTo>
                    <a:pt x="734" y="3"/>
                    <a:pt x="677" y="3"/>
                    <a:pt x="619" y="8"/>
                  </a:cubicBezTo>
                  <a:cubicBezTo>
                    <a:pt x="570" y="12"/>
                    <a:pt x="605" y="16"/>
                    <a:pt x="564" y="31"/>
                  </a:cubicBezTo>
                  <a:cubicBezTo>
                    <a:pt x="522" y="46"/>
                    <a:pt x="474" y="44"/>
                    <a:pt x="430" y="55"/>
                  </a:cubicBezTo>
                  <a:cubicBezTo>
                    <a:pt x="416" y="78"/>
                    <a:pt x="392" y="94"/>
                    <a:pt x="422" y="11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2120" y="2590920"/>
              <a:ext cx="1898640" cy="1938240"/>
            </a:xfrm>
            <a:custGeom>
              <a:avLst/>
              <a:gdLst/>
              <a:ahLst/>
              <a:rect l="l" t="t" r="r" b="b"/>
              <a:pathLst>
                <a:path w="1196" h="1221">
                  <a:moveTo>
                    <a:pt x="244" y="86"/>
                  </a:moveTo>
                  <a:cubicBezTo>
                    <a:pt x="213" y="96"/>
                    <a:pt x="211" y="115"/>
                    <a:pt x="181" y="126"/>
                  </a:cubicBezTo>
                  <a:cubicBezTo>
                    <a:pt x="163" y="139"/>
                    <a:pt x="144" y="152"/>
                    <a:pt x="126" y="165"/>
                  </a:cubicBezTo>
                  <a:cubicBezTo>
                    <a:pt x="108" y="178"/>
                    <a:pt x="78" y="212"/>
                    <a:pt x="78" y="212"/>
                  </a:cubicBezTo>
                  <a:cubicBezTo>
                    <a:pt x="73" y="223"/>
                    <a:pt x="68" y="233"/>
                    <a:pt x="63" y="244"/>
                  </a:cubicBezTo>
                  <a:cubicBezTo>
                    <a:pt x="60" y="251"/>
                    <a:pt x="58" y="260"/>
                    <a:pt x="55" y="267"/>
                  </a:cubicBezTo>
                  <a:cubicBezTo>
                    <a:pt x="45" y="288"/>
                    <a:pt x="23" y="330"/>
                    <a:pt x="23" y="330"/>
                  </a:cubicBezTo>
                  <a:cubicBezTo>
                    <a:pt x="20" y="346"/>
                    <a:pt x="19" y="362"/>
                    <a:pt x="15" y="378"/>
                  </a:cubicBezTo>
                  <a:cubicBezTo>
                    <a:pt x="11" y="394"/>
                    <a:pt x="0" y="425"/>
                    <a:pt x="0" y="425"/>
                  </a:cubicBezTo>
                  <a:cubicBezTo>
                    <a:pt x="6" y="563"/>
                    <a:pt x="3" y="654"/>
                    <a:pt x="63" y="771"/>
                  </a:cubicBezTo>
                  <a:cubicBezTo>
                    <a:pt x="74" y="821"/>
                    <a:pt x="107" y="889"/>
                    <a:pt x="149" y="921"/>
                  </a:cubicBezTo>
                  <a:cubicBezTo>
                    <a:pt x="158" y="928"/>
                    <a:pt x="171" y="930"/>
                    <a:pt x="181" y="936"/>
                  </a:cubicBezTo>
                  <a:cubicBezTo>
                    <a:pt x="192" y="943"/>
                    <a:pt x="201" y="952"/>
                    <a:pt x="212" y="960"/>
                  </a:cubicBezTo>
                  <a:cubicBezTo>
                    <a:pt x="227" y="971"/>
                    <a:pt x="259" y="991"/>
                    <a:pt x="259" y="991"/>
                  </a:cubicBezTo>
                  <a:cubicBezTo>
                    <a:pt x="289" y="1051"/>
                    <a:pt x="338" y="1102"/>
                    <a:pt x="385" y="1149"/>
                  </a:cubicBezTo>
                  <a:cubicBezTo>
                    <a:pt x="397" y="1161"/>
                    <a:pt x="416" y="1160"/>
                    <a:pt x="432" y="1165"/>
                  </a:cubicBezTo>
                  <a:cubicBezTo>
                    <a:pt x="441" y="1168"/>
                    <a:pt x="447" y="1177"/>
                    <a:pt x="456" y="1180"/>
                  </a:cubicBezTo>
                  <a:cubicBezTo>
                    <a:pt x="467" y="1184"/>
                    <a:pt x="536" y="1195"/>
                    <a:pt x="543" y="1196"/>
                  </a:cubicBezTo>
                  <a:cubicBezTo>
                    <a:pt x="618" y="1221"/>
                    <a:pt x="668" y="1201"/>
                    <a:pt x="755" y="1196"/>
                  </a:cubicBezTo>
                  <a:cubicBezTo>
                    <a:pt x="797" y="1182"/>
                    <a:pt x="837" y="1178"/>
                    <a:pt x="881" y="1172"/>
                  </a:cubicBezTo>
                  <a:cubicBezTo>
                    <a:pt x="935" y="1156"/>
                    <a:pt x="956" y="1155"/>
                    <a:pt x="1023" y="1149"/>
                  </a:cubicBezTo>
                  <a:cubicBezTo>
                    <a:pt x="1046" y="1140"/>
                    <a:pt x="1072" y="1139"/>
                    <a:pt x="1093" y="1125"/>
                  </a:cubicBezTo>
                  <a:cubicBezTo>
                    <a:pt x="1163" y="1079"/>
                    <a:pt x="1055" y="1120"/>
                    <a:pt x="1133" y="1094"/>
                  </a:cubicBezTo>
                  <a:cubicBezTo>
                    <a:pt x="1148" y="1063"/>
                    <a:pt x="1160" y="1031"/>
                    <a:pt x="1172" y="999"/>
                  </a:cubicBezTo>
                  <a:cubicBezTo>
                    <a:pt x="1178" y="983"/>
                    <a:pt x="1183" y="968"/>
                    <a:pt x="1188" y="952"/>
                  </a:cubicBezTo>
                  <a:cubicBezTo>
                    <a:pt x="1191" y="944"/>
                    <a:pt x="1196" y="928"/>
                    <a:pt x="1196" y="928"/>
                  </a:cubicBezTo>
                  <a:cubicBezTo>
                    <a:pt x="1191" y="845"/>
                    <a:pt x="1191" y="790"/>
                    <a:pt x="1172" y="716"/>
                  </a:cubicBezTo>
                  <a:cubicBezTo>
                    <a:pt x="1159" y="611"/>
                    <a:pt x="1140" y="424"/>
                    <a:pt x="1046" y="362"/>
                  </a:cubicBezTo>
                  <a:cubicBezTo>
                    <a:pt x="1029" y="312"/>
                    <a:pt x="1011" y="265"/>
                    <a:pt x="967" y="236"/>
                  </a:cubicBezTo>
                  <a:cubicBezTo>
                    <a:pt x="928" y="173"/>
                    <a:pt x="979" y="243"/>
                    <a:pt x="928" y="204"/>
                  </a:cubicBezTo>
                  <a:cubicBezTo>
                    <a:pt x="921" y="198"/>
                    <a:pt x="918" y="188"/>
                    <a:pt x="912" y="181"/>
                  </a:cubicBezTo>
                  <a:cubicBezTo>
                    <a:pt x="889" y="153"/>
                    <a:pt x="852" y="121"/>
                    <a:pt x="818" y="110"/>
                  </a:cubicBezTo>
                  <a:cubicBezTo>
                    <a:pt x="807" y="102"/>
                    <a:pt x="798" y="93"/>
                    <a:pt x="786" y="86"/>
                  </a:cubicBezTo>
                  <a:cubicBezTo>
                    <a:pt x="779" y="82"/>
                    <a:pt x="770" y="83"/>
                    <a:pt x="763" y="79"/>
                  </a:cubicBezTo>
                  <a:cubicBezTo>
                    <a:pt x="754" y="73"/>
                    <a:pt x="748" y="61"/>
                    <a:pt x="739" y="55"/>
                  </a:cubicBezTo>
                  <a:cubicBezTo>
                    <a:pt x="721" y="43"/>
                    <a:pt x="690" y="29"/>
                    <a:pt x="668" y="23"/>
                  </a:cubicBezTo>
                  <a:cubicBezTo>
                    <a:pt x="658" y="20"/>
                    <a:pt x="647" y="19"/>
                    <a:pt x="637" y="16"/>
                  </a:cubicBezTo>
                  <a:cubicBezTo>
                    <a:pt x="621" y="11"/>
                    <a:pt x="590" y="0"/>
                    <a:pt x="590" y="0"/>
                  </a:cubicBezTo>
                  <a:cubicBezTo>
                    <a:pt x="427" y="6"/>
                    <a:pt x="406" y="1"/>
                    <a:pt x="291" y="31"/>
                  </a:cubicBezTo>
                  <a:cubicBezTo>
                    <a:pt x="256" y="84"/>
                    <a:pt x="276" y="71"/>
                    <a:pt x="244" y="86"/>
                  </a:cubicBezTo>
                  <a:close/>
                </a:path>
              </a:pathLst>
            </a:custGeom>
            <a:noFill/>
            <a:ln w="2844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43960" y="1371600"/>
            <a:ext cx="3957120" cy="82548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Niemetylowany „CpG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motyw oligonukleotyd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320" y="4952880"/>
            <a:ext cx="2926800" cy="45972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Komórka docelo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28320" y="2743200"/>
            <a:ext cx="897120" cy="33732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swo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89280" y="3581280"/>
            <a:ext cx="1424160" cy="33732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hybrydyz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3200400"/>
            <a:ext cx="949320" cy="246240"/>
          </a:xfrm>
          <a:custGeom>
            <a:avLst/>
            <a:gdLst/>
            <a:ahLst/>
            <a:rect l="l" t="t" r="r" b="b"/>
            <a:pathLst>
              <a:path w="598" h="155">
                <a:moveTo>
                  <a:pt x="0" y="92"/>
                </a:moveTo>
                <a:cubicBezTo>
                  <a:pt x="9" y="29"/>
                  <a:pt x="8" y="35"/>
                  <a:pt x="55" y="6"/>
                </a:cubicBezTo>
                <a:cubicBezTo>
                  <a:pt x="78" y="29"/>
                  <a:pt x="91" y="51"/>
                  <a:pt x="118" y="68"/>
                </a:cubicBezTo>
                <a:cubicBezTo>
                  <a:pt x="131" y="106"/>
                  <a:pt x="108" y="138"/>
                  <a:pt x="157" y="124"/>
                </a:cubicBezTo>
                <a:cubicBezTo>
                  <a:pt x="186" y="81"/>
                  <a:pt x="190" y="61"/>
                  <a:pt x="196" y="6"/>
                </a:cubicBezTo>
                <a:cubicBezTo>
                  <a:pt x="209" y="8"/>
                  <a:pt x="224" y="6"/>
                  <a:pt x="236" y="13"/>
                </a:cubicBezTo>
                <a:cubicBezTo>
                  <a:pt x="268" y="31"/>
                  <a:pt x="260" y="117"/>
                  <a:pt x="283" y="139"/>
                </a:cubicBezTo>
                <a:cubicBezTo>
                  <a:pt x="289" y="145"/>
                  <a:pt x="299" y="144"/>
                  <a:pt x="307" y="147"/>
                </a:cubicBezTo>
                <a:cubicBezTo>
                  <a:pt x="335" y="127"/>
                  <a:pt x="343" y="108"/>
                  <a:pt x="354" y="76"/>
                </a:cubicBezTo>
                <a:cubicBezTo>
                  <a:pt x="357" y="58"/>
                  <a:pt x="350" y="35"/>
                  <a:pt x="362" y="21"/>
                </a:cubicBezTo>
                <a:cubicBezTo>
                  <a:pt x="380" y="0"/>
                  <a:pt x="425" y="76"/>
                  <a:pt x="425" y="76"/>
                </a:cubicBezTo>
                <a:cubicBezTo>
                  <a:pt x="427" y="87"/>
                  <a:pt x="429" y="98"/>
                  <a:pt x="432" y="108"/>
                </a:cubicBezTo>
                <a:cubicBezTo>
                  <a:pt x="437" y="124"/>
                  <a:pt x="448" y="155"/>
                  <a:pt x="448" y="155"/>
                </a:cubicBezTo>
                <a:cubicBezTo>
                  <a:pt x="459" y="152"/>
                  <a:pt x="471" y="153"/>
                  <a:pt x="480" y="147"/>
                </a:cubicBezTo>
                <a:cubicBezTo>
                  <a:pt x="506" y="130"/>
                  <a:pt x="496" y="90"/>
                  <a:pt x="511" y="68"/>
                </a:cubicBezTo>
                <a:cubicBezTo>
                  <a:pt x="522" y="52"/>
                  <a:pt x="543" y="48"/>
                  <a:pt x="558" y="37"/>
                </a:cubicBezTo>
                <a:cubicBezTo>
                  <a:pt x="594" y="49"/>
                  <a:pt x="582" y="53"/>
                  <a:pt x="598" y="84"/>
                </a:cubicBezTo>
              </a:path>
            </a:pathLst>
          </a:custGeom>
          <a:noFill/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94880" y="2743200"/>
            <a:ext cx="1076760" cy="33732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docel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98280" y="3581280"/>
            <a:ext cx="590760" cy="33732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3200400"/>
            <a:ext cx="380880" cy="246240"/>
          </a:xfrm>
          <a:custGeom>
            <a:avLst/>
            <a:gdLst/>
            <a:ahLst/>
            <a:rect l="l" t="t" r="r" b="b"/>
            <a:pathLst>
              <a:path w="598" h="155">
                <a:moveTo>
                  <a:pt x="0" y="92"/>
                </a:moveTo>
                <a:cubicBezTo>
                  <a:pt x="9" y="29"/>
                  <a:pt x="8" y="35"/>
                  <a:pt x="55" y="6"/>
                </a:cubicBezTo>
                <a:cubicBezTo>
                  <a:pt x="78" y="29"/>
                  <a:pt x="91" y="51"/>
                  <a:pt x="118" y="68"/>
                </a:cubicBezTo>
                <a:cubicBezTo>
                  <a:pt x="131" y="106"/>
                  <a:pt x="108" y="138"/>
                  <a:pt x="157" y="124"/>
                </a:cubicBezTo>
                <a:cubicBezTo>
                  <a:pt x="186" y="81"/>
                  <a:pt x="190" y="61"/>
                  <a:pt x="196" y="6"/>
                </a:cubicBezTo>
                <a:cubicBezTo>
                  <a:pt x="209" y="8"/>
                  <a:pt x="224" y="6"/>
                  <a:pt x="236" y="13"/>
                </a:cubicBezTo>
                <a:cubicBezTo>
                  <a:pt x="268" y="31"/>
                  <a:pt x="260" y="117"/>
                  <a:pt x="283" y="139"/>
                </a:cubicBezTo>
                <a:cubicBezTo>
                  <a:pt x="289" y="145"/>
                  <a:pt x="299" y="144"/>
                  <a:pt x="307" y="147"/>
                </a:cubicBezTo>
                <a:cubicBezTo>
                  <a:pt x="335" y="127"/>
                  <a:pt x="343" y="108"/>
                  <a:pt x="354" y="76"/>
                </a:cubicBezTo>
                <a:cubicBezTo>
                  <a:pt x="357" y="58"/>
                  <a:pt x="350" y="35"/>
                  <a:pt x="362" y="21"/>
                </a:cubicBezTo>
                <a:cubicBezTo>
                  <a:pt x="380" y="0"/>
                  <a:pt x="425" y="76"/>
                  <a:pt x="425" y="76"/>
                </a:cubicBezTo>
                <a:cubicBezTo>
                  <a:pt x="427" y="87"/>
                  <a:pt x="429" y="98"/>
                  <a:pt x="432" y="108"/>
                </a:cubicBezTo>
                <a:cubicBezTo>
                  <a:pt x="437" y="124"/>
                  <a:pt x="448" y="155"/>
                  <a:pt x="448" y="155"/>
                </a:cubicBezTo>
                <a:cubicBezTo>
                  <a:pt x="459" y="152"/>
                  <a:pt x="471" y="153"/>
                  <a:pt x="480" y="147"/>
                </a:cubicBezTo>
                <a:cubicBezTo>
                  <a:pt x="506" y="130"/>
                  <a:pt x="496" y="90"/>
                  <a:pt x="511" y="68"/>
                </a:cubicBezTo>
                <a:cubicBezTo>
                  <a:pt x="522" y="52"/>
                  <a:pt x="543" y="48"/>
                  <a:pt x="558" y="37"/>
                </a:cubicBezTo>
                <a:cubicBezTo>
                  <a:pt x="594" y="49"/>
                  <a:pt x="582" y="53"/>
                  <a:pt x="598" y="84"/>
                </a:cubicBezTo>
              </a:path>
            </a:pathLst>
          </a:custGeom>
          <a:noFill/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81680" y="3200400"/>
            <a:ext cx="381240" cy="246240"/>
          </a:xfrm>
          <a:custGeom>
            <a:avLst/>
            <a:gdLst/>
            <a:ahLst/>
            <a:rect l="l" t="t" r="r" b="b"/>
            <a:pathLst>
              <a:path w="598" h="155">
                <a:moveTo>
                  <a:pt x="0" y="92"/>
                </a:moveTo>
                <a:cubicBezTo>
                  <a:pt x="9" y="29"/>
                  <a:pt x="8" y="35"/>
                  <a:pt x="55" y="6"/>
                </a:cubicBezTo>
                <a:cubicBezTo>
                  <a:pt x="78" y="29"/>
                  <a:pt x="91" y="51"/>
                  <a:pt x="118" y="68"/>
                </a:cubicBezTo>
                <a:cubicBezTo>
                  <a:pt x="131" y="106"/>
                  <a:pt x="108" y="138"/>
                  <a:pt x="157" y="124"/>
                </a:cubicBezTo>
                <a:cubicBezTo>
                  <a:pt x="186" y="81"/>
                  <a:pt x="190" y="61"/>
                  <a:pt x="196" y="6"/>
                </a:cubicBezTo>
                <a:cubicBezTo>
                  <a:pt x="209" y="8"/>
                  <a:pt x="224" y="6"/>
                  <a:pt x="236" y="13"/>
                </a:cubicBezTo>
                <a:cubicBezTo>
                  <a:pt x="268" y="31"/>
                  <a:pt x="260" y="117"/>
                  <a:pt x="283" y="139"/>
                </a:cubicBezTo>
                <a:cubicBezTo>
                  <a:pt x="289" y="145"/>
                  <a:pt x="299" y="144"/>
                  <a:pt x="307" y="147"/>
                </a:cubicBezTo>
                <a:cubicBezTo>
                  <a:pt x="335" y="127"/>
                  <a:pt x="343" y="108"/>
                  <a:pt x="354" y="76"/>
                </a:cubicBezTo>
                <a:cubicBezTo>
                  <a:pt x="357" y="58"/>
                  <a:pt x="350" y="35"/>
                  <a:pt x="362" y="21"/>
                </a:cubicBezTo>
                <a:cubicBezTo>
                  <a:pt x="380" y="0"/>
                  <a:pt x="425" y="76"/>
                  <a:pt x="425" y="76"/>
                </a:cubicBezTo>
                <a:cubicBezTo>
                  <a:pt x="427" y="87"/>
                  <a:pt x="429" y="98"/>
                  <a:pt x="432" y="108"/>
                </a:cubicBezTo>
                <a:cubicBezTo>
                  <a:pt x="437" y="124"/>
                  <a:pt x="448" y="155"/>
                  <a:pt x="448" y="155"/>
                </a:cubicBezTo>
                <a:cubicBezTo>
                  <a:pt x="459" y="152"/>
                  <a:pt x="471" y="153"/>
                  <a:pt x="480" y="147"/>
                </a:cubicBezTo>
                <a:cubicBezTo>
                  <a:pt x="506" y="130"/>
                  <a:pt x="496" y="90"/>
                  <a:pt x="511" y="68"/>
                </a:cubicBezTo>
                <a:cubicBezTo>
                  <a:pt x="522" y="52"/>
                  <a:pt x="543" y="48"/>
                  <a:pt x="558" y="37"/>
                </a:cubicBezTo>
                <a:cubicBezTo>
                  <a:pt x="594" y="49"/>
                  <a:pt x="582" y="53"/>
                  <a:pt x="598" y="84"/>
                </a:cubicBezTo>
              </a:path>
            </a:pathLst>
          </a:custGeom>
          <a:noFill/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68520" y="2743200"/>
            <a:ext cx="1245960" cy="33732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degrad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08640" y="3581280"/>
            <a:ext cx="779760" cy="33732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cc"/>
                </a:solidFill>
                <a:latin typeface="Tahoma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24160" y="2743200"/>
            <a:ext cx="1131840" cy="33732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zakłóc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66640" y="3581280"/>
            <a:ext cx="1104120" cy="33732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translac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994520" y="4522680"/>
            <a:ext cx="1605240" cy="1698840"/>
            <a:chOff x="7994520" y="4522680"/>
            <a:chExt cx="1605240" cy="1698840"/>
          </a:xfrm>
        </p:grpSpPr>
        <p:sp>
          <p:nvSpPr>
            <p:cNvPr id="270" name=""/>
            <p:cNvSpPr/>
            <p:nvPr/>
          </p:nvSpPr>
          <p:spPr>
            <a:xfrm>
              <a:off x="7994520" y="4522680"/>
              <a:ext cx="1605240" cy="1698840"/>
            </a:xfrm>
            <a:custGeom>
              <a:avLst/>
              <a:gdLst/>
              <a:ahLst/>
              <a:rect l="l" t="t" r="r" b="b"/>
              <a:pathLst>
                <a:path w="1011" h="1070">
                  <a:moveTo>
                    <a:pt x="267" y="94"/>
                  </a:moveTo>
                  <a:cubicBezTo>
                    <a:pt x="227" y="104"/>
                    <a:pt x="187" y="123"/>
                    <a:pt x="149" y="141"/>
                  </a:cubicBezTo>
                  <a:cubicBezTo>
                    <a:pt x="119" y="189"/>
                    <a:pt x="147" y="152"/>
                    <a:pt x="165" y="204"/>
                  </a:cubicBezTo>
                  <a:cubicBezTo>
                    <a:pt x="124" y="231"/>
                    <a:pt x="80" y="217"/>
                    <a:pt x="39" y="244"/>
                  </a:cubicBezTo>
                  <a:cubicBezTo>
                    <a:pt x="44" y="265"/>
                    <a:pt x="50" y="286"/>
                    <a:pt x="55" y="307"/>
                  </a:cubicBezTo>
                  <a:cubicBezTo>
                    <a:pt x="57" y="315"/>
                    <a:pt x="57" y="324"/>
                    <a:pt x="63" y="330"/>
                  </a:cubicBezTo>
                  <a:cubicBezTo>
                    <a:pt x="69" y="336"/>
                    <a:pt x="78" y="335"/>
                    <a:pt x="86" y="338"/>
                  </a:cubicBezTo>
                  <a:cubicBezTo>
                    <a:pt x="104" y="391"/>
                    <a:pt x="52" y="379"/>
                    <a:pt x="8" y="385"/>
                  </a:cubicBezTo>
                  <a:cubicBezTo>
                    <a:pt x="5" y="393"/>
                    <a:pt x="0" y="401"/>
                    <a:pt x="0" y="409"/>
                  </a:cubicBezTo>
                  <a:cubicBezTo>
                    <a:pt x="0" y="413"/>
                    <a:pt x="20" y="485"/>
                    <a:pt x="23" y="488"/>
                  </a:cubicBezTo>
                  <a:cubicBezTo>
                    <a:pt x="29" y="494"/>
                    <a:pt x="39" y="493"/>
                    <a:pt x="47" y="496"/>
                  </a:cubicBezTo>
                  <a:cubicBezTo>
                    <a:pt x="50" y="504"/>
                    <a:pt x="50" y="513"/>
                    <a:pt x="55" y="519"/>
                  </a:cubicBezTo>
                  <a:cubicBezTo>
                    <a:pt x="61" y="526"/>
                    <a:pt x="74" y="526"/>
                    <a:pt x="78" y="535"/>
                  </a:cubicBezTo>
                  <a:cubicBezTo>
                    <a:pt x="88" y="559"/>
                    <a:pt x="36" y="574"/>
                    <a:pt x="23" y="582"/>
                  </a:cubicBezTo>
                  <a:cubicBezTo>
                    <a:pt x="18" y="593"/>
                    <a:pt x="9" y="602"/>
                    <a:pt x="8" y="614"/>
                  </a:cubicBezTo>
                  <a:cubicBezTo>
                    <a:pt x="2" y="659"/>
                    <a:pt x="69" y="676"/>
                    <a:pt x="102" y="684"/>
                  </a:cubicBezTo>
                  <a:cubicBezTo>
                    <a:pt x="93" y="721"/>
                    <a:pt x="86" y="734"/>
                    <a:pt x="55" y="755"/>
                  </a:cubicBezTo>
                  <a:cubicBezTo>
                    <a:pt x="44" y="789"/>
                    <a:pt x="23" y="837"/>
                    <a:pt x="63" y="865"/>
                  </a:cubicBezTo>
                  <a:cubicBezTo>
                    <a:pt x="82" y="878"/>
                    <a:pt x="126" y="897"/>
                    <a:pt x="126" y="897"/>
                  </a:cubicBezTo>
                  <a:cubicBezTo>
                    <a:pt x="181" y="889"/>
                    <a:pt x="188" y="877"/>
                    <a:pt x="236" y="865"/>
                  </a:cubicBezTo>
                  <a:cubicBezTo>
                    <a:pt x="246" y="868"/>
                    <a:pt x="258" y="867"/>
                    <a:pt x="267" y="873"/>
                  </a:cubicBezTo>
                  <a:cubicBezTo>
                    <a:pt x="314" y="905"/>
                    <a:pt x="270" y="978"/>
                    <a:pt x="330" y="999"/>
                  </a:cubicBezTo>
                  <a:cubicBezTo>
                    <a:pt x="359" y="989"/>
                    <a:pt x="372" y="970"/>
                    <a:pt x="401" y="960"/>
                  </a:cubicBezTo>
                  <a:cubicBezTo>
                    <a:pt x="402" y="960"/>
                    <a:pt x="467" y="973"/>
                    <a:pt x="472" y="976"/>
                  </a:cubicBezTo>
                  <a:cubicBezTo>
                    <a:pt x="482" y="982"/>
                    <a:pt x="494" y="1016"/>
                    <a:pt x="503" y="1023"/>
                  </a:cubicBezTo>
                  <a:cubicBezTo>
                    <a:pt x="524" y="1041"/>
                    <a:pt x="557" y="1057"/>
                    <a:pt x="582" y="1070"/>
                  </a:cubicBezTo>
                  <a:cubicBezTo>
                    <a:pt x="595" y="1067"/>
                    <a:pt x="610" y="1069"/>
                    <a:pt x="621" y="1062"/>
                  </a:cubicBezTo>
                  <a:cubicBezTo>
                    <a:pt x="628" y="1058"/>
                    <a:pt x="626" y="1046"/>
                    <a:pt x="629" y="1039"/>
                  </a:cubicBezTo>
                  <a:cubicBezTo>
                    <a:pt x="631" y="1033"/>
                    <a:pt x="660" y="952"/>
                    <a:pt x="661" y="952"/>
                  </a:cubicBezTo>
                  <a:cubicBezTo>
                    <a:pt x="669" y="945"/>
                    <a:pt x="682" y="947"/>
                    <a:pt x="692" y="944"/>
                  </a:cubicBezTo>
                  <a:cubicBezTo>
                    <a:pt x="777" y="969"/>
                    <a:pt x="838" y="967"/>
                    <a:pt x="928" y="960"/>
                  </a:cubicBezTo>
                  <a:cubicBezTo>
                    <a:pt x="910" y="857"/>
                    <a:pt x="938" y="950"/>
                    <a:pt x="897" y="897"/>
                  </a:cubicBezTo>
                  <a:cubicBezTo>
                    <a:pt x="893" y="892"/>
                    <a:pt x="882" y="844"/>
                    <a:pt x="881" y="842"/>
                  </a:cubicBezTo>
                  <a:cubicBezTo>
                    <a:pt x="886" y="834"/>
                    <a:pt x="888" y="822"/>
                    <a:pt x="897" y="818"/>
                  </a:cubicBezTo>
                  <a:cubicBezTo>
                    <a:pt x="921" y="808"/>
                    <a:pt x="975" y="802"/>
                    <a:pt x="975" y="802"/>
                  </a:cubicBezTo>
                  <a:cubicBezTo>
                    <a:pt x="990" y="759"/>
                    <a:pt x="964" y="732"/>
                    <a:pt x="928" y="708"/>
                  </a:cubicBezTo>
                  <a:cubicBezTo>
                    <a:pt x="918" y="679"/>
                    <a:pt x="903" y="656"/>
                    <a:pt x="889" y="629"/>
                  </a:cubicBezTo>
                  <a:cubicBezTo>
                    <a:pt x="917" y="593"/>
                    <a:pt x="925" y="593"/>
                    <a:pt x="968" y="582"/>
                  </a:cubicBezTo>
                  <a:cubicBezTo>
                    <a:pt x="981" y="573"/>
                    <a:pt x="1011" y="558"/>
                    <a:pt x="1007" y="535"/>
                  </a:cubicBezTo>
                  <a:cubicBezTo>
                    <a:pt x="1003" y="512"/>
                    <a:pt x="985" y="493"/>
                    <a:pt x="975" y="472"/>
                  </a:cubicBezTo>
                  <a:cubicBezTo>
                    <a:pt x="965" y="451"/>
                    <a:pt x="963" y="422"/>
                    <a:pt x="944" y="409"/>
                  </a:cubicBezTo>
                  <a:cubicBezTo>
                    <a:pt x="928" y="398"/>
                    <a:pt x="897" y="377"/>
                    <a:pt x="897" y="377"/>
                  </a:cubicBezTo>
                  <a:cubicBezTo>
                    <a:pt x="927" y="319"/>
                    <a:pt x="932" y="356"/>
                    <a:pt x="944" y="283"/>
                  </a:cubicBezTo>
                  <a:cubicBezTo>
                    <a:pt x="942" y="269"/>
                    <a:pt x="937" y="188"/>
                    <a:pt x="913" y="181"/>
                  </a:cubicBezTo>
                  <a:cubicBezTo>
                    <a:pt x="885" y="173"/>
                    <a:pt x="855" y="176"/>
                    <a:pt x="826" y="173"/>
                  </a:cubicBezTo>
                  <a:cubicBezTo>
                    <a:pt x="782" y="129"/>
                    <a:pt x="789" y="66"/>
                    <a:pt x="755" y="15"/>
                  </a:cubicBezTo>
                  <a:cubicBezTo>
                    <a:pt x="747" y="18"/>
                    <a:pt x="740" y="21"/>
                    <a:pt x="732" y="23"/>
                  </a:cubicBezTo>
                  <a:cubicBezTo>
                    <a:pt x="714" y="27"/>
                    <a:pt x="694" y="26"/>
                    <a:pt x="676" y="31"/>
                  </a:cubicBezTo>
                  <a:cubicBezTo>
                    <a:pt x="648" y="39"/>
                    <a:pt x="618" y="54"/>
                    <a:pt x="590" y="63"/>
                  </a:cubicBezTo>
                  <a:cubicBezTo>
                    <a:pt x="533" y="49"/>
                    <a:pt x="580" y="67"/>
                    <a:pt x="535" y="31"/>
                  </a:cubicBezTo>
                  <a:cubicBezTo>
                    <a:pt x="520" y="19"/>
                    <a:pt x="488" y="0"/>
                    <a:pt x="488" y="0"/>
                  </a:cubicBezTo>
                  <a:cubicBezTo>
                    <a:pt x="442" y="29"/>
                    <a:pt x="481" y="38"/>
                    <a:pt x="433" y="55"/>
                  </a:cubicBezTo>
                  <a:cubicBezTo>
                    <a:pt x="420" y="52"/>
                    <a:pt x="405" y="53"/>
                    <a:pt x="393" y="47"/>
                  </a:cubicBezTo>
                  <a:cubicBezTo>
                    <a:pt x="383" y="42"/>
                    <a:pt x="379" y="29"/>
                    <a:pt x="370" y="23"/>
                  </a:cubicBezTo>
                  <a:cubicBezTo>
                    <a:pt x="363" y="18"/>
                    <a:pt x="354" y="18"/>
                    <a:pt x="346" y="15"/>
                  </a:cubicBezTo>
                  <a:cubicBezTo>
                    <a:pt x="330" y="18"/>
                    <a:pt x="309" y="10"/>
                    <a:pt x="299" y="23"/>
                  </a:cubicBezTo>
                  <a:cubicBezTo>
                    <a:pt x="281" y="46"/>
                    <a:pt x="310" y="137"/>
                    <a:pt x="267" y="94"/>
                  </a:cubicBezTo>
                  <a:close/>
                </a:path>
              </a:pathLst>
            </a:custGeom>
            <a:noFill/>
            <a:ln w="2844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82160" y="4962600"/>
              <a:ext cx="1062000" cy="866880"/>
            </a:xfrm>
            <a:custGeom>
              <a:avLst/>
              <a:gdLst/>
              <a:ahLst/>
              <a:rect l="l" t="t" r="r" b="b"/>
              <a:pathLst>
                <a:path w="669" h="546">
                  <a:moveTo>
                    <a:pt x="236" y="6"/>
                  </a:moveTo>
                  <a:cubicBezTo>
                    <a:pt x="166" y="10"/>
                    <a:pt x="110" y="0"/>
                    <a:pt x="55" y="38"/>
                  </a:cubicBezTo>
                  <a:cubicBezTo>
                    <a:pt x="42" y="77"/>
                    <a:pt x="32" y="116"/>
                    <a:pt x="23" y="156"/>
                  </a:cubicBezTo>
                  <a:cubicBezTo>
                    <a:pt x="18" y="177"/>
                    <a:pt x="13" y="198"/>
                    <a:pt x="8" y="219"/>
                  </a:cubicBezTo>
                  <a:cubicBezTo>
                    <a:pt x="5" y="229"/>
                    <a:pt x="0" y="250"/>
                    <a:pt x="0" y="250"/>
                  </a:cubicBezTo>
                  <a:cubicBezTo>
                    <a:pt x="7" y="290"/>
                    <a:pt x="0" y="316"/>
                    <a:pt x="39" y="329"/>
                  </a:cubicBezTo>
                  <a:cubicBezTo>
                    <a:pt x="44" y="337"/>
                    <a:pt x="48" y="346"/>
                    <a:pt x="55" y="352"/>
                  </a:cubicBezTo>
                  <a:cubicBezTo>
                    <a:pt x="61" y="357"/>
                    <a:pt x="72" y="354"/>
                    <a:pt x="78" y="360"/>
                  </a:cubicBezTo>
                  <a:cubicBezTo>
                    <a:pt x="119" y="402"/>
                    <a:pt x="48" y="371"/>
                    <a:pt x="110" y="392"/>
                  </a:cubicBezTo>
                  <a:cubicBezTo>
                    <a:pt x="131" y="412"/>
                    <a:pt x="155" y="428"/>
                    <a:pt x="181" y="439"/>
                  </a:cubicBezTo>
                  <a:cubicBezTo>
                    <a:pt x="225" y="458"/>
                    <a:pt x="198" y="437"/>
                    <a:pt x="236" y="455"/>
                  </a:cubicBezTo>
                  <a:cubicBezTo>
                    <a:pt x="244" y="459"/>
                    <a:pt x="251" y="466"/>
                    <a:pt x="259" y="470"/>
                  </a:cubicBezTo>
                  <a:cubicBezTo>
                    <a:pt x="274" y="477"/>
                    <a:pt x="307" y="486"/>
                    <a:pt x="307" y="486"/>
                  </a:cubicBezTo>
                  <a:cubicBezTo>
                    <a:pt x="333" y="504"/>
                    <a:pt x="358" y="505"/>
                    <a:pt x="385" y="518"/>
                  </a:cubicBezTo>
                  <a:cubicBezTo>
                    <a:pt x="443" y="546"/>
                    <a:pt x="376" y="522"/>
                    <a:pt x="433" y="541"/>
                  </a:cubicBezTo>
                  <a:cubicBezTo>
                    <a:pt x="475" y="538"/>
                    <a:pt x="517" y="539"/>
                    <a:pt x="558" y="533"/>
                  </a:cubicBezTo>
                  <a:cubicBezTo>
                    <a:pt x="582" y="529"/>
                    <a:pt x="591" y="504"/>
                    <a:pt x="598" y="486"/>
                  </a:cubicBezTo>
                  <a:cubicBezTo>
                    <a:pt x="628" y="412"/>
                    <a:pt x="603" y="467"/>
                    <a:pt x="621" y="400"/>
                  </a:cubicBezTo>
                  <a:cubicBezTo>
                    <a:pt x="633" y="355"/>
                    <a:pt x="654" y="317"/>
                    <a:pt x="669" y="274"/>
                  </a:cubicBezTo>
                  <a:cubicBezTo>
                    <a:pt x="666" y="261"/>
                    <a:pt x="668" y="246"/>
                    <a:pt x="661" y="234"/>
                  </a:cubicBezTo>
                  <a:cubicBezTo>
                    <a:pt x="656" y="226"/>
                    <a:pt x="644" y="225"/>
                    <a:pt x="637" y="219"/>
                  </a:cubicBezTo>
                  <a:cubicBezTo>
                    <a:pt x="556" y="147"/>
                    <a:pt x="621" y="190"/>
                    <a:pt x="566" y="156"/>
                  </a:cubicBezTo>
                  <a:cubicBezTo>
                    <a:pt x="531" y="102"/>
                    <a:pt x="463" y="34"/>
                    <a:pt x="393" y="30"/>
                  </a:cubicBezTo>
                  <a:cubicBezTo>
                    <a:pt x="250" y="21"/>
                    <a:pt x="296" y="48"/>
                    <a:pt x="236" y="6"/>
                  </a:cubicBezTo>
                  <a:close/>
                </a:path>
              </a:pathLst>
            </a:custGeom>
            <a:noFill/>
            <a:ln w="2844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754440" y="5715000"/>
            <a:ext cx="4289400" cy="459720"/>
          </a:xfrm>
          <a:prstGeom prst="rect">
            <a:avLst/>
          </a:prstGeom>
          <a:solidFill>
            <a:srgbClr val="014389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Białko o zmienionej bud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3276720"/>
            <a:ext cx="144756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3276720"/>
            <a:ext cx="45720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43800" y="3276720"/>
            <a:ext cx="1600200" cy="0"/>
          </a:xfrm>
          <a:prstGeom prst="line">
            <a:avLst/>
          </a:prstGeom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0" y="3276720"/>
            <a:ext cx="0" cy="106668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enguin"/>
              </a:rPr>
              <a:t>Prezentacja antygenu a SIT</a:t>
            </a:r>
            <a:endParaRPr b="0" lang="en-US" sz="6000" spc="-1" strike="noStrike">
              <a:solidFill>
                <a:srgbClr val="ffffcc"/>
              </a:solidFill>
              <a:latin typeface="Pengui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73200" y="1523880"/>
            <a:ext cx="3045600" cy="2761200"/>
            <a:chOff x="673200" y="1523880"/>
            <a:chExt cx="3045600" cy="2761200"/>
          </a:xfrm>
        </p:grpSpPr>
        <p:grpSp>
          <p:nvGrpSpPr>
            <p:cNvPr id="280" name=""/>
            <p:cNvGrpSpPr/>
            <p:nvPr/>
          </p:nvGrpSpPr>
          <p:grpSpPr>
            <a:xfrm>
              <a:off x="673200" y="1523880"/>
              <a:ext cx="3045600" cy="2761200"/>
              <a:chOff x="673200" y="1523880"/>
              <a:chExt cx="3045600" cy="27612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673200" y="1523880"/>
                <a:ext cx="2428200" cy="2761200"/>
                <a:chOff x="673200" y="1523880"/>
                <a:chExt cx="2428200" cy="27612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976320" y="2251080"/>
                  <a:ext cx="636840" cy="1236600"/>
                </a:xfrm>
                <a:custGeom>
                  <a:avLst/>
                  <a:gdLst/>
                  <a:ahLst/>
                  <a:rect l="l" t="t" r="r" b="b"/>
                  <a:pathLst>
                    <a:path w="401" h="779">
                      <a:moveTo>
                        <a:pt x="0" y="0"/>
                      </a:moveTo>
                      <a:cubicBezTo>
                        <a:pt x="55" y="19"/>
                        <a:pt x="98" y="32"/>
                        <a:pt x="157" y="39"/>
                      </a:cubicBezTo>
                      <a:cubicBezTo>
                        <a:pt x="228" y="63"/>
                        <a:pt x="262" y="126"/>
                        <a:pt x="322" y="165"/>
                      </a:cubicBezTo>
                      <a:cubicBezTo>
                        <a:pt x="327" y="173"/>
                        <a:pt x="331" y="183"/>
                        <a:pt x="338" y="189"/>
                      </a:cubicBezTo>
                      <a:cubicBezTo>
                        <a:pt x="344" y="194"/>
                        <a:pt x="355" y="191"/>
                        <a:pt x="361" y="197"/>
                      </a:cubicBezTo>
                      <a:cubicBezTo>
                        <a:pt x="389" y="225"/>
                        <a:pt x="391" y="238"/>
                        <a:pt x="401" y="268"/>
                      </a:cubicBezTo>
                      <a:cubicBezTo>
                        <a:pt x="395" y="349"/>
                        <a:pt x="394" y="431"/>
                        <a:pt x="385" y="512"/>
                      </a:cubicBezTo>
                      <a:cubicBezTo>
                        <a:pt x="380" y="551"/>
                        <a:pt x="371" y="566"/>
                        <a:pt x="361" y="598"/>
                      </a:cubicBezTo>
                      <a:cubicBezTo>
                        <a:pt x="358" y="606"/>
                        <a:pt x="360" y="616"/>
                        <a:pt x="354" y="622"/>
                      </a:cubicBezTo>
                      <a:cubicBezTo>
                        <a:pt x="330" y="646"/>
                        <a:pt x="273" y="684"/>
                        <a:pt x="236" y="693"/>
                      </a:cubicBezTo>
                      <a:cubicBezTo>
                        <a:pt x="213" y="699"/>
                        <a:pt x="189" y="703"/>
                        <a:pt x="165" y="708"/>
                      </a:cubicBezTo>
                      <a:cubicBezTo>
                        <a:pt x="149" y="711"/>
                        <a:pt x="118" y="724"/>
                        <a:pt x="118" y="724"/>
                      </a:cubicBezTo>
                      <a:cubicBezTo>
                        <a:pt x="85" y="774"/>
                        <a:pt x="46" y="754"/>
                        <a:pt x="0" y="779"/>
                      </a:cubicBezTo>
                    </a:path>
                  </a:pathLst>
                </a:custGeom>
                <a:noFill/>
                <a:ln w="381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65480" y="2396880"/>
                  <a:ext cx="590400" cy="1060560"/>
                </a:xfrm>
                <a:custGeom>
                  <a:avLst/>
                  <a:gdLst/>
                  <a:ahLst/>
                  <a:rect l="l" t="t" r="r" b="b"/>
                  <a:pathLst>
                    <a:path w="372" h="668">
                      <a:moveTo>
                        <a:pt x="14" y="3"/>
                      </a:moveTo>
                      <a:cubicBezTo>
                        <a:pt x="71" y="20"/>
                        <a:pt x="0" y="0"/>
                        <a:pt x="109" y="18"/>
                      </a:cubicBezTo>
                      <a:cubicBezTo>
                        <a:pt x="171" y="28"/>
                        <a:pt x="228" y="49"/>
                        <a:pt x="290" y="58"/>
                      </a:cubicBezTo>
                      <a:cubicBezTo>
                        <a:pt x="319" y="77"/>
                        <a:pt x="326" y="96"/>
                        <a:pt x="337" y="128"/>
                      </a:cubicBezTo>
                      <a:cubicBezTo>
                        <a:pt x="275" y="149"/>
                        <a:pt x="306" y="141"/>
                        <a:pt x="242" y="152"/>
                      </a:cubicBezTo>
                      <a:cubicBezTo>
                        <a:pt x="219" y="232"/>
                        <a:pt x="229" y="314"/>
                        <a:pt x="235" y="396"/>
                      </a:cubicBezTo>
                      <a:cubicBezTo>
                        <a:pt x="237" y="428"/>
                        <a:pt x="224" y="472"/>
                        <a:pt x="250" y="490"/>
                      </a:cubicBezTo>
                      <a:cubicBezTo>
                        <a:pt x="271" y="505"/>
                        <a:pt x="299" y="508"/>
                        <a:pt x="321" y="522"/>
                      </a:cubicBezTo>
                      <a:cubicBezTo>
                        <a:pt x="372" y="668"/>
                        <a:pt x="32" y="608"/>
                        <a:pt x="30" y="608"/>
                      </a:cubicBezTo>
                    </a:path>
                  </a:pathLst>
                </a:custGeom>
                <a:noFill/>
                <a:ln w="381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2133720" y="2209680"/>
                  <a:ext cx="961920" cy="1339560"/>
                  <a:chOff x="2133720" y="2209680"/>
                  <a:chExt cx="961920" cy="13395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flipH="1">
                    <a:off x="2459160" y="2209680"/>
                    <a:ext cx="636480" cy="123660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779">
                        <a:moveTo>
                          <a:pt x="0" y="0"/>
                        </a:moveTo>
                        <a:cubicBezTo>
                          <a:pt x="55" y="19"/>
                          <a:pt x="98" y="32"/>
                          <a:pt x="157" y="39"/>
                        </a:cubicBezTo>
                        <a:cubicBezTo>
                          <a:pt x="228" y="63"/>
                          <a:pt x="262" y="126"/>
                          <a:pt x="322" y="165"/>
                        </a:cubicBezTo>
                        <a:cubicBezTo>
                          <a:pt x="327" y="173"/>
                          <a:pt x="331" y="183"/>
                          <a:pt x="338" y="189"/>
                        </a:cubicBezTo>
                        <a:cubicBezTo>
                          <a:pt x="344" y="194"/>
                          <a:pt x="355" y="191"/>
                          <a:pt x="361" y="197"/>
                        </a:cubicBezTo>
                        <a:cubicBezTo>
                          <a:pt x="389" y="225"/>
                          <a:pt x="391" y="238"/>
                          <a:pt x="401" y="268"/>
                        </a:cubicBezTo>
                        <a:cubicBezTo>
                          <a:pt x="395" y="349"/>
                          <a:pt x="394" y="431"/>
                          <a:pt x="385" y="512"/>
                        </a:cubicBezTo>
                        <a:cubicBezTo>
                          <a:pt x="380" y="551"/>
                          <a:pt x="371" y="566"/>
                          <a:pt x="361" y="598"/>
                        </a:cubicBezTo>
                        <a:cubicBezTo>
                          <a:pt x="358" y="606"/>
                          <a:pt x="360" y="616"/>
                          <a:pt x="354" y="622"/>
                        </a:cubicBezTo>
                        <a:cubicBezTo>
                          <a:pt x="330" y="646"/>
                          <a:pt x="273" y="684"/>
                          <a:pt x="236" y="693"/>
                        </a:cubicBezTo>
                        <a:cubicBezTo>
                          <a:pt x="213" y="699"/>
                          <a:pt x="189" y="703"/>
                          <a:pt x="165" y="708"/>
                        </a:cubicBezTo>
                        <a:cubicBezTo>
                          <a:pt x="149" y="711"/>
                          <a:pt x="118" y="724"/>
                          <a:pt x="118" y="724"/>
                        </a:cubicBezTo>
                        <a:cubicBezTo>
                          <a:pt x="85" y="774"/>
                          <a:pt x="46" y="754"/>
                          <a:pt x="0" y="779"/>
                        </a:cubicBezTo>
                      </a:path>
                    </a:pathLst>
                  </a:custGeom>
                  <a:noFill/>
                  <a:ln w="3816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2133720" y="2303280"/>
                    <a:ext cx="623880" cy="12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3" h="785">
                        <a:moveTo>
                          <a:pt x="330" y="69"/>
                        </a:moveTo>
                        <a:cubicBezTo>
                          <a:pt x="296" y="66"/>
                          <a:pt x="262" y="67"/>
                          <a:pt x="228" y="61"/>
                        </a:cubicBezTo>
                        <a:cubicBezTo>
                          <a:pt x="216" y="59"/>
                          <a:pt x="207" y="50"/>
                          <a:pt x="196" y="45"/>
                        </a:cubicBezTo>
                        <a:cubicBezTo>
                          <a:pt x="163" y="31"/>
                          <a:pt x="145" y="34"/>
                          <a:pt x="102" y="29"/>
                        </a:cubicBezTo>
                        <a:cubicBezTo>
                          <a:pt x="60" y="18"/>
                          <a:pt x="57" y="0"/>
                          <a:pt x="31" y="37"/>
                        </a:cubicBezTo>
                        <a:cubicBezTo>
                          <a:pt x="40" y="131"/>
                          <a:pt x="32" y="128"/>
                          <a:pt x="118" y="139"/>
                        </a:cubicBezTo>
                        <a:cubicBezTo>
                          <a:pt x="122" y="152"/>
                          <a:pt x="125" y="212"/>
                          <a:pt x="110" y="218"/>
                        </a:cubicBezTo>
                        <a:cubicBezTo>
                          <a:pt x="88" y="227"/>
                          <a:pt x="63" y="223"/>
                          <a:pt x="39" y="226"/>
                        </a:cubicBezTo>
                        <a:cubicBezTo>
                          <a:pt x="42" y="268"/>
                          <a:pt x="29" y="314"/>
                          <a:pt x="47" y="352"/>
                        </a:cubicBezTo>
                        <a:cubicBezTo>
                          <a:pt x="55" y="369"/>
                          <a:pt x="85" y="353"/>
                          <a:pt x="102" y="360"/>
                        </a:cubicBezTo>
                        <a:cubicBezTo>
                          <a:pt x="111" y="364"/>
                          <a:pt x="113" y="375"/>
                          <a:pt x="118" y="383"/>
                        </a:cubicBezTo>
                        <a:cubicBezTo>
                          <a:pt x="109" y="486"/>
                          <a:pt x="123" y="472"/>
                          <a:pt x="39" y="486"/>
                        </a:cubicBezTo>
                        <a:cubicBezTo>
                          <a:pt x="42" y="515"/>
                          <a:pt x="27" y="552"/>
                          <a:pt x="47" y="572"/>
                        </a:cubicBezTo>
                        <a:cubicBezTo>
                          <a:pt x="67" y="592"/>
                          <a:pt x="106" y="571"/>
                          <a:pt x="133" y="580"/>
                        </a:cubicBezTo>
                        <a:cubicBezTo>
                          <a:pt x="142" y="583"/>
                          <a:pt x="144" y="596"/>
                          <a:pt x="149" y="604"/>
                        </a:cubicBezTo>
                        <a:cubicBezTo>
                          <a:pt x="126" y="670"/>
                          <a:pt x="57" y="663"/>
                          <a:pt x="0" y="675"/>
                        </a:cubicBezTo>
                        <a:cubicBezTo>
                          <a:pt x="2" y="691"/>
                          <a:pt x="1" y="707"/>
                          <a:pt x="7" y="722"/>
                        </a:cubicBezTo>
                        <a:cubicBezTo>
                          <a:pt x="23" y="762"/>
                          <a:pt x="69" y="763"/>
                          <a:pt x="102" y="785"/>
                        </a:cubicBezTo>
                        <a:cubicBezTo>
                          <a:pt x="150" y="752"/>
                          <a:pt x="204" y="758"/>
                          <a:pt x="259" y="745"/>
                        </a:cubicBezTo>
                        <a:cubicBezTo>
                          <a:pt x="309" y="734"/>
                          <a:pt x="347" y="690"/>
                          <a:pt x="393" y="667"/>
                        </a:cubicBezTo>
                      </a:path>
                    </a:pathLst>
                  </a:custGeom>
                  <a:noFill/>
                  <a:ln w="38160">
                    <a:solidFill>
                      <a:srgbClr val="cc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"/>
                <p:cNvSpPr/>
                <p:nvPr/>
              </p:nvSpPr>
              <p:spPr>
                <a:xfrm>
                  <a:off x="1644840" y="2881080"/>
                  <a:ext cx="293760" cy="193680"/>
                </a:xfrm>
                <a:custGeom>
                  <a:avLst/>
                  <a:gdLst/>
                  <a:ahLst/>
                  <a:rect l="l" t="t" r="r" b="b"/>
                  <a:pathLst>
                    <a:path w="185" h="122">
                      <a:moveTo>
                        <a:pt x="27" y="20"/>
                      </a:moveTo>
                      <a:cubicBezTo>
                        <a:pt x="35" y="17"/>
                        <a:pt x="43" y="12"/>
                        <a:pt x="51" y="12"/>
                      </a:cubicBezTo>
                      <a:cubicBezTo>
                        <a:pt x="80" y="12"/>
                        <a:pt x="117" y="0"/>
                        <a:pt x="137" y="20"/>
                      </a:cubicBezTo>
                      <a:cubicBezTo>
                        <a:pt x="185" y="69"/>
                        <a:pt x="107" y="107"/>
                        <a:pt x="82" y="122"/>
                      </a:cubicBezTo>
                      <a:cubicBezTo>
                        <a:pt x="69" y="120"/>
                        <a:pt x="55" y="121"/>
                        <a:pt x="43" y="115"/>
                      </a:cubicBezTo>
                      <a:cubicBezTo>
                        <a:pt x="0" y="94"/>
                        <a:pt x="27" y="56"/>
                        <a:pt x="27" y="20"/>
                      </a:cubicBezTo>
                      <a:close/>
                    </a:path>
                  </a:pathLst>
                </a:custGeom>
                <a:solidFill>
                  <a:srgbClr val="66cc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73200" y="2666880"/>
                  <a:ext cx="752400" cy="459720"/>
                </a:xfrm>
                <a:prstGeom prst="rect">
                  <a:avLst/>
                </a:prstGeom>
                <a:solidFill>
                  <a:srgbClr val="023266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cc"/>
                      </a:solidFill>
                      <a:latin typeface="Tahoma"/>
                    </a:rPr>
                    <a:t>AP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337400" y="1523880"/>
                  <a:ext cx="1428840" cy="337320"/>
                </a:xfrm>
                <a:prstGeom prst="rect">
                  <a:avLst/>
                </a:prstGeom>
                <a:solidFill>
                  <a:srgbClr val="023266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1600" spc="-1" strike="noStrike">
                      <a:solidFill>
                        <a:srgbClr val="ffffcc"/>
                      </a:solidFill>
                      <a:latin typeface="Tahoma"/>
                    </a:rPr>
                    <a:t>kostymulacj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015560" y="3886200"/>
                  <a:ext cx="2085840" cy="398880"/>
                </a:xfrm>
                <a:prstGeom prst="rect">
                  <a:avLst/>
                </a:prstGeom>
                <a:solidFill>
                  <a:srgbClr val="023266"/>
                </a:solid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l-PL" sz="2000" spc="-1" strike="noStrike">
                      <a:solidFill>
                        <a:srgbClr val="ffffcc"/>
                      </a:solidFill>
                      <a:latin typeface="Tahoma"/>
                    </a:rPr>
                    <a:t>Peptyd natywn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91" name=""/>
                <p:cNvCxnSpPr/>
                <p:nvPr/>
              </p:nvCxnSpPr>
              <p:spPr>
                <a:xfrm>
                  <a:off x="1599840" y="2057040"/>
                  <a:ext cx="839160" cy="1080"/>
                </a:xfrm>
                <a:prstGeom prst="curvedConnector2">
                  <a:avLst/>
                </a:prstGeom>
                <a:ln w="38160">
                  <a:solidFill>
                    <a:srgbClr val="ccffff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292" name=""/>
              <p:cNvSpPr/>
              <p:nvPr/>
            </p:nvSpPr>
            <p:spPr>
              <a:xfrm>
                <a:off x="2669400" y="2590920"/>
                <a:ext cx="1049400" cy="520200"/>
              </a:xfrm>
              <a:prstGeom prst="rect">
                <a:avLst/>
              </a:prstGeom>
              <a:solidFill>
                <a:srgbClr val="023266"/>
              </a:solidFill>
              <a:ln w="93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cc"/>
                    </a:solidFill>
                    <a:latin typeface="Tahoma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cc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ffffcc"/>
                    </a:solidFill>
                    <a:latin typeface="Tahoma"/>
                  </a:rPr>
                  <a:t>aktywacj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2819520" y="2666520"/>
                <a:ext cx="0" cy="381240"/>
              </a:xfrm>
              <a:prstGeom prst="line">
                <a:avLst/>
              </a:prstGeom>
              <a:ln w="9360">
                <a:solidFill>
                  <a:srgbClr val="cc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1593000" y="2286000"/>
              <a:ext cx="468720" cy="24624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ahoma"/>
                </a:rPr>
                <a:t>MH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454920" y="3200400"/>
            <a:ext cx="3033000" cy="3065760"/>
            <a:chOff x="3454920" y="3200400"/>
            <a:chExt cx="3033000" cy="3065760"/>
          </a:xfrm>
        </p:grpSpPr>
        <p:sp>
          <p:nvSpPr>
            <p:cNvPr id="296" name=""/>
            <p:cNvSpPr/>
            <p:nvPr/>
          </p:nvSpPr>
          <p:spPr>
            <a:xfrm>
              <a:off x="3948120" y="4308480"/>
              <a:ext cx="636480" cy="1236600"/>
            </a:xfrm>
            <a:custGeom>
              <a:avLst/>
              <a:gdLst/>
              <a:ahLst/>
              <a:rect l="l" t="t" r="r" b="b"/>
              <a:pathLst>
                <a:path w="401" h="779">
                  <a:moveTo>
                    <a:pt x="0" y="0"/>
                  </a:moveTo>
                  <a:cubicBezTo>
                    <a:pt x="55" y="19"/>
                    <a:pt x="98" y="32"/>
                    <a:pt x="157" y="39"/>
                  </a:cubicBezTo>
                  <a:cubicBezTo>
                    <a:pt x="228" y="63"/>
                    <a:pt x="262" y="126"/>
                    <a:pt x="322" y="165"/>
                  </a:cubicBezTo>
                  <a:cubicBezTo>
                    <a:pt x="327" y="173"/>
                    <a:pt x="331" y="183"/>
                    <a:pt x="338" y="189"/>
                  </a:cubicBezTo>
                  <a:cubicBezTo>
                    <a:pt x="344" y="194"/>
                    <a:pt x="355" y="191"/>
                    <a:pt x="361" y="197"/>
                  </a:cubicBezTo>
                  <a:cubicBezTo>
                    <a:pt x="389" y="225"/>
                    <a:pt x="391" y="238"/>
                    <a:pt x="401" y="268"/>
                  </a:cubicBezTo>
                  <a:cubicBezTo>
                    <a:pt x="395" y="349"/>
                    <a:pt x="394" y="431"/>
                    <a:pt x="385" y="512"/>
                  </a:cubicBezTo>
                  <a:cubicBezTo>
                    <a:pt x="380" y="551"/>
                    <a:pt x="371" y="566"/>
                    <a:pt x="361" y="598"/>
                  </a:cubicBezTo>
                  <a:cubicBezTo>
                    <a:pt x="358" y="606"/>
                    <a:pt x="360" y="616"/>
                    <a:pt x="354" y="622"/>
                  </a:cubicBezTo>
                  <a:cubicBezTo>
                    <a:pt x="330" y="646"/>
                    <a:pt x="273" y="684"/>
                    <a:pt x="236" y="693"/>
                  </a:cubicBezTo>
                  <a:cubicBezTo>
                    <a:pt x="213" y="699"/>
                    <a:pt x="189" y="703"/>
                    <a:pt x="165" y="708"/>
                  </a:cubicBezTo>
                  <a:cubicBezTo>
                    <a:pt x="149" y="711"/>
                    <a:pt x="118" y="724"/>
                    <a:pt x="118" y="724"/>
                  </a:cubicBezTo>
                  <a:cubicBezTo>
                    <a:pt x="85" y="774"/>
                    <a:pt x="46" y="754"/>
                    <a:pt x="0" y="779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36920" y="4454640"/>
              <a:ext cx="590760" cy="1060200"/>
            </a:xfrm>
            <a:custGeom>
              <a:avLst/>
              <a:gdLst/>
              <a:ahLst/>
              <a:rect l="l" t="t" r="r" b="b"/>
              <a:pathLst>
                <a:path w="372" h="668">
                  <a:moveTo>
                    <a:pt x="14" y="3"/>
                  </a:moveTo>
                  <a:cubicBezTo>
                    <a:pt x="71" y="20"/>
                    <a:pt x="0" y="0"/>
                    <a:pt x="109" y="18"/>
                  </a:cubicBezTo>
                  <a:cubicBezTo>
                    <a:pt x="171" y="28"/>
                    <a:pt x="228" y="49"/>
                    <a:pt x="290" y="58"/>
                  </a:cubicBezTo>
                  <a:cubicBezTo>
                    <a:pt x="319" y="77"/>
                    <a:pt x="326" y="96"/>
                    <a:pt x="337" y="128"/>
                  </a:cubicBezTo>
                  <a:cubicBezTo>
                    <a:pt x="275" y="149"/>
                    <a:pt x="306" y="141"/>
                    <a:pt x="242" y="152"/>
                  </a:cubicBezTo>
                  <a:cubicBezTo>
                    <a:pt x="219" y="232"/>
                    <a:pt x="229" y="314"/>
                    <a:pt x="235" y="396"/>
                  </a:cubicBezTo>
                  <a:cubicBezTo>
                    <a:pt x="237" y="428"/>
                    <a:pt x="224" y="472"/>
                    <a:pt x="250" y="490"/>
                  </a:cubicBezTo>
                  <a:cubicBezTo>
                    <a:pt x="271" y="505"/>
                    <a:pt x="299" y="508"/>
                    <a:pt x="321" y="522"/>
                  </a:cubicBezTo>
                  <a:cubicBezTo>
                    <a:pt x="372" y="668"/>
                    <a:pt x="32" y="608"/>
                    <a:pt x="30" y="608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5105520" y="4267080"/>
              <a:ext cx="961920" cy="1339560"/>
              <a:chOff x="5105520" y="4267080"/>
              <a:chExt cx="961920" cy="133956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5430960" y="4267080"/>
                <a:ext cx="636480" cy="1236600"/>
              </a:xfrm>
              <a:custGeom>
                <a:avLst/>
                <a:gdLst/>
                <a:ahLst/>
                <a:rect l="l" t="t" r="r" b="b"/>
                <a:pathLst>
                  <a:path w="401" h="779">
                    <a:moveTo>
                      <a:pt x="0" y="0"/>
                    </a:moveTo>
                    <a:cubicBezTo>
                      <a:pt x="55" y="19"/>
                      <a:pt x="98" y="32"/>
                      <a:pt x="157" y="39"/>
                    </a:cubicBezTo>
                    <a:cubicBezTo>
                      <a:pt x="228" y="63"/>
                      <a:pt x="262" y="126"/>
                      <a:pt x="322" y="165"/>
                    </a:cubicBezTo>
                    <a:cubicBezTo>
                      <a:pt x="327" y="173"/>
                      <a:pt x="331" y="183"/>
                      <a:pt x="338" y="189"/>
                    </a:cubicBezTo>
                    <a:cubicBezTo>
                      <a:pt x="344" y="194"/>
                      <a:pt x="355" y="191"/>
                      <a:pt x="361" y="197"/>
                    </a:cubicBezTo>
                    <a:cubicBezTo>
                      <a:pt x="389" y="225"/>
                      <a:pt x="391" y="238"/>
                      <a:pt x="401" y="268"/>
                    </a:cubicBezTo>
                    <a:cubicBezTo>
                      <a:pt x="395" y="349"/>
                      <a:pt x="394" y="431"/>
                      <a:pt x="385" y="512"/>
                    </a:cubicBezTo>
                    <a:cubicBezTo>
                      <a:pt x="380" y="551"/>
                      <a:pt x="371" y="566"/>
                      <a:pt x="361" y="598"/>
                    </a:cubicBezTo>
                    <a:cubicBezTo>
                      <a:pt x="358" y="606"/>
                      <a:pt x="360" y="616"/>
                      <a:pt x="354" y="622"/>
                    </a:cubicBezTo>
                    <a:cubicBezTo>
                      <a:pt x="330" y="646"/>
                      <a:pt x="273" y="684"/>
                      <a:pt x="236" y="693"/>
                    </a:cubicBezTo>
                    <a:cubicBezTo>
                      <a:pt x="213" y="699"/>
                      <a:pt x="189" y="703"/>
                      <a:pt x="165" y="708"/>
                    </a:cubicBezTo>
                    <a:cubicBezTo>
                      <a:pt x="149" y="711"/>
                      <a:pt x="118" y="724"/>
                      <a:pt x="118" y="724"/>
                    </a:cubicBezTo>
                    <a:cubicBezTo>
                      <a:pt x="85" y="774"/>
                      <a:pt x="46" y="754"/>
                      <a:pt x="0" y="779"/>
                    </a:cubicBezTo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05520" y="4360680"/>
                <a:ext cx="623880" cy="1245960"/>
              </a:xfrm>
              <a:custGeom>
                <a:avLst/>
                <a:gdLst/>
                <a:ahLst/>
                <a:rect l="l" t="t" r="r" b="b"/>
                <a:pathLst>
                  <a:path w="393" h="785">
                    <a:moveTo>
                      <a:pt x="330" y="69"/>
                    </a:moveTo>
                    <a:cubicBezTo>
                      <a:pt x="296" y="66"/>
                      <a:pt x="262" y="67"/>
                      <a:pt x="228" y="61"/>
                    </a:cubicBezTo>
                    <a:cubicBezTo>
                      <a:pt x="216" y="59"/>
                      <a:pt x="207" y="50"/>
                      <a:pt x="196" y="45"/>
                    </a:cubicBezTo>
                    <a:cubicBezTo>
                      <a:pt x="163" y="31"/>
                      <a:pt x="145" y="34"/>
                      <a:pt x="102" y="29"/>
                    </a:cubicBezTo>
                    <a:cubicBezTo>
                      <a:pt x="60" y="18"/>
                      <a:pt x="57" y="0"/>
                      <a:pt x="31" y="37"/>
                    </a:cubicBezTo>
                    <a:cubicBezTo>
                      <a:pt x="40" y="131"/>
                      <a:pt x="32" y="128"/>
                      <a:pt x="118" y="139"/>
                    </a:cubicBezTo>
                    <a:cubicBezTo>
                      <a:pt x="122" y="152"/>
                      <a:pt x="125" y="212"/>
                      <a:pt x="110" y="218"/>
                    </a:cubicBezTo>
                    <a:cubicBezTo>
                      <a:pt x="88" y="227"/>
                      <a:pt x="63" y="223"/>
                      <a:pt x="39" y="226"/>
                    </a:cubicBezTo>
                    <a:cubicBezTo>
                      <a:pt x="42" y="268"/>
                      <a:pt x="29" y="314"/>
                      <a:pt x="47" y="352"/>
                    </a:cubicBezTo>
                    <a:cubicBezTo>
                      <a:pt x="55" y="369"/>
                      <a:pt x="85" y="353"/>
                      <a:pt x="102" y="360"/>
                    </a:cubicBezTo>
                    <a:cubicBezTo>
                      <a:pt x="111" y="364"/>
                      <a:pt x="113" y="375"/>
                      <a:pt x="118" y="383"/>
                    </a:cubicBezTo>
                    <a:cubicBezTo>
                      <a:pt x="109" y="486"/>
                      <a:pt x="123" y="472"/>
                      <a:pt x="39" y="486"/>
                    </a:cubicBezTo>
                    <a:cubicBezTo>
                      <a:pt x="42" y="515"/>
                      <a:pt x="27" y="552"/>
                      <a:pt x="47" y="572"/>
                    </a:cubicBezTo>
                    <a:cubicBezTo>
                      <a:pt x="67" y="592"/>
                      <a:pt x="106" y="571"/>
                      <a:pt x="133" y="580"/>
                    </a:cubicBezTo>
                    <a:cubicBezTo>
                      <a:pt x="142" y="583"/>
                      <a:pt x="144" y="596"/>
                      <a:pt x="149" y="604"/>
                    </a:cubicBezTo>
                    <a:cubicBezTo>
                      <a:pt x="126" y="670"/>
                      <a:pt x="57" y="663"/>
                      <a:pt x="0" y="675"/>
                    </a:cubicBezTo>
                    <a:cubicBezTo>
                      <a:pt x="2" y="691"/>
                      <a:pt x="1" y="707"/>
                      <a:pt x="7" y="722"/>
                    </a:cubicBezTo>
                    <a:cubicBezTo>
                      <a:pt x="23" y="762"/>
                      <a:pt x="69" y="763"/>
                      <a:pt x="102" y="785"/>
                    </a:cubicBezTo>
                    <a:cubicBezTo>
                      <a:pt x="150" y="752"/>
                      <a:pt x="204" y="758"/>
                      <a:pt x="259" y="745"/>
                    </a:cubicBezTo>
                    <a:cubicBezTo>
                      <a:pt x="309" y="734"/>
                      <a:pt x="347" y="690"/>
                      <a:pt x="393" y="667"/>
                    </a:cubicBezTo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616280" y="4938840"/>
              <a:ext cx="293760" cy="193680"/>
            </a:xfrm>
            <a:custGeom>
              <a:avLst/>
              <a:gdLst/>
              <a:ahLst/>
              <a:rect l="l" t="t" r="r" b="b"/>
              <a:pathLst>
                <a:path w="185" h="122">
                  <a:moveTo>
                    <a:pt x="27" y="20"/>
                  </a:moveTo>
                  <a:cubicBezTo>
                    <a:pt x="35" y="17"/>
                    <a:pt x="43" y="12"/>
                    <a:pt x="51" y="12"/>
                  </a:cubicBezTo>
                  <a:cubicBezTo>
                    <a:pt x="80" y="12"/>
                    <a:pt x="117" y="0"/>
                    <a:pt x="137" y="20"/>
                  </a:cubicBezTo>
                  <a:cubicBezTo>
                    <a:pt x="185" y="69"/>
                    <a:pt x="107" y="107"/>
                    <a:pt x="82" y="122"/>
                  </a:cubicBezTo>
                  <a:cubicBezTo>
                    <a:pt x="69" y="120"/>
                    <a:pt x="55" y="121"/>
                    <a:pt x="43" y="115"/>
                  </a:cubicBezTo>
                  <a:cubicBezTo>
                    <a:pt x="0" y="94"/>
                    <a:pt x="27" y="56"/>
                    <a:pt x="27" y="20"/>
                  </a:cubicBezTo>
                  <a:close/>
                </a:path>
              </a:pathLst>
            </a:custGeom>
            <a:noFill/>
            <a:ln w="381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45000" y="4724280"/>
              <a:ext cx="752400" cy="45972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20422800">
              <a:off x="3470040" y="3657600"/>
              <a:ext cx="1428840" cy="33732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cc"/>
                  </a:solidFill>
                  <a:latin typeface="Tahoma"/>
                </a:rPr>
                <a:t>kostymulac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98640" y="5867280"/>
              <a:ext cx="2785320" cy="39888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cc"/>
                  </a:solidFill>
                  <a:latin typeface="Tahoma"/>
                </a:rPr>
                <a:t>Peptyd natywny w 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21400" y="4648320"/>
              <a:ext cx="866520" cy="52020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cc"/>
                  </a:solidFill>
                  <a:latin typeface="Tahom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ffffcc"/>
                  </a:solidFill>
                  <a:latin typeface="Tahoma"/>
                </a:rPr>
                <a:t> </a:t>
              </a:r>
              <a:r>
                <a:rPr b="0" lang="pl-PL" sz="1400" spc="-1" strike="noStrike">
                  <a:solidFill>
                    <a:srgbClr val="ffffcc"/>
                  </a:solidFill>
                  <a:latin typeface="Tahoma"/>
                </a:rPr>
                <a:t>anerg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72000" y="3276720"/>
              <a:ext cx="457200" cy="914400"/>
            </a:xfrm>
            <a:prstGeom prst="line">
              <a:avLst/>
            </a:prstGeom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00600" y="3200400"/>
              <a:ext cx="457200" cy="914400"/>
            </a:xfrm>
            <a:prstGeom prst="line">
              <a:avLst/>
            </a:prstGeom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64800" y="4343400"/>
              <a:ext cx="468720" cy="24624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ahoma"/>
                </a:rPr>
                <a:t>MH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083280" y="1295280"/>
            <a:ext cx="3210480" cy="3066120"/>
            <a:chOff x="6083280" y="1295280"/>
            <a:chExt cx="3210480" cy="3066120"/>
          </a:xfrm>
        </p:grpSpPr>
        <p:sp>
          <p:nvSpPr>
            <p:cNvPr id="310" name=""/>
            <p:cNvSpPr/>
            <p:nvPr/>
          </p:nvSpPr>
          <p:spPr>
            <a:xfrm>
              <a:off x="6386400" y="2022480"/>
              <a:ext cx="636840" cy="1236600"/>
            </a:xfrm>
            <a:custGeom>
              <a:avLst/>
              <a:gdLst/>
              <a:ahLst/>
              <a:rect l="l" t="t" r="r" b="b"/>
              <a:pathLst>
                <a:path w="401" h="779">
                  <a:moveTo>
                    <a:pt x="0" y="0"/>
                  </a:moveTo>
                  <a:cubicBezTo>
                    <a:pt x="55" y="19"/>
                    <a:pt x="98" y="32"/>
                    <a:pt x="157" y="39"/>
                  </a:cubicBezTo>
                  <a:cubicBezTo>
                    <a:pt x="228" y="63"/>
                    <a:pt x="262" y="126"/>
                    <a:pt x="322" y="165"/>
                  </a:cubicBezTo>
                  <a:cubicBezTo>
                    <a:pt x="327" y="173"/>
                    <a:pt x="331" y="183"/>
                    <a:pt x="338" y="189"/>
                  </a:cubicBezTo>
                  <a:cubicBezTo>
                    <a:pt x="344" y="194"/>
                    <a:pt x="355" y="191"/>
                    <a:pt x="361" y="197"/>
                  </a:cubicBezTo>
                  <a:cubicBezTo>
                    <a:pt x="389" y="225"/>
                    <a:pt x="391" y="238"/>
                    <a:pt x="401" y="268"/>
                  </a:cubicBezTo>
                  <a:cubicBezTo>
                    <a:pt x="395" y="349"/>
                    <a:pt x="394" y="431"/>
                    <a:pt x="385" y="512"/>
                  </a:cubicBezTo>
                  <a:cubicBezTo>
                    <a:pt x="380" y="551"/>
                    <a:pt x="371" y="566"/>
                    <a:pt x="361" y="598"/>
                  </a:cubicBezTo>
                  <a:cubicBezTo>
                    <a:pt x="358" y="606"/>
                    <a:pt x="360" y="616"/>
                    <a:pt x="354" y="622"/>
                  </a:cubicBezTo>
                  <a:cubicBezTo>
                    <a:pt x="330" y="646"/>
                    <a:pt x="273" y="684"/>
                    <a:pt x="236" y="693"/>
                  </a:cubicBezTo>
                  <a:cubicBezTo>
                    <a:pt x="213" y="699"/>
                    <a:pt x="189" y="703"/>
                    <a:pt x="165" y="708"/>
                  </a:cubicBezTo>
                  <a:cubicBezTo>
                    <a:pt x="149" y="711"/>
                    <a:pt x="118" y="724"/>
                    <a:pt x="118" y="724"/>
                  </a:cubicBezTo>
                  <a:cubicBezTo>
                    <a:pt x="85" y="774"/>
                    <a:pt x="46" y="754"/>
                    <a:pt x="0" y="779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75560" y="2168640"/>
              <a:ext cx="590400" cy="1060200"/>
            </a:xfrm>
            <a:custGeom>
              <a:avLst/>
              <a:gdLst/>
              <a:ahLst/>
              <a:rect l="l" t="t" r="r" b="b"/>
              <a:pathLst>
                <a:path w="372" h="668">
                  <a:moveTo>
                    <a:pt x="14" y="3"/>
                  </a:moveTo>
                  <a:cubicBezTo>
                    <a:pt x="71" y="20"/>
                    <a:pt x="0" y="0"/>
                    <a:pt x="109" y="18"/>
                  </a:cubicBezTo>
                  <a:cubicBezTo>
                    <a:pt x="171" y="28"/>
                    <a:pt x="228" y="49"/>
                    <a:pt x="290" y="58"/>
                  </a:cubicBezTo>
                  <a:cubicBezTo>
                    <a:pt x="319" y="77"/>
                    <a:pt x="326" y="96"/>
                    <a:pt x="337" y="128"/>
                  </a:cubicBezTo>
                  <a:cubicBezTo>
                    <a:pt x="275" y="149"/>
                    <a:pt x="306" y="141"/>
                    <a:pt x="242" y="152"/>
                  </a:cubicBezTo>
                  <a:cubicBezTo>
                    <a:pt x="219" y="232"/>
                    <a:pt x="229" y="314"/>
                    <a:pt x="235" y="396"/>
                  </a:cubicBezTo>
                  <a:cubicBezTo>
                    <a:pt x="237" y="428"/>
                    <a:pt x="224" y="472"/>
                    <a:pt x="250" y="490"/>
                  </a:cubicBezTo>
                  <a:cubicBezTo>
                    <a:pt x="271" y="505"/>
                    <a:pt x="299" y="508"/>
                    <a:pt x="321" y="522"/>
                  </a:cubicBezTo>
                  <a:cubicBezTo>
                    <a:pt x="372" y="668"/>
                    <a:pt x="32" y="608"/>
                    <a:pt x="30" y="608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869240" y="1981080"/>
              <a:ext cx="636480" cy="1236960"/>
            </a:xfrm>
            <a:custGeom>
              <a:avLst/>
              <a:gdLst/>
              <a:ahLst/>
              <a:rect l="l" t="t" r="r" b="b"/>
              <a:pathLst>
                <a:path w="401" h="779">
                  <a:moveTo>
                    <a:pt x="0" y="0"/>
                  </a:moveTo>
                  <a:cubicBezTo>
                    <a:pt x="55" y="19"/>
                    <a:pt x="98" y="32"/>
                    <a:pt x="157" y="39"/>
                  </a:cubicBezTo>
                  <a:cubicBezTo>
                    <a:pt x="228" y="63"/>
                    <a:pt x="262" y="126"/>
                    <a:pt x="322" y="165"/>
                  </a:cubicBezTo>
                  <a:cubicBezTo>
                    <a:pt x="327" y="173"/>
                    <a:pt x="331" y="183"/>
                    <a:pt x="338" y="189"/>
                  </a:cubicBezTo>
                  <a:cubicBezTo>
                    <a:pt x="344" y="194"/>
                    <a:pt x="355" y="191"/>
                    <a:pt x="361" y="197"/>
                  </a:cubicBezTo>
                  <a:cubicBezTo>
                    <a:pt x="389" y="225"/>
                    <a:pt x="391" y="238"/>
                    <a:pt x="401" y="268"/>
                  </a:cubicBezTo>
                  <a:cubicBezTo>
                    <a:pt x="395" y="349"/>
                    <a:pt x="394" y="431"/>
                    <a:pt x="385" y="512"/>
                  </a:cubicBezTo>
                  <a:cubicBezTo>
                    <a:pt x="380" y="551"/>
                    <a:pt x="371" y="566"/>
                    <a:pt x="361" y="598"/>
                  </a:cubicBezTo>
                  <a:cubicBezTo>
                    <a:pt x="358" y="606"/>
                    <a:pt x="360" y="616"/>
                    <a:pt x="354" y="622"/>
                  </a:cubicBezTo>
                  <a:cubicBezTo>
                    <a:pt x="330" y="646"/>
                    <a:pt x="273" y="684"/>
                    <a:pt x="236" y="693"/>
                  </a:cubicBezTo>
                  <a:cubicBezTo>
                    <a:pt x="213" y="699"/>
                    <a:pt x="189" y="703"/>
                    <a:pt x="165" y="708"/>
                  </a:cubicBezTo>
                  <a:cubicBezTo>
                    <a:pt x="149" y="711"/>
                    <a:pt x="118" y="724"/>
                    <a:pt x="118" y="724"/>
                  </a:cubicBezTo>
                  <a:cubicBezTo>
                    <a:pt x="85" y="774"/>
                    <a:pt x="46" y="754"/>
                    <a:pt x="0" y="779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43800" y="2057400"/>
              <a:ext cx="623880" cy="1246320"/>
            </a:xfrm>
            <a:custGeom>
              <a:avLst/>
              <a:gdLst/>
              <a:ahLst/>
              <a:rect l="l" t="t" r="r" b="b"/>
              <a:pathLst>
                <a:path w="393" h="785">
                  <a:moveTo>
                    <a:pt x="330" y="69"/>
                  </a:moveTo>
                  <a:cubicBezTo>
                    <a:pt x="296" y="66"/>
                    <a:pt x="262" y="67"/>
                    <a:pt x="228" y="61"/>
                  </a:cubicBezTo>
                  <a:cubicBezTo>
                    <a:pt x="216" y="59"/>
                    <a:pt x="207" y="50"/>
                    <a:pt x="196" y="45"/>
                  </a:cubicBezTo>
                  <a:cubicBezTo>
                    <a:pt x="163" y="31"/>
                    <a:pt x="145" y="34"/>
                    <a:pt x="102" y="29"/>
                  </a:cubicBezTo>
                  <a:cubicBezTo>
                    <a:pt x="60" y="18"/>
                    <a:pt x="57" y="0"/>
                    <a:pt x="31" y="37"/>
                  </a:cubicBezTo>
                  <a:cubicBezTo>
                    <a:pt x="40" y="131"/>
                    <a:pt x="32" y="128"/>
                    <a:pt x="118" y="139"/>
                  </a:cubicBezTo>
                  <a:cubicBezTo>
                    <a:pt x="122" y="152"/>
                    <a:pt x="125" y="212"/>
                    <a:pt x="110" y="218"/>
                  </a:cubicBezTo>
                  <a:cubicBezTo>
                    <a:pt x="88" y="227"/>
                    <a:pt x="143" y="220"/>
                    <a:pt x="119" y="223"/>
                  </a:cubicBezTo>
                  <a:cubicBezTo>
                    <a:pt x="122" y="265"/>
                    <a:pt x="101" y="256"/>
                    <a:pt x="119" y="294"/>
                  </a:cubicBezTo>
                  <a:cubicBezTo>
                    <a:pt x="127" y="311"/>
                    <a:pt x="94" y="263"/>
                    <a:pt x="111" y="270"/>
                  </a:cubicBezTo>
                  <a:cubicBezTo>
                    <a:pt x="120" y="274"/>
                    <a:pt x="106" y="262"/>
                    <a:pt x="111" y="270"/>
                  </a:cubicBezTo>
                  <a:cubicBezTo>
                    <a:pt x="102" y="373"/>
                    <a:pt x="124" y="264"/>
                    <a:pt x="40" y="278"/>
                  </a:cubicBezTo>
                  <a:cubicBezTo>
                    <a:pt x="43" y="307"/>
                    <a:pt x="27" y="552"/>
                    <a:pt x="47" y="572"/>
                  </a:cubicBezTo>
                  <a:cubicBezTo>
                    <a:pt x="67" y="592"/>
                    <a:pt x="106" y="571"/>
                    <a:pt x="133" y="580"/>
                  </a:cubicBezTo>
                  <a:cubicBezTo>
                    <a:pt x="142" y="583"/>
                    <a:pt x="144" y="596"/>
                    <a:pt x="149" y="604"/>
                  </a:cubicBezTo>
                  <a:cubicBezTo>
                    <a:pt x="126" y="670"/>
                    <a:pt x="57" y="663"/>
                    <a:pt x="0" y="675"/>
                  </a:cubicBezTo>
                  <a:cubicBezTo>
                    <a:pt x="2" y="691"/>
                    <a:pt x="1" y="707"/>
                    <a:pt x="7" y="722"/>
                  </a:cubicBezTo>
                  <a:cubicBezTo>
                    <a:pt x="23" y="762"/>
                    <a:pt x="69" y="763"/>
                    <a:pt x="102" y="785"/>
                  </a:cubicBezTo>
                  <a:cubicBezTo>
                    <a:pt x="150" y="752"/>
                    <a:pt x="204" y="758"/>
                    <a:pt x="259" y="745"/>
                  </a:cubicBezTo>
                  <a:cubicBezTo>
                    <a:pt x="309" y="734"/>
                    <a:pt x="347" y="690"/>
                    <a:pt x="393" y="667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54920" y="2362320"/>
              <a:ext cx="293760" cy="484200"/>
            </a:xfrm>
            <a:custGeom>
              <a:avLst/>
              <a:gdLst/>
              <a:ahLst/>
              <a:rect l="l" t="t" r="r" b="b"/>
              <a:pathLst>
                <a:path w="185" h="122">
                  <a:moveTo>
                    <a:pt x="27" y="20"/>
                  </a:moveTo>
                  <a:cubicBezTo>
                    <a:pt x="35" y="17"/>
                    <a:pt x="43" y="12"/>
                    <a:pt x="51" y="12"/>
                  </a:cubicBezTo>
                  <a:cubicBezTo>
                    <a:pt x="80" y="12"/>
                    <a:pt x="117" y="0"/>
                    <a:pt x="137" y="20"/>
                  </a:cubicBezTo>
                  <a:cubicBezTo>
                    <a:pt x="185" y="69"/>
                    <a:pt x="107" y="107"/>
                    <a:pt x="82" y="122"/>
                  </a:cubicBezTo>
                  <a:cubicBezTo>
                    <a:pt x="69" y="120"/>
                    <a:pt x="55" y="121"/>
                    <a:pt x="43" y="115"/>
                  </a:cubicBezTo>
                  <a:cubicBezTo>
                    <a:pt x="0" y="94"/>
                    <a:pt x="27" y="56"/>
                    <a:pt x="27" y="20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83280" y="2438280"/>
              <a:ext cx="752400" cy="45972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47480" y="1295280"/>
              <a:ext cx="1428840" cy="33732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cc"/>
                  </a:solidFill>
                  <a:latin typeface="Tahoma"/>
                </a:rPr>
                <a:t>kostymulac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08360" y="3657600"/>
              <a:ext cx="2285280" cy="70380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cc"/>
                  </a:solidFill>
                  <a:latin typeface="Tahoma"/>
                </a:rPr>
                <a:t>zmieniony liga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cc"/>
                  </a:solidFill>
                  <a:latin typeface="Tahoma"/>
                </a:rPr>
                <a:t>peptydow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8" name=""/>
            <p:cNvCxnSpPr/>
            <p:nvPr/>
          </p:nvCxnSpPr>
          <p:spPr>
            <a:xfrm>
              <a:off x="7009920" y="1828440"/>
              <a:ext cx="839160" cy="1080"/>
            </a:xfrm>
            <a:prstGeom prst="curvedConnector2">
              <a:avLst/>
            </a:prstGeom>
            <a:ln w="38160">
              <a:solidFill>
                <a:srgbClr val="ccffff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8114760" y="1981080"/>
              <a:ext cx="1179000" cy="115956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ahoma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cc"/>
                  </a:solidFill>
                  <a:latin typeface="Tahoma"/>
                </a:rPr>
                <a:t>aktywacj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ahoma"/>
                </a:rPr>
                <a:t>częścio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ahoma"/>
                </a:rPr>
                <a:t>l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Tahoma"/>
                </a:rPr>
                <a:t>antagoniz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03080" y="2057400"/>
              <a:ext cx="468720" cy="24624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Tahoma"/>
                </a:rPr>
                <a:t>MH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2895480" y="2590920"/>
            <a:ext cx="1828800" cy="3809880"/>
          </a:xfrm>
          <a:custGeom>
            <a:avLst/>
            <a:gdLst/>
            <a:ahLst/>
            <a:rect l="l" t="t" r="r" b="b"/>
            <a:pathLst>
              <a:path w="1152" h="2400">
                <a:moveTo>
                  <a:pt x="1152" y="0"/>
                </a:moveTo>
                <a:cubicBezTo>
                  <a:pt x="792" y="208"/>
                  <a:pt x="432" y="416"/>
                  <a:pt x="240" y="816"/>
                </a:cubicBezTo>
                <a:cubicBezTo>
                  <a:pt x="48" y="1216"/>
                  <a:pt x="40" y="2136"/>
                  <a:pt x="0" y="240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2720" y="2209680"/>
            <a:ext cx="2819160" cy="3810240"/>
          </a:xfrm>
          <a:custGeom>
            <a:avLst/>
            <a:gdLst/>
            <a:ahLst/>
            <a:rect l="l" t="t" r="r" b="b"/>
            <a:pathLst>
              <a:path w="1776" h="2400">
                <a:moveTo>
                  <a:pt x="0" y="0"/>
                </a:moveTo>
                <a:cubicBezTo>
                  <a:pt x="68" y="480"/>
                  <a:pt x="136" y="960"/>
                  <a:pt x="336" y="1248"/>
                </a:cubicBezTo>
                <a:cubicBezTo>
                  <a:pt x="536" y="1536"/>
                  <a:pt x="960" y="1536"/>
                  <a:pt x="1200" y="1728"/>
                </a:cubicBezTo>
                <a:cubicBezTo>
                  <a:pt x="1440" y="1920"/>
                  <a:pt x="1680" y="2288"/>
                  <a:pt x="1776" y="240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38088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905120"/>
            <a:ext cx="8991360" cy="41148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4560" indent="-57456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Modulowanie IgE/IgG</a:t>
            </a:r>
            <a:r>
              <a:rPr b="0" lang="pl-PL" sz="3200" spc="-1" strike="noStrike" baseline="-25000">
                <a:solidFill>
                  <a:srgbClr val="ffff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SIT a komórki efektorowe zapalenia alergiczne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Modulowanie odpowiedzi na swoisty alergen poprzez warianty antygenow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Podsumowa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2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enguin"/>
              </a:rPr>
              <a:t>Immunoterapia swoista - c.d.</a:t>
            </a:r>
            <a:endParaRPr b="0" lang="en-US" sz="60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Prezentacja antygenu natywnego </a:t>
            </a:r>
            <a:br>
              <a:rPr sz="5400"/>
            </a:b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i zmodyfikowanego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325" name=""/>
          <p:cNvSpPr/>
          <p:nvPr/>
        </p:nvSpPr>
        <p:spPr>
          <a:xfrm>
            <a:off x="655200" y="1752480"/>
            <a:ext cx="1821960" cy="6426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IgE wspomag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prezentacj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85800" y="2660760"/>
            <a:ext cx="1822320" cy="1474560"/>
            <a:chOff x="685800" y="2660760"/>
            <a:chExt cx="1822320" cy="1474560"/>
          </a:xfrm>
        </p:grpSpPr>
        <p:grpSp>
          <p:nvGrpSpPr>
            <p:cNvPr id="327" name=""/>
            <p:cNvGrpSpPr/>
            <p:nvPr/>
          </p:nvGrpSpPr>
          <p:grpSpPr>
            <a:xfrm>
              <a:off x="1670040" y="3110040"/>
              <a:ext cx="838080" cy="914400"/>
              <a:chOff x="1670040" y="3110040"/>
              <a:chExt cx="838080" cy="914400"/>
            </a:xfrm>
          </p:grpSpPr>
          <p:sp>
            <p:nvSpPr>
              <p:cNvPr id="328" name=""/>
              <p:cNvSpPr/>
              <p:nvPr/>
            </p:nvSpPr>
            <p:spPr>
              <a:xfrm>
                <a:off x="1670040" y="3110040"/>
                <a:ext cx="838080" cy="914400"/>
              </a:xfrm>
              <a:prstGeom prst="ellipse">
                <a:avLst/>
              </a:prstGeom>
              <a:noFill/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09720" y="3241800"/>
                <a:ext cx="568440" cy="639720"/>
              </a:xfrm>
              <a:prstGeom prst="ellipse">
                <a:avLst/>
              </a:prstGeom>
              <a:noFill/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868400" y="32529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ccffff"/>
                    </a:solidFill>
                    <a:latin typeface="Tahoma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5800" y="2971800"/>
              <a:ext cx="1133640" cy="1163520"/>
            </a:xfrm>
            <a:custGeom>
              <a:avLst/>
              <a:gdLst/>
              <a:ahLst/>
              <a:rect l="l" t="t" r="r" b="b"/>
              <a:pathLst>
                <a:path w="714" h="733">
                  <a:moveTo>
                    <a:pt x="681" y="190"/>
                  </a:moveTo>
                  <a:cubicBezTo>
                    <a:pt x="714" y="96"/>
                    <a:pt x="573" y="94"/>
                    <a:pt x="516" y="88"/>
                  </a:cubicBezTo>
                  <a:cubicBezTo>
                    <a:pt x="490" y="48"/>
                    <a:pt x="476" y="27"/>
                    <a:pt x="437" y="1"/>
                  </a:cubicBezTo>
                  <a:cubicBezTo>
                    <a:pt x="421" y="4"/>
                    <a:pt x="403" y="0"/>
                    <a:pt x="390" y="9"/>
                  </a:cubicBezTo>
                  <a:cubicBezTo>
                    <a:pt x="375" y="20"/>
                    <a:pt x="359" y="56"/>
                    <a:pt x="359" y="56"/>
                  </a:cubicBezTo>
                  <a:cubicBezTo>
                    <a:pt x="350" y="91"/>
                    <a:pt x="343" y="136"/>
                    <a:pt x="304" y="151"/>
                  </a:cubicBezTo>
                  <a:cubicBezTo>
                    <a:pt x="284" y="159"/>
                    <a:pt x="241" y="167"/>
                    <a:pt x="241" y="167"/>
                  </a:cubicBezTo>
                  <a:cubicBezTo>
                    <a:pt x="200" y="193"/>
                    <a:pt x="153" y="186"/>
                    <a:pt x="107" y="198"/>
                  </a:cubicBezTo>
                  <a:cubicBezTo>
                    <a:pt x="55" y="277"/>
                    <a:pt x="122" y="340"/>
                    <a:pt x="28" y="387"/>
                  </a:cubicBezTo>
                  <a:cubicBezTo>
                    <a:pt x="1" y="430"/>
                    <a:pt x="0" y="419"/>
                    <a:pt x="28" y="497"/>
                  </a:cubicBezTo>
                  <a:cubicBezTo>
                    <a:pt x="34" y="514"/>
                    <a:pt x="62" y="525"/>
                    <a:pt x="75" y="536"/>
                  </a:cubicBezTo>
                  <a:cubicBezTo>
                    <a:pt x="118" y="572"/>
                    <a:pt x="164" y="621"/>
                    <a:pt x="217" y="639"/>
                  </a:cubicBezTo>
                  <a:cubicBezTo>
                    <a:pt x="310" y="732"/>
                    <a:pt x="377" y="726"/>
                    <a:pt x="516" y="733"/>
                  </a:cubicBezTo>
                  <a:cubicBezTo>
                    <a:pt x="553" y="730"/>
                    <a:pt x="589" y="729"/>
                    <a:pt x="626" y="725"/>
                  </a:cubicBezTo>
                  <a:cubicBezTo>
                    <a:pt x="634" y="724"/>
                    <a:pt x="645" y="724"/>
                    <a:pt x="650" y="717"/>
                  </a:cubicBezTo>
                  <a:cubicBezTo>
                    <a:pt x="676" y="685"/>
                    <a:pt x="647" y="628"/>
                    <a:pt x="689" y="607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1800" y="3414600"/>
              <a:ext cx="84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Tahoma"/>
                </a:rPr>
                <a:t>AP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2895480"/>
              <a:ext cx="461520" cy="339480"/>
              <a:chOff x="762120" y="2895480"/>
              <a:chExt cx="461520" cy="339480"/>
            </a:xfrm>
          </p:grpSpPr>
          <p:sp>
            <p:nvSpPr>
              <p:cNvPr id="334" name=""/>
              <p:cNvSpPr/>
              <p:nvPr/>
            </p:nvSpPr>
            <p:spPr>
              <a:xfrm>
                <a:off x="762120" y="293328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166" h="409">
                    <a:moveTo>
                      <a:pt x="0" y="0"/>
                    </a:moveTo>
                    <a:cubicBezTo>
                      <a:pt x="46" y="15"/>
                      <a:pt x="50" y="38"/>
                      <a:pt x="87" y="63"/>
                    </a:cubicBezTo>
                    <a:cubicBezTo>
                      <a:pt x="99" y="96"/>
                      <a:pt x="132" y="123"/>
                      <a:pt x="166" y="134"/>
                    </a:cubicBezTo>
                    <a:cubicBezTo>
                      <a:pt x="162" y="158"/>
                      <a:pt x="150" y="180"/>
                      <a:pt x="150" y="204"/>
                    </a:cubicBezTo>
                    <a:cubicBezTo>
                      <a:pt x="150" y="272"/>
                      <a:pt x="158" y="341"/>
                      <a:pt x="158" y="409"/>
                    </a:cubicBezTo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1028520" y="294444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166" h="409">
                    <a:moveTo>
                      <a:pt x="0" y="0"/>
                    </a:moveTo>
                    <a:cubicBezTo>
                      <a:pt x="46" y="15"/>
                      <a:pt x="50" y="38"/>
                      <a:pt x="87" y="63"/>
                    </a:cubicBezTo>
                    <a:cubicBezTo>
                      <a:pt x="99" y="96"/>
                      <a:pt x="132" y="123"/>
                      <a:pt x="166" y="134"/>
                    </a:cubicBezTo>
                    <a:cubicBezTo>
                      <a:pt x="162" y="158"/>
                      <a:pt x="150" y="180"/>
                      <a:pt x="150" y="204"/>
                    </a:cubicBezTo>
                    <a:cubicBezTo>
                      <a:pt x="150" y="272"/>
                      <a:pt x="158" y="341"/>
                      <a:pt x="158" y="409"/>
                    </a:cubicBezTo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06400" y="2895480"/>
                <a:ext cx="374400" cy="99720"/>
              </a:xfrm>
              <a:custGeom>
                <a:avLst/>
                <a:gdLst/>
                <a:ahLst/>
                <a:rect l="l" t="t" r="r" b="b"/>
                <a:pathLst>
                  <a:path w="236" h="63">
                    <a:moveTo>
                      <a:pt x="0" y="0"/>
                    </a:moveTo>
                    <a:cubicBezTo>
                      <a:pt x="21" y="3"/>
                      <a:pt x="43" y="2"/>
                      <a:pt x="63" y="8"/>
                    </a:cubicBezTo>
                    <a:cubicBezTo>
                      <a:pt x="97" y="17"/>
                      <a:pt x="96" y="50"/>
                      <a:pt x="134" y="63"/>
                    </a:cubicBezTo>
                    <a:cubicBezTo>
                      <a:pt x="150" y="18"/>
                      <a:pt x="192" y="0"/>
                      <a:pt x="236" y="0"/>
                    </a:cubicBezTo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871560" y="2660760"/>
              <a:ext cx="228600" cy="212760"/>
            </a:xfrm>
            <a:custGeom>
              <a:avLst/>
              <a:gdLst/>
              <a:ahLst/>
              <a:rect l="l" t="t" r="r" b="b"/>
              <a:pathLst>
                <a:path w="144" h="134">
                  <a:moveTo>
                    <a:pt x="73" y="1"/>
                  </a:moveTo>
                  <a:cubicBezTo>
                    <a:pt x="21" y="33"/>
                    <a:pt x="0" y="93"/>
                    <a:pt x="65" y="134"/>
                  </a:cubicBezTo>
                  <a:cubicBezTo>
                    <a:pt x="117" y="118"/>
                    <a:pt x="108" y="104"/>
                    <a:pt x="136" y="64"/>
                  </a:cubicBezTo>
                  <a:cubicBezTo>
                    <a:pt x="126" y="6"/>
                    <a:pt x="144" y="21"/>
                    <a:pt x="104" y="9"/>
                  </a:cubicBezTo>
                  <a:cubicBezTo>
                    <a:pt x="76" y="0"/>
                    <a:pt x="89" y="1"/>
                    <a:pt x="73" y="1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79320" y="4317840"/>
            <a:ext cx="1752480" cy="1459080"/>
            <a:chOff x="679320" y="4317840"/>
            <a:chExt cx="1752480" cy="1459080"/>
          </a:xfrm>
        </p:grpSpPr>
        <p:sp>
          <p:nvSpPr>
            <p:cNvPr id="339" name=""/>
            <p:cNvSpPr/>
            <p:nvPr/>
          </p:nvSpPr>
          <p:spPr>
            <a:xfrm>
              <a:off x="679320" y="4862520"/>
              <a:ext cx="838440" cy="914400"/>
            </a:xfrm>
            <a:prstGeom prst="ellipse">
              <a:avLst/>
            </a:prstGeom>
            <a:noFill/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9000" y="4994280"/>
              <a:ext cx="568440" cy="639720"/>
            </a:xfrm>
            <a:prstGeom prst="ellipse">
              <a:avLst/>
            </a:prstGeom>
            <a:noFill/>
            <a:ln w="381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8240" y="5005440"/>
              <a:ext cx="47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cffff"/>
                  </a:solidFill>
                  <a:latin typeface="Tahoma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593720" y="4862520"/>
              <a:ext cx="838080" cy="914400"/>
              <a:chOff x="1593720" y="4862520"/>
              <a:chExt cx="838080" cy="914400"/>
            </a:xfrm>
          </p:grpSpPr>
          <p:sp>
            <p:nvSpPr>
              <p:cNvPr id="343" name=""/>
              <p:cNvSpPr/>
              <p:nvPr/>
            </p:nvSpPr>
            <p:spPr>
              <a:xfrm>
                <a:off x="1593720" y="4862520"/>
                <a:ext cx="838080" cy="914400"/>
              </a:xfrm>
              <a:prstGeom prst="ellipse">
                <a:avLst/>
              </a:prstGeom>
              <a:noFill/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33400" y="4994280"/>
                <a:ext cx="568440" cy="639720"/>
              </a:xfrm>
              <a:prstGeom prst="ellipse">
                <a:avLst/>
              </a:prstGeom>
              <a:noFill/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92080" y="50054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ccffff"/>
                    </a:solidFill>
                    <a:latin typeface="Tahoma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728640" y="4552920"/>
              <a:ext cx="461520" cy="339480"/>
              <a:chOff x="728640" y="4552920"/>
              <a:chExt cx="461520" cy="339480"/>
            </a:xfrm>
          </p:grpSpPr>
          <p:sp>
            <p:nvSpPr>
              <p:cNvPr id="347" name=""/>
              <p:cNvSpPr/>
              <p:nvPr/>
            </p:nvSpPr>
            <p:spPr>
              <a:xfrm>
                <a:off x="728640" y="459072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166" h="409">
                    <a:moveTo>
                      <a:pt x="0" y="0"/>
                    </a:moveTo>
                    <a:cubicBezTo>
                      <a:pt x="46" y="15"/>
                      <a:pt x="50" y="38"/>
                      <a:pt x="87" y="63"/>
                    </a:cubicBezTo>
                    <a:cubicBezTo>
                      <a:pt x="99" y="96"/>
                      <a:pt x="132" y="123"/>
                      <a:pt x="166" y="134"/>
                    </a:cubicBezTo>
                    <a:cubicBezTo>
                      <a:pt x="162" y="158"/>
                      <a:pt x="150" y="180"/>
                      <a:pt x="150" y="204"/>
                    </a:cubicBezTo>
                    <a:cubicBezTo>
                      <a:pt x="150" y="272"/>
                      <a:pt x="158" y="341"/>
                      <a:pt x="158" y="409"/>
                    </a:cubicBezTo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995040" y="4601880"/>
                <a:ext cx="195120" cy="290520"/>
              </a:xfrm>
              <a:custGeom>
                <a:avLst/>
                <a:gdLst/>
                <a:ahLst/>
                <a:rect l="l" t="t" r="r" b="b"/>
                <a:pathLst>
                  <a:path w="166" h="409">
                    <a:moveTo>
                      <a:pt x="0" y="0"/>
                    </a:moveTo>
                    <a:cubicBezTo>
                      <a:pt x="46" y="15"/>
                      <a:pt x="50" y="38"/>
                      <a:pt x="87" y="63"/>
                    </a:cubicBezTo>
                    <a:cubicBezTo>
                      <a:pt x="99" y="96"/>
                      <a:pt x="132" y="123"/>
                      <a:pt x="166" y="134"/>
                    </a:cubicBezTo>
                    <a:cubicBezTo>
                      <a:pt x="162" y="158"/>
                      <a:pt x="150" y="180"/>
                      <a:pt x="150" y="204"/>
                    </a:cubicBezTo>
                    <a:cubicBezTo>
                      <a:pt x="150" y="272"/>
                      <a:pt x="158" y="341"/>
                      <a:pt x="158" y="409"/>
                    </a:cubicBezTo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72920" y="4552920"/>
                <a:ext cx="374400" cy="99720"/>
              </a:xfrm>
              <a:custGeom>
                <a:avLst/>
                <a:gdLst/>
                <a:ahLst/>
                <a:rect l="l" t="t" r="r" b="b"/>
                <a:pathLst>
                  <a:path w="236" h="63">
                    <a:moveTo>
                      <a:pt x="0" y="0"/>
                    </a:moveTo>
                    <a:cubicBezTo>
                      <a:pt x="21" y="3"/>
                      <a:pt x="43" y="2"/>
                      <a:pt x="63" y="8"/>
                    </a:cubicBezTo>
                    <a:cubicBezTo>
                      <a:pt x="97" y="17"/>
                      <a:pt x="96" y="50"/>
                      <a:pt x="134" y="63"/>
                    </a:cubicBezTo>
                    <a:cubicBezTo>
                      <a:pt x="150" y="18"/>
                      <a:pt x="192" y="0"/>
                      <a:pt x="236" y="0"/>
                    </a:cubicBezTo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838080" y="4317840"/>
              <a:ext cx="228600" cy="212760"/>
            </a:xfrm>
            <a:custGeom>
              <a:avLst/>
              <a:gdLst/>
              <a:ahLst/>
              <a:rect l="l" t="t" r="r" b="b"/>
              <a:pathLst>
                <a:path w="144" h="134">
                  <a:moveTo>
                    <a:pt x="73" y="1"/>
                  </a:moveTo>
                  <a:cubicBezTo>
                    <a:pt x="21" y="33"/>
                    <a:pt x="0" y="93"/>
                    <a:pt x="65" y="134"/>
                  </a:cubicBezTo>
                  <a:cubicBezTo>
                    <a:pt x="117" y="118"/>
                    <a:pt x="108" y="104"/>
                    <a:pt x="136" y="64"/>
                  </a:cubicBezTo>
                  <a:cubicBezTo>
                    <a:pt x="126" y="6"/>
                    <a:pt x="144" y="21"/>
                    <a:pt x="104" y="9"/>
                  </a:cubicBezTo>
                  <a:cubicBezTo>
                    <a:pt x="76" y="0"/>
                    <a:pt x="89" y="1"/>
                    <a:pt x="73" y="1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855960" y="3309840"/>
            <a:ext cx="487440" cy="500040"/>
          </a:xfrm>
          <a:custGeom>
            <a:avLst/>
            <a:gdLst/>
            <a:ahLst/>
            <a:rect l="l" t="t" r="r" b="b"/>
            <a:pathLst>
              <a:path w="304" h="403">
                <a:moveTo>
                  <a:pt x="183" y="0"/>
                </a:moveTo>
                <a:cubicBezTo>
                  <a:pt x="123" y="41"/>
                  <a:pt x="72" y="66"/>
                  <a:pt x="18" y="118"/>
                </a:cubicBezTo>
                <a:cubicBezTo>
                  <a:pt x="0" y="172"/>
                  <a:pt x="6" y="144"/>
                  <a:pt x="18" y="244"/>
                </a:cubicBezTo>
                <a:cubicBezTo>
                  <a:pt x="29" y="332"/>
                  <a:pt x="99" y="376"/>
                  <a:pt x="175" y="402"/>
                </a:cubicBezTo>
                <a:cubicBezTo>
                  <a:pt x="194" y="399"/>
                  <a:pt x="214" y="403"/>
                  <a:pt x="231" y="394"/>
                </a:cubicBezTo>
                <a:cubicBezTo>
                  <a:pt x="246" y="387"/>
                  <a:pt x="242" y="363"/>
                  <a:pt x="246" y="347"/>
                </a:cubicBezTo>
                <a:cubicBezTo>
                  <a:pt x="259" y="300"/>
                  <a:pt x="264" y="263"/>
                  <a:pt x="286" y="221"/>
                </a:cubicBezTo>
                <a:cubicBezTo>
                  <a:pt x="282" y="164"/>
                  <a:pt x="304" y="77"/>
                  <a:pt x="238" y="55"/>
                </a:cubicBezTo>
                <a:cubicBezTo>
                  <a:pt x="219" y="26"/>
                  <a:pt x="202" y="29"/>
                  <a:pt x="183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570120" y="2725560"/>
            <a:ext cx="1051200" cy="1297080"/>
          </a:xfrm>
          <a:custGeom>
            <a:avLst/>
            <a:gdLst/>
            <a:ahLst/>
            <a:rect l="l" t="t" r="r" b="b"/>
            <a:pathLst>
              <a:path w="662" h="817">
                <a:moveTo>
                  <a:pt x="466" y="817"/>
                </a:moveTo>
                <a:cubicBezTo>
                  <a:pt x="408" y="807"/>
                  <a:pt x="351" y="791"/>
                  <a:pt x="293" y="778"/>
                </a:cubicBezTo>
                <a:cubicBezTo>
                  <a:pt x="264" y="763"/>
                  <a:pt x="237" y="756"/>
                  <a:pt x="206" y="746"/>
                </a:cubicBezTo>
                <a:cubicBezTo>
                  <a:pt x="163" y="715"/>
                  <a:pt x="115" y="696"/>
                  <a:pt x="64" y="683"/>
                </a:cubicBezTo>
                <a:cubicBezTo>
                  <a:pt x="56" y="678"/>
                  <a:pt x="49" y="671"/>
                  <a:pt x="41" y="667"/>
                </a:cubicBezTo>
                <a:cubicBezTo>
                  <a:pt x="34" y="663"/>
                  <a:pt x="23" y="666"/>
                  <a:pt x="17" y="660"/>
                </a:cubicBezTo>
                <a:cubicBezTo>
                  <a:pt x="0" y="643"/>
                  <a:pt x="5" y="613"/>
                  <a:pt x="1" y="589"/>
                </a:cubicBezTo>
                <a:cubicBezTo>
                  <a:pt x="7" y="504"/>
                  <a:pt x="16" y="421"/>
                  <a:pt x="25" y="337"/>
                </a:cubicBezTo>
                <a:cubicBezTo>
                  <a:pt x="30" y="288"/>
                  <a:pt x="23" y="206"/>
                  <a:pt x="80" y="187"/>
                </a:cubicBezTo>
                <a:cubicBezTo>
                  <a:pt x="116" y="152"/>
                  <a:pt x="167" y="141"/>
                  <a:pt x="206" y="109"/>
                </a:cubicBezTo>
                <a:cubicBezTo>
                  <a:pt x="228" y="91"/>
                  <a:pt x="234" y="74"/>
                  <a:pt x="261" y="61"/>
                </a:cubicBezTo>
                <a:cubicBezTo>
                  <a:pt x="286" y="49"/>
                  <a:pt x="314" y="47"/>
                  <a:pt x="340" y="38"/>
                </a:cubicBezTo>
                <a:cubicBezTo>
                  <a:pt x="348" y="35"/>
                  <a:pt x="363" y="30"/>
                  <a:pt x="363" y="30"/>
                </a:cubicBezTo>
                <a:cubicBezTo>
                  <a:pt x="426" y="33"/>
                  <a:pt x="519" y="0"/>
                  <a:pt x="552" y="54"/>
                </a:cubicBezTo>
                <a:cubicBezTo>
                  <a:pt x="577" y="94"/>
                  <a:pt x="581" y="145"/>
                  <a:pt x="607" y="187"/>
                </a:cubicBezTo>
                <a:cubicBezTo>
                  <a:pt x="618" y="205"/>
                  <a:pt x="625" y="226"/>
                  <a:pt x="639" y="242"/>
                </a:cubicBezTo>
                <a:cubicBezTo>
                  <a:pt x="645" y="249"/>
                  <a:pt x="662" y="258"/>
                  <a:pt x="662" y="258"/>
                </a:cubicBezTo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3048120"/>
            <a:ext cx="149040" cy="13788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3200400"/>
            <a:ext cx="14940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95680" y="3352680"/>
            <a:ext cx="14940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733920"/>
            <a:ext cx="149400" cy="13788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3200400"/>
            <a:ext cx="14904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62520" y="2971800"/>
            <a:ext cx="14904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3200400"/>
            <a:ext cx="14940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9720" y="3505320"/>
            <a:ext cx="149040" cy="13788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43400" y="3809880"/>
            <a:ext cx="14940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886200"/>
            <a:ext cx="14940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52880" y="3886200"/>
            <a:ext cx="14940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76920" y="3429000"/>
            <a:ext cx="14904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24280" y="4114800"/>
            <a:ext cx="14940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3657600"/>
            <a:ext cx="14940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4038480"/>
            <a:ext cx="149040" cy="13824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3505320"/>
            <a:ext cx="149040" cy="137880"/>
          </a:xfrm>
          <a:custGeom>
            <a:avLst/>
            <a:gdLst/>
            <a:ahLst/>
            <a:rect l="l" t="t" r="r" b="b"/>
            <a:pathLst>
              <a:path w="94" h="87">
                <a:moveTo>
                  <a:pt x="55" y="0"/>
                </a:moveTo>
                <a:cubicBezTo>
                  <a:pt x="16" y="10"/>
                  <a:pt x="12" y="18"/>
                  <a:pt x="0" y="55"/>
                </a:cubicBezTo>
                <a:cubicBezTo>
                  <a:pt x="41" y="83"/>
                  <a:pt x="41" y="87"/>
                  <a:pt x="94" y="78"/>
                </a:cubicBezTo>
                <a:cubicBezTo>
                  <a:pt x="87" y="38"/>
                  <a:pt x="94" y="13"/>
                  <a:pt x="55" y="0"/>
                </a:cubicBezTo>
                <a:close/>
              </a:path>
            </a:pathLst>
          </a:custGeom>
          <a:noFill/>
          <a:ln w="38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776760" y="2444760"/>
            <a:ext cx="461520" cy="339480"/>
            <a:chOff x="3776760" y="2444760"/>
            <a:chExt cx="461520" cy="339480"/>
          </a:xfrm>
        </p:grpSpPr>
        <p:sp>
          <p:nvSpPr>
            <p:cNvPr id="370" name=""/>
            <p:cNvSpPr/>
            <p:nvPr/>
          </p:nvSpPr>
          <p:spPr>
            <a:xfrm>
              <a:off x="3776760" y="2482560"/>
              <a:ext cx="195120" cy="290520"/>
            </a:xfrm>
            <a:custGeom>
              <a:avLst/>
              <a:gdLst/>
              <a:ahLst/>
              <a:rect l="l" t="t" r="r" b="b"/>
              <a:pathLst>
                <a:path w="166" h="409">
                  <a:moveTo>
                    <a:pt x="0" y="0"/>
                  </a:moveTo>
                  <a:cubicBezTo>
                    <a:pt x="46" y="15"/>
                    <a:pt x="50" y="38"/>
                    <a:pt x="87" y="63"/>
                  </a:cubicBezTo>
                  <a:cubicBezTo>
                    <a:pt x="99" y="96"/>
                    <a:pt x="132" y="123"/>
                    <a:pt x="166" y="134"/>
                  </a:cubicBezTo>
                  <a:cubicBezTo>
                    <a:pt x="162" y="158"/>
                    <a:pt x="150" y="180"/>
                    <a:pt x="150" y="204"/>
                  </a:cubicBezTo>
                  <a:cubicBezTo>
                    <a:pt x="150" y="272"/>
                    <a:pt x="158" y="341"/>
                    <a:pt x="158" y="409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4043160" y="2493720"/>
              <a:ext cx="195120" cy="290520"/>
            </a:xfrm>
            <a:custGeom>
              <a:avLst/>
              <a:gdLst/>
              <a:ahLst/>
              <a:rect l="l" t="t" r="r" b="b"/>
              <a:pathLst>
                <a:path w="166" h="409">
                  <a:moveTo>
                    <a:pt x="0" y="0"/>
                  </a:moveTo>
                  <a:cubicBezTo>
                    <a:pt x="46" y="15"/>
                    <a:pt x="50" y="38"/>
                    <a:pt x="87" y="63"/>
                  </a:cubicBezTo>
                  <a:cubicBezTo>
                    <a:pt x="99" y="96"/>
                    <a:pt x="132" y="123"/>
                    <a:pt x="166" y="134"/>
                  </a:cubicBezTo>
                  <a:cubicBezTo>
                    <a:pt x="162" y="158"/>
                    <a:pt x="150" y="180"/>
                    <a:pt x="150" y="204"/>
                  </a:cubicBezTo>
                  <a:cubicBezTo>
                    <a:pt x="150" y="272"/>
                    <a:pt x="158" y="341"/>
                    <a:pt x="158" y="409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21040" y="2444760"/>
              <a:ext cx="374400" cy="99720"/>
            </a:xfrm>
            <a:custGeom>
              <a:avLst/>
              <a:gdLst/>
              <a:ahLst/>
              <a:rect l="l" t="t" r="r" b="b"/>
              <a:pathLst>
                <a:path w="236" h="63">
                  <a:moveTo>
                    <a:pt x="0" y="0"/>
                  </a:moveTo>
                  <a:cubicBezTo>
                    <a:pt x="21" y="3"/>
                    <a:pt x="43" y="2"/>
                    <a:pt x="63" y="8"/>
                  </a:cubicBezTo>
                  <a:cubicBezTo>
                    <a:pt x="97" y="17"/>
                    <a:pt x="96" y="50"/>
                    <a:pt x="134" y="63"/>
                  </a:cubicBezTo>
                  <a:cubicBezTo>
                    <a:pt x="150" y="18"/>
                    <a:pt x="192" y="0"/>
                    <a:pt x="236" y="0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886200" y="2209680"/>
            <a:ext cx="228600" cy="212760"/>
          </a:xfrm>
          <a:custGeom>
            <a:avLst/>
            <a:gdLst/>
            <a:ahLst/>
            <a:rect l="l" t="t" r="r" b="b"/>
            <a:pathLst>
              <a:path w="144" h="134">
                <a:moveTo>
                  <a:pt x="73" y="1"/>
                </a:moveTo>
                <a:cubicBezTo>
                  <a:pt x="21" y="33"/>
                  <a:pt x="0" y="93"/>
                  <a:pt x="65" y="134"/>
                </a:cubicBezTo>
                <a:cubicBezTo>
                  <a:pt x="117" y="118"/>
                  <a:pt x="108" y="104"/>
                  <a:pt x="136" y="64"/>
                </a:cubicBezTo>
                <a:cubicBezTo>
                  <a:pt x="126" y="6"/>
                  <a:pt x="144" y="21"/>
                  <a:pt x="104" y="9"/>
                </a:cubicBezTo>
                <a:cubicBezTo>
                  <a:pt x="76" y="0"/>
                  <a:pt x="89" y="1"/>
                  <a:pt x="73" y="1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233960" y="2521080"/>
            <a:ext cx="461520" cy="339480"/>
            <a:chOff x="4233960" y="2521080"/>
            <a:chExt cx="461520" cy="339480"/>
          </a:xfrm>
        </p:grpSpPr>
        <p:sp>
          <p:nvSpPr>
            <p:cNvPr id="375" name=""/>
            <p:cNvSpPr/>
            <p:nvPr/>
          </p:nvSpPr>
          <p:spPr>
            <a:xfrm>
              <a:off x="4233960" y="2558880"/>
              <a:ext cx="195120" cy="290520"/>
            </a:xfrm>
            <a:custGeom>
              <a:avLst/>
              <a:gdLst/>
              <a:ahLst/>
              <a:rect l="l" t="t" r="r" b="b"/>
              <a:pathLst>
                <a:path w="166" h="409">
                  <a:moveTo>
                    <a:pt x="0" y="0"/>
                  </a:moveTo>
                  <a:cubicBezTo>
                    <a:pt x="46" y="15"/>
                    <a:pt x="50" y="38"/>
                    <a:pt x="87" y="63"/>
                  </a:cubicBezTo>
                  <a:cubicBezTo>
                    <a:pt x="99" y="96"/>
                    <a:pt x="132" y="123"/>
                    <a:pt x="166" y="134"/>
                  </a:cubicBezTo>
                  <a:cubicBezTo>
                    <a:pt x="162" y="158"/>
                    <a:pt x="150" y="180"/>
                    <a:pt x="150" y="204"/>
                  </a:cubicBezTo>
                  <a:cubicBezTo>
                    <a:pt x="150" y="272"/>
                    <a:pt x="158" y="341"/>
                    <a:pt x="158" y="409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4500360" y="2570040"/>
              <a:ext cx="195120" cy="290520"/>
            </a:xfrm>
            <a:custGeom>
              <a:avLst/>
              <a:gdLst/>
              <a:ahLst/>
              <a:rect l="l" t="t" r="r" b="b"/>
              <a:pathLst>
                <a:path w="166" h="409">
                  <a:moveTo>
                    <a:pt x="0" y="0"/>
                  </a:moveTo>
                  <a:cubicBezTo>
                    <a:pt x="46" y="15"/>
                    <a:pt x="50" y="38"/>
                    <a:pt x="87" y="63"/>
                  </a:cubicBezTo>
                  <a:cubicBezTo>
                    <a:pt x="99" y="96"/>
                    <a:pt x="132" y="123"/>
                    <a:pt x="166" y="134"/>
                  </a:cubicBezTo>
                  <a:cubicBezTo>
                    <a:pt x="162" y="158"/>
                    <a:pt x="150" y="180"/>
                    <a:pt x="150" y="204"/>
                  </a:cubicBezTo>
                  <a:cubicBezTo>
                    <a:pt x="150" y="272"/>
                    <a:pt x="158" y="341"/>
                    <a:pt x="158" y="409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78240" y="2521080"/>
              <a:ext cx="374400" cy="99720"/>
            </a:xfrm>
            <a:custGeom>
              <a:avLst/>
              <a:gdLst/>
              <a:ahLst/>
              <a:rect l="l" t="t" r="r" b="b"/>
              <a:pathLst>
                <a:path w="236" h="63">
                  <a:moveTo>
                    <a:pt x="0" y="0"/>
                  </a:moveTo>
                  <a:cubicBezTo>
                    <a:pt x="21" y="3"/>
                    <a:pt x="43" y="2"/>
                    <a:pt x="63" y="8"/>
                  </a:cubicBezTo>
                  <a:cubicBezTo>
                    <a:pt x="97" y="17"/>
                    <a:pt x="96" y="50"/>
                    <a:pt x="134" y="63"/>
                  </a:cubicBezTo>
                  <a:cubicBezTo>
                    <a:pt x="150" y="18"/>
                    <a:pt x="192" y="0"/>
                    <a:pt x="236" y="0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343400" y="2286000"/>
            <a:ext cx="228600" cy="212760"/>
          </a:xfrm>
          <a:custGeom>
            <a:avLst/>
            <a:gdLst/>
            <a:ahLst/>
            <a:rect l="l" t="t" r="r" b="b"/>
            <a:pathLst>
              <a:path w="144" h="134">
                <a:moveTo>
                  <a:pt x="73" y="1"/>
                </a:moveTo>
                <a:cubicBezTo>
                  <a:pt x="21" y="33"/>
                  <a:pt x="0" y="93"/>
                  <a:pt x="65" y="134"/>
                </a:cubicBezTo>
                <a:cubicBezTo>
                  <a:pt x="117" y="118"/>
                  <a:pt x="108" y="104"/>
                  <a:pt x="136" y="64"/>
                </a:cubicBezTo>
                <a:cubicBezTo>
                  <a:pt x="126" y="6"/>
                  <a:pt x="144" y="21"/>
                  <a:pt x="104" y="9"/>
                </a:cubicBezTo>
                <a:cubicBezTo>
                  <a:pt x="76" y="0"/>
                  <a:pt x="89" y="1"/>
                  <a:pt x="73" y="1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4191120"/>
            <a:ext cx="144792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24920" y="3733920"/>
            <a:ext cx="525240" cy="4057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18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31760" y="1905120"/>
            <a:ext cx="773640" cy="91692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L-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L-1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IL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590920"/>
            <a:ext cx="304560" cy="91440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716920" y="5105520"/>
            <a:ext cx="1121040" cy="3682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Natyw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37800" y="1905120"/>
            <a:ext cx="1155960" cy="3682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cc"/>
                </a:solidFill>
                <a:latin typeface="Tahoma"/>
              </a:rPr>
              <a:t>Mastocy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581280" y="2133720"/>
            <a:ext cx="2476800" cy="4305240"/>
          </a:xfrm>
          <a:custGeom>
            <a:avLst/>
            <a:gdLst/>
            <a:ahLst/>
            <a:rect l="l" t="t" r="r" b="b"/>
            <a:pathLst>
              <a:path w="1560" h="2976">
                <a:moveTo>
                  <a:pt x="1560" y="0"/>
                </a:moveTo>
                <a:cubicBezTo>
                  <a:pt x="1384" y="224"/>
                  <a:pt x="1208" y="448"/>
                  <a:pt x="1128" y="672"/>
                </a:cubicBezTo>
                <a:cubicBezTo>
                  <a:pt x="1048" y="896"/>
                  <a:pt x="1144" y="1136"/>
                  <a:pt x="1080" y="1344"/>
                </a:cubicBezTo>
                <a:cubicBezTo>
                  <a:pt x="1016" y="1552"/>
                  <a:pt x="904" y="1712"/>
                  <a:pt x="744" y="1920"/>
                </a:cubicBezTo>
                <a:cubicBezTo>
                  <a:pt x="584" y="2128"/>
                  <a:pt x="240" y="2416"/>
                  <a:pt x="120" y="2592"/>
                </a:cubicBezTo>
                <a:cubicBezTo>
                  <a:pt x="0" y="2768"/>
                  <a:pt x="40" y="2912"/>
                  <a:pt x="24" y="2976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745160" y="2209680"/>
            <a:ext cx="5078160" cy="4262400"/>
            <a:chOff x="4745160" y="2209680"/>
            <a:chExt cx="5078160" cy="4262400"/>
          </a:xfrm>
        </p:grpSpPr>
        <p:sp>
          <p:nvSpPr>
            <p:cNvPr id="387" name=""/>
            <p:cNvSpPr/>
            <p:nvPr/>
          </p:nvSpPr>
          <p:spPr>
            <a:xfrm>
              <a:off x="4745160" y="6103800"/>
              <a:ext cx="1886040" cy="36828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ahoma"/>
                </a:rPr>
                <a:t>Zmodyfikow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470640" y="3200040"/>
              <a:ext cx="838080" cy="914400"/>
              <a:chOff x="6470640" y="3200040"/>
              <a:chExt cx="838080" cy="914400"/>
            </a:xfrm>
          </p:grpSpPr>
          <p:sp>
            <p:nvSpPr>
              <p:cNvPr id="389" name=""/>
              <p:cNvSpPr/>
              <p:nvPr/>
            </p:nvSpPr>
            <p:spPr>
              <a:xfrm>
                <a:off x="6470640" y="3200040"/>
                <a:ext cx="838080" cy="914400"/>
              </a:xfrm>
              <a:prstGeom prst="ellipse">
                <a:avLst/>
              </a:prstGeom>
              <a:noFill/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610320" y="3331800"/>
                <a:ext cx="568440" cy="639720"/>
              </a:xfrm>
              <a:prstGeom prst="ellipse">
                <a:avLst/>
              </a:prstGeom>
              <a:noFill/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69000" y="33429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ccffff"/>
                    </a:solidFill>
                    <a:latin typeface="Tahoma"/>
                  </a:rPr>
                  <a:t>T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5486400" y="3062160"/>
              <a:ext cx="1133640" cy="1163520"/>
            </a:xfrm>
            <a:custGeom>
              <a:avLst/>
              <a:gdLst/>
              <a:ahLst/>
              <a:rect l="l" t="t" r="r" b="b"/>
              <a:pathLst>
                <a:path w="714" h="733">
                  <a:moveTo>
                    <a:pt x="681" y="190"/>
                  </a:moveTo>
                  <a:cubicBezTo>
                    <a:pt x="714" y="96"/>
                    <a:pt x="573" y="94"/>
                    <a:pt x="516" y="88"/>
                  </a:cubicBezTo>
                  <a:cubicBezTo>
                    <a:pt x="490" y="48"/>
                    <a:pt x="476" y="27"/>
                    <a:pt x="437" y="1"/>
                  </a:cubicBezTo>
                  <a:cubicBezTo>
                    <a:pt x="421" y="4"/>
                    <a:pt x="403" y="0"/>
                    <a:pt x="390" y="9"/>
                  </a:cubicBezTo>
                  <a:cubicBezTo>
                    <a:pt x="375" y="20"/>
                    <a:pt x="359" y="56"/>
                    <a:pt x="359" y="56"/>
                  </a:cubicBezTo>
                  <a:cubicBezTo>
                    <a:pt x="350" y="91"/>
                    <a:pt x="343" y="136"/>
                    <a:pt x="304" y="151"/>
                  </a:cubicBezTo>
                  <a:cubicBezTo>
                    <a:pt x="284" y="159"/>
                    <a:pt x="241" y="167"/>
                    <a:pt x="241" y="167"/>
                  </a:cubicBezTo>
                  <a:cubicBezTo>
                    <a:pt x="200" y="193"/>
                    <a:pt x="153" y="186"/>
                    <a:pt x="107" y="198"/>
                  </a:cubicBezTo>
                  <a:cubicBezTo>
                    <a:pt x="55" y="277"/>
                    <a:pt x="122" y="340"/>
                    <a:pt x="28" y="387"/>
                  </a:cubicBezTo>
                  <a:cubicBezTo>
                    <a:pt x="1" y="430"/>
                    <a:pt x="0" y="419"/>
                    <a:pt x="28" y="497"/>
                  </a:cubicBezTo>
                  <a:cubicBezTo>
                    <a:pt x="34" y="514"/>
                    <a:pt x="62" y="525"/>
                    <a:pt x="75" y="536"/>
                  </a:cubicBezTo>
                  <a:cubicBezTo>
                    <a:pt x="118" y="572"/>
                    <a:pt x="164" y="621"/>
                    <a:pt x="217" y="639"/>
                  </a:cubicBezTo>
                  <a:cubicBezTo>
                    <a:pt x="310" y="732"/>
                    <a:pt x="377" y="726"/>
                    <a:pt x="516" y="733"/>
                  </a:cubicBezTo>
                  <a:cubicBezTo>
                    <a:pt x="553" y="730"/>
                    <a:pt x="589" y="729"/>
                    <a:pt x="626" y="725"/>
                  </a:cubicBezTo>
                  <a:cubicBezTo>
                    <a:pt x="634" y="724"/>
                    <a:pt x="645" y="724"/>
                    <a:pt x="650" y="717"/>
                  </a:cubicBezTo>
                  <a:cubicBezTo>
                    <a:pt x="676" y="685"/>
                    <a:pt x="647" y="628"/>
                    <a:pt x="689" y="607"/>
                  </a:cubicBezTo>
                </a:path>
              </a:pathLst>
            </a:custGeom>
            <a:noFill/>
            <a:ln w="381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12400" y="3504960"/>
              <a:ext cx="84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Tahoma"/>
                </a:rPr>
                <a:t>AP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15000" y="3207960"/>
              <a:ext cx="228600" cy="212760"/>
            </a:xfrm>
            <a:custGeom>
              <a:avLst/>
              <a:gdLst/>
              <a:ahLst/>
              <a:rect l="l" t="t" r="r" b="b"/>
              <a:pathLst>
                <a:path w="144" h="134">
                  <a:moveTo>
                    <a:pt x="73" y="1"/>
                  </a:moveTo>
                  <a:cubicBezTo>
                    <a:pt x="21" y="33"/>
                    <a:pt x="0" y="93"/>
                    <a:pt x="65" y="134"/>
                  </a:cubicBezTo>
                  <a:cubicBezTo>
                    <a:pt x="117" y="118"/>
                    <a:pt x="108" y="104"/>
                    <a:pt x="136" y="64"/>
                  </a:cubicBezTo>
                  <a:cubicBezTo>
                    <a:pt x="126" y="6"/>
                    <a:pt x="144" y="21"/>
                    <a:pt x="104" y="9"/>
                  </a:cubicBezTo>
                  <a:cubicBezTo>
                    <a:pt x="76" y="0"/>
                    <a:pt x="89" y="1"/>
                    <a:pt x="73" y="1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5257800" y="4819320"/>
              <a:ext cx="1752480" cy="914400"/>
              <a:chOff x="5257800" y="4819320"/>
              <a:chExt cx="1752480" cy="914400"/>
            </a:xfrm>
          </p:grpSpPr>
          <p:sp>
            <p:nvSpPr>
              <p:cNvPr id="396" name=""/>
              <p:cNvSpPr/>
              <p:nvPr/>
            </p:nvSpPr>
            <p:spPr>
              <a:xfrm>
                <a:off x="5257800" y="4819320"/>
                <a:ext cx="838080" cy="914400"/>
              </a:xfrm>
              <a:prstGeom prst="ellipse">
                <a:avLst/>
              </a:prstGeom>
              <a:noFill/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397480" y="4951080"/>
                <a:ext cx="568440" cy="639720"/>
              </a:xfrm>
              <a:prstGeom prst="ellipse">
                <a:avLst/>
              </a:prstGeom>
              <a:noFill/>
              <a:ln w="38160">
                <a:solidFill>
                  <a:srgbClr val="cc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36360" y="4961880"/>
                <a:ext cx="47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ccffff"/>
                    </a:solidFill>
                    <a:latin typeface="Tahoma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6172200" y="4819320"/>
                <a:ext cx="838080" cy="914400"/>
                <a:chOff x="6172200" y="4819320"/>
                <a:chExt cx="838080" cy="9144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172200" y="4819320"/>
                  <a:ext cx="838080" cy="914400"/>
                </a:xfrm>
                <a:prstGeom prst="ellipse">
                  <a:avLst/>
                </a:prstGeom>
                <a:noFill/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311880" y="4951080"/>
                  <a:ext cx="568440" cy="639720"/>
                </a:xfrm>
                <a:prstGeom prst="ellipse">
                  <a:avLst/>
                </a:prstGeom>
                <a:noFill/>
                <a:ln w="381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370560" y="4962240"/>
                  <a:ext cx="4352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ccffff"/>
                      </a:solidFill>
                      <a:latin typeface="Tahoma"/>
                    </a:rPr>
                    <a:t>T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" name=""/>
              <p:cNvSpPr/>
              <p:nvPr/>
            </p:nvSpPr>
            <p:spPr>
              <a:xfrm>
                <a:off x="5791320" y="4884120"/>
                <a:ext cx="228600" cy="212760"/>
              </a:xfrm>
              <a:custGeom>
                <a:avLst/>
                <a:gdLst/>
                <a:ahLst/>
                <a:rect l="l" t="t" r="r" b="b"/>
                <a:pathLst>
                  <a:path w="144" h="134">
                    <a:moveTo>
                      <a:pt x="73" y="1"/>
                    </a:moveTo>
                    <a:cubicBezTo>
                      <a:pt x="21" y="33"/>
                      <a:pt x="0" y="93"/>
                      <a:pt x="65" y="134"/>
                    </a:cubicBezTo>
                    <a:cubicBezTo>
                      <a:pt x="117" y="118"/>
                      <a:pt x="108" y="104"/>
                      <a:pt x="136" y="64"/>
                    </a:cubicBezTo>
                    <a:cubicBezTo>
                      <a:pt x="126" y="6"/>
                      <a:pt x="144" y="21"/>
                      <a:pt x="104" y="9"/>
                    </a:cubicBezTo>
                    <a:cubicBezTo>
                      <a:pt x="76" y="0"/>
                      <a:pt x="89" y="1"/>
                      <a:pt x="73" y="1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7238880" y="2903400"/>
              <a:ext cx="304920" cy="914400"/>
            </a:xfrm>
            <a:prstGeom prst="line">
              <a:avLst/>
            </a:prstGeom>
            <a:ln w="381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20120" y="2895480"/>
              <a:ext cx="714240" cy="36828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ahoma"/>
                </a:rPr>
                <a:t>IL-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43080" y="4267080"/>
              <a:ext cx="525240" cy="40572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ahoma"/>
                </a:rPr>
                <a:t>Th</a:t>
              </a:r>
              <a:r>
                <a:rPr b="0" lang="en-US" sz="1800" spc="-1" strike="noStrike" baseline="-25000">
                  <a:solidFill>
                    <a:srgbClr val="ffffcc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34320" y="4808160"/>
              <a:ext cx="1447560" cy="0"/>
            </a:xfrm>
            <a:prstGeom prst="line">
              <a:avLst/>
            </a:prstGeom>
            <a:ln w="3816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8375760" y="3657240"/>
              <a:ext cx="1295280" cy="1530360"/>
              <a:chOff x="8375760" y="3657240"/>
              <a:chExt cx="1295280" cy="1530360"/>
            </a:xfrm>
          </p:grpSpPr>
          <p:sp>
            <p:nvSpPr>
              <p:cNvPr id="409" name=""/>
              <p:cNvSpPr/>
              <p:nvPr/>
            </p:nvSpPr>
            <p:spPr>
              <a:xfrm>
                <a:off x="8526600" y="4308120"/>
                <a:ext cx="487080" cy="500040"/>
              </a:xfrm>
              <a:custGeom>
                <a:avLst/>
                <a:gdLst/>
                <a:ahLst/>
                <a:rect l="l" t="t" r="r" b="b"/>
                <a:pathLst>
                  <a:path w="304" h="403">
                    <a:moveTo>
                      <a:pt x="183" y="0"/>
                    </a:moveTo>
                    <a:cubicBezTo>
                      <a:pt x="123" y="41"/>
                      <a:pt x="72" y="66"/>
                      <a:pt x="18" y="118"/>
                    </a:cubicBezTo>
                    <a:cubicBezTo>
                      <a:pt x="0" y="172"/>
                      <a:pt x="6" y="144"/>
                      <a:pt x="18" y="244"/>
                    </a:cubicBezTo>
                    <a:cubicBezTo>
                      <a:pt x="29" y="332"/>
                      <a:pt x="99" y="376"/>
                      <a:pt x="175" y="402"/>
                    </a:cubicBezTo>
                    <a:cubicBezTo>
                      <a:pt x="194" y="399"/>
                      <a:pt x="214" y="403"/>
                      <a:pt x="231" y="394"/>
                    </a:cubicBezTo>
                    <a:cubicBezTo>
                      <a:pt x="246" y="387"/>
                      <a:pt x="242" y="363"/>
                      <a:pt x="246" y="347"/>
                    </a:cubicBezTo>
                    <a:cubicBezTo>
                      <a:pt x="259" y="300"/>
                      <a:pt x="264" y="263"/>
                      <a:pt x="286" y="221"/>
                    </a:cubicBezTo>
                    <a:cubicBezTo>
                      <a:pt x="282" y="164"/>
                      <a:pt x="304" y="77"/>
                      <a:pt x="238" y="55"/>
                    </a:cubicBezTo>
                    <a:cubicBezTo>
                      <a:pt x="219" y="26"/>
                      <a:pt x="202" y="29"/>
                      <a:pt x="183" y="0"/>
                    </a:cubicBezTo>
                    <a:close/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013680" y="4198680"/>
                <a:ext cx="149400" cy="13824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55" y="0"/>
                    </a:moveTo>
                    <a:cubicBezTo>
                      <a:pt x="16" y="10"/>
                      <a:pt x="12" y="18"/>
                      <a:pt x="0" y="55"/>
                    </a:cubicBezTo>
                    <a:cubicBezTo>
                      <a:pt x="41" y="83"/>
                      <a:pt x="41" y="87"/>
                      <a:pt x="94" y="78"/>
                    </a:cubicBezTo>
                    <a:cubicBezTo>
                      <a:pt x="87" y="38"/>
                      <a:pt x="94" y="13"/>
                      <a:pt x="55" y="0"/>
                    </a:cubicBezTo>
                    <a:close/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9242280" y="4732200"/>
                <a:ext cx="149400" cy="13788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55" y="0"/>
                    </a:moveTo>
                    <a:cubicBezTo>
                      <a:pt x="16" y="10"/>
                      <a:pt x="12" y="18"/>
                      <a:pt x="0" y="55"/>
                    </a:cubicBezTo>
                    <a:cubicBezTo>
                      <a:pt x="41" y="83"/>
                      <a:pt x="41" y="87"/>
                      <a:pt x="94" y="78"/>
                    </a:cubicBezTo>
                    <a:cubicBezTo>
                      <a:pt x="87" y="38"/>
                      <a:pt x="94" y="13"/>
                      <a:pt x="55" y="0"/>
                    </a:cubicBezTo>
                    <a:close/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9090000" y="4503600"/>
                <a:ext cx="149400" cy="13788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55" y="0"/>
                    </a:moveTo>
                    <a:cubicBezTo>
                      <a:pt x="16" y="10"/>
                      <a:pt x="12" y="18"/>
                      <a:pt x="0" y="55"/>
                    </a:cubicBezTo>
                    <a:cubicBezTo>
                      <a:pt x="41" y="83"/>
                      <a:pt x="41" y="87"/>
                      <a:pt x="94" y="78"/>
                    </a:cubicBezTo>
                    <a:cubicBezTo>
                      <a:pt x="87" y="38"/>
                      <a:pt x="94" y="13"/>
                      <a:pt x="55" y="0"/>
                    </a:cubicBezTo>
                    <a:close/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318600" y="4503600"/>
                <a:ext cx="149400" cy="13788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55" y="0"/>
                    </a:moveTo>
                    <a:cubicBezTo>
                      <a:pt x="16" y="10"/>
                      <a:pt x="12" y="18"/>
                      <a:pt x="0" y="55"/>
                    </a:cubicBezTo>
                    <a:cubicBezTo>
                      <a:pt x="41" y="83"/>
                      <a:pt x="41" y="87"/>
                      <a:pt x="94" y="78"/>
                    </a:cubicBezTo>
                    <a:cubicBezTo>
                      <a:pt x="87" y="38"/>
                      <a:pt x="94" y="13"/>
                      <a:pt x="55" y="0"/>
                    </a:cubicBezTo>
                    <a:close/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375760" y="3885840"/>
                <a:ext cx="1295280" cy="1301760"/>
              </a:xfrm>
              <a:custGeom>
                <a:avLst/>
                <a:gdLst/>
                <a:ahLst/>
                <a:rect l="l" t="t" r="r" b="b"/>
                <a:pathLst>
                  <a:path w="816" h="820">
                    <a:moveTo>
                      <a:pt x="265" y="40"/>
                    </a:moveTo>
                    <a:cubicBezTo>
                      <a:pt x="241" y="42"/>
                      <a:pt x="215" y="36"/>
                      <a:pt x="194" y="47"/>
                    </a:cubicBezTo>
                    <a:cubicBezTo>
                      <a:pt x="177" y="56"/>
                      <a:pt x="163" y="95"/>
                      <a:pt x="163" y="95"/>
                    </a:cubicBezTo>
                    <a:cubicBezTo>
                      <a:pt x="149" y="149"/>
                      <a:pt x="160" y="116"/>
                      <a:pt x="123" y="189"/>
                    </a:cubicBezTo>
                    <a:cubicBezTo>
                      <a:pt x="114" y="206"/>
                      <a:pt x="92" y="211"/>
                      <a:pt x="76" y="221"/>
                    </a:cubicBezTo>
                    <a:cubicBezTo>
                      <a:pt x="68" y="226"/>
                      <a:pt x="52" y="236"/>
                      <a:pt x="52" y="236"/>
                    </a:cubicBezTo>
                    <a:cubicBezTo>
                      <a:pt x="0" y="320"/>
                      <a:pt x="32" y="408"/>
                      <a:pt x="37" y="512"/>
                    </a:cubicBezTo>
                    <a:cubicBezTo>
                      <a:pt x="43" y="628"/>
                      <a:pt x="43" y="607"/>
                      <a:pt x="115" y="669"/>
                    </a:cubicBezTo>
                    <a:cubicBezTo>
                      <a:pt x="153" y="702"/>
                      <a:pt x="122" y="687"/>
                      <a:pt x="163" y="701"/>
                    </a:cubicBezTo>
                    <a:cubicBezTo>
                      <a:pt x="231" y="769"/>
                      <a:pt x="270" y="789"/>
                      <a:pt x="367" y="803"/>
                    </a:cubicBezTo>
                    <a:cubicBezTo>
                      <a:pt x="482" y="799"/>
                      <a:pt x="634" y="820"/>
                      <a:pt x="737" y="756"/>
                    </a:cubicBezTo>
                    <a:cubicBezTo>
                      <a:pt x="757" y="698"/>
                      <a:pt x="777" y="643"/>
                      <a:pt x="792" y="583"/>
                    </a:cubicBezTo>
                    <a:cubicBezTo>
                      <a:pt x="793" y="581"/>
                      <a:pt x="815" y="525"/>
                      <a:pt x="816" y="520"/>
                    </a:cubicBezTo>
                    <a:cubicBezTo>
                      <a:pt x="812" y="444"/>
                      <a:pt x="813" y="365"/>
                      <a:pt x="792" y="291"/>
                    </a:cubicBezTo>
                    <a:cubicBezTo>
                      <a:pt x="787" y="273"/>
                      <a:pt x="789" y="250"/>
                      <a:pt x="776" y="236"/>
                    </a:cubicBezTo>
                    <a:cubicBezTo>
                      <a:pt x="750" y="206"/>
                      <a:pt x="707" y="198"/>
                      <a:pt x="682" y="166"/>
                    </a:cubicBezTo>
                    <a:cubicBezTo>
                      <a:pt x="631" y="101"/>
                      <a:pt x="667" y="117"/>
                      <a:pt x="619" y="103"/>
                    </a:cubicBezTo>
                    <a:cubicBezTo>
                      <a:pt x="542" y="52"/>
                      <a:pt x="475" y="12"/>
                      <a:pt x="383" y="0"/>
                    </a:cubicBezTo>
                    <a:cubicBezTo>
                      <a:pt x="373" y="1"/>
                      <a:pt x="268" y="16"/>
                      <a:pt x="257" y="24"/>
                    </a:cubicBezTo>
                    <a:cubicBezTo>
                      <a:pt x="252" y="28"/>
                      <a:pt x="262" y="35"/>
                      <a:pt x="265" y="40"/>
                    </a:cubicBezTo>
                    <a:close/>
                  </a:path>
                </a:pathLst>
              </a:custGeom>
              <a:noFill/>
              <a:ln w="3816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8528040" y="3657240"/>
                <a:ext cx="461520" cy="339480"/>
                <a:chOff x="8528040" y="3657240"/>
                <a:chExt cx="461520" cy="3394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528040" y="3695040"/>
                  <a:ext cx="195120" cy="290520"/>
                </a:xfrm>
                <a:custGeom>
                  <a:avLst/>
                  <a:gdLst/>
                  <a:ahLst/>
                  <a:rect l="l" t="t" r="r" b="b"/>
                  <a:pathLst>
                    <a:path w="166" h="409">
                      <a:moveTo>
                        <a:pt x="0" y="0"/>
                      </a:moveTo>
                      <a:cubicBezTo>
                        <a:pt x="46" y="15"/>
                        <a:pt x="50" y="38"/>
                        <a:pt x="87" y="63"/>
                      </a:cubicBezTo>
                      <a:cubicBezTo>
                        <a:pt x="99" y="96"/>
                        <a:pt x="132" y="123"/>
                        <a:pt x="166" y="134"/>
                      </a:cubicBezTo>
                      <a:cubicBezTo>
                        <a:pt x="162" y="158"/>
                        <a:pt x="150" y="180"/>
                        <a:pt x="150" y="204"/>
                      </a:cubicBezTo>
                      <a:cubicBezTo>
                        <a:pt x="150" y="272"/>
                        <a:pt x="158" y="341"/>
                        <a:pt x="158" y="409"/>
                      </a:cubicBezTo>
                    </a:path>
                  </a:pathLst>
                </a:custGeom>
                <a:noFill/>
                <a:ln w="381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8794440" y="3706200"/>
                  <a:ext cx="195120" cy="290520"/>
                </a:xfrm>
                <a:custGeom>
                  <a:avLst/>
                  <a:gdLst/>
                  <a:ahLst/>
                  <a:rect l="l" t="t" r="r" b="b"/>
                  <a:pathLst>
                    <a:path w="166" h="409">
                      <a:moveTo>
                        <a:pt x="0" y="0"/>
                      </a:moveTo>
                      <a:cubicBezTo>
                        <a:pt x="46" y="15"/>
                        <a:pt x="50" y="38"/>
                        <a:pt x="87" y="63"/>
                      </a:cubicBezTo>
                      <a:cubicBezTo>
                        <a:pt x="99" y="96"/>
                        <a:pt x="132" y="123"/>
                        <a:pt x="166" y="134"/>
                      </a:cubicBezTo>
                      <a:cubicBezTo>
                        <a:pt x="162" y="158"/>
                        <a:pt x="150" y="180"/>
                        <a:pt x="150" y="204"/>
                      </a:cubicBezTo>
                      <a:cubicBezTo>
                        <a:pt x="150" y="272"/>
                        <a:pt x="158" y="341"/>
                        <a:pt x="158" y="409"/>
                      </a:cubicBezTo>
                    </a:path>
                  </a:pathLst>
                </a:custGeom>
                <a:noFill/>
                <a:ln w="381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72320" y="3657240"/>
                  <a:ext cx="374400" cy="99720"/>
                </a:xfrm>
                <a:custGeom>
                  <a:avLst/>
                  <a:gdLst/>
                  <a:ahLst/>
                  <a:rect l="l" t="t" r="r" b="b"/>
                  <a:pathLst>
                    <a:path w="236" h="63">
                      <a:moveTo>
                        <a:pt x="0" y="0"/>
                      </a:moveTo>
                      <a:cubicBezTo>
                        <a:pt x="21" y="3"/>
                        <a:pt x="43" y="2"/>
                        <a:pt x="63" y="8"/>
                      </a:cubicBezTo>
                      <a:cubicBezTo>
                        <a:pt x="97" y="17"/>
                        <a:pt x="96" y="50"/>
                        <a:pt x="134" y="63"/>
                      </a:cubicBezTo>
                      <a:cubicBezTo>
                        <a:pt x="150" y="18"/>
                        <a:pt x="192" y="0"/>
                        <a:pt x="236" y="0"/>
                      </a:cubicBezTo>
                    </a:path>
                  </a:pathLst>
                </a:custGeom>
                <a:noFill/>
                <a:ln w="381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9103680" y="3696480"/>
                <a:ext cx="511560" cy="423360"/>
                <a:chOff x="9103680" y="3696480"/>
                <a:chExt cx="511560" cy="423360"/>
              </a:xfrm>
            </p:grpSpPr>
            <p:sp>
              <p:nvSpPr>
                <p:cNvPr id="420" name=""/>
                <p:cNvSpPr/>
                <p:nvPr/>
              </p:nvSpPr>
              <p:spPr>
                <a:xfrm rot="771000">
                  <a:off x="9133200" y="3741480"/>
                  <a:ext cx="195120" cy="290520"/>
                </a:xfrm>
                <a:custGeom>
                  <a:avLst/>
                  <a:gdLst/>
                  <a:ahLst/>
                  <a:rect l="l" t="t" r="r" b="b"/>
                  <a:pathLst>
                    <a:path w="166" h="409">
                      <a:moveTo>
                        <a:pt x="0" y="0"/>
                      </a:moveTo>
                      <a:cubicBezTo>
                        <a:pt x="46" y="15"/>
                        <a:pt x="50" y="38"/>
                        <a:pt x="87" y="63"/>
                      </a:cubicBezTo>
                      <a:cubicBezTo>
                        <a:pt x="99" y="96"/>
                        <a:pt x="132" y="123"/>
                        <a:pt x="166" y="134"/>
                      </a:cubicBezTo>
                      <a:cubicBezTo>
                        <a:pt x="162" y="158"/>
                        <a:pt x="150" y="180"/>
                        <a:pt x="150" y="204"/>
                      </a:cubicBezTo>
                      <a:cubicBezTo>
                        <a:pt x="150" y="272"/>
                        <a:pt x="158" y="341"/>
                        <a:pt x="158" y="409"/>
                      </a:cubicBezTo>
                    </a:path>
                  </a:pathLst>
                </a:custGeom>
                <a:noFill/>
                <a:ln w="381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rot="771000">
                  <a:off x="9389880" y="3811320"/>
                  <a:ext cx="195120" cy="290520"/>
                </a:xfrm>
                <a:custGeom>
                  <a:avLst/>
                  <a:gdLst/>
                  <a:ahLst/>
                  <a:rect l="l" t="t" r="r" b="b"/>
                  <a:pathLst>
                    <a:path w="166" h="409">
                      <a:moveTo>
                        <a:pt x="0" y="0"/>
                      </a:moveTo>
                      <a:cubicBezTo>
                        <a:pt x="46" y="15"/>
                        <a:pt x="50" y="38"/>
                        <a:pt x="87" y="63"/>
                      </a:cubicBezTo>
                      <a:cubicBezTo>
                        <a:pt x="99" y="96"/>
                        <a:pt x="132" y="123"/>
                        <a:pt x="166" y="134"/>
                      </a:cubicBezTo>
                      <a:cubicBezTo>
                        <a:pt x="162" y="158"/>
                        <a:pt x="150" y="180"/>
                        <a:pt x="150" y="204"/>
                      </a:cubicBezTo>
                      <a:cubicBezTo>
                        <a:pt x="150" y="272"/>
                        <a:pt x="158" y="341"/>
                        <a:pt x="158" y="409"/>
                      </a:cubicBezTo>
                    </a:path>
                  </a:pathLst>
                </a:custGeom>
                <a:noFill/>
                <a:ln w="381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rot="771000">
                  <a:off x="9203760" y="3736800"/>
                  <a:ext cx="374400" cy="99720"/>
                </a:xfrm>
                <a:custGeom>
                  <a:avLst/>
                  <a:gdLst/>
                  <a:ahLst/>
                  <a:rect l="l" t="t" r="r" b="b"/>
                  <a:pathLst>
                    <a:path w="236" h="63">
                      <a:moveTo>
                        <a:pt x="0" y="0"/>
                      </a:moveTo>
                      <a:cubicBezTo>
                        <a:pt x="21" y="3"/>
                        <a:pt x="43" y="2"/>
                        <a:pt x="63" y="8"/>
                      </a:cubicBezTo>
                      <a:cubicBezTo>
                        <a:pt x="97" y="17"/>
                        <a:pt x="96" y="50"/>
                        <a:pt x="134" y="63"/>
                      </a:cubicBezTo>
                      <a:cubicBezTo>
                        <a:pt x="150" y="18"/>
                        <a:pt x="192" y="0"/>
                        <a:pt x="236" y="0"/>
                      </a:cubicBezTo>
                    </a:path>
                  </a:pathLst>
                </a:custGeom>
                <a:noFill/>
                <a:ln w="38160">
                  <a:solidFill>
                    <a:srgbClr val="cc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3" name=""/>
            <p:cNvSpPr/>
            <p:nvPr/>
          </p:nvSpPr>
          <p:spPr>
            <a:xfrm>
              <a:off x="9594720" y="5333760"/>
              <a:ext cx="228600" cy="212760"/>
            </a:xfrm>
            <a:custGeom>
              <a:avLst/>
              <a:gdLst/>
              <a:ahLst/>
              <a:rect l="l" t="t" r="r" b="b"/>
              <a:pathLst>
                <a:path w="144" h="134">
                  <a:moveTo>
                    <a:pt x="73" y="1"/>
                  </a:moveTo>
                  <a:cubicBezTo>
                    <a:pt x="21" y="33"/>
                    <a:pt x="0" y="93"/>
                    <a:pt x="65" y="134"/>
                  </a:cubicBezTo>
                  <a:cubicBezTo>
                    <a:pt x="117" y="118"/>
                    <a:pt x="108" y="104"/>
                    <a:pt x="136" y="64"/>
                  </a:cubicBezTo>
                  <a:cubicBezTo>
                    <a:pt x="126" y="6"/>
                    <a:pt x="144" y="21"/>
                    <a:pt x="104" y="9"/>
                  </a:cubicBezTo>
                  <a:cubicBezTo>
                    <a:pt x="76" y="0"/>
                    <a:pt x="89" y="1"/>
                    <a:pt x="73" y="1"/>
                  </a:cubicBez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96600" y="2209680"/>
              <a:ext cx="2709000" cy="368280"/>
            </a:xfrm>
            <a:prstGeom prst="rect">
              <a:avLst/>
            </a:prstGeom>
            <a:solidFill>
              <a:srgbClr val="023266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Tahoma"/>
                </a:rPr>
                <a:t>APC - CD14</a:t>
              </a:r>
              <a:r>
                <a:rPr b="0" lang="en-US" sz="1800" spc="-1" strike="noStrike" baseline="30000">
                  <a:solidFill>
                    <a:srgbClr val="ffffcc"/>
                  </a:solidFill>
                  <a:latin typeface="Tahoma"/>
                </a:rPr>
                <a:t>+</a:t>
              </a:r>
              <a:r>
                <a:rPr b="0" lang="en-US" sz="1800" spc="-1" strike="noStrike">
                  <a:solidFill>
                    <a:srgbClr val="ffffcc"/>
                  </a:solidFill>
                  <a:latin typeface="Tahoma"/>
                </a:rPr>
                <a:t> (monocyt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cc"/>
                </a:solidFill>
                <a:latin typeface="Penguin"/>
              </a:rPr>
              <a:t>Zastosowanie CpG „anitsense” terapii w astmie</a:t>
            </a:r>
            <a:endParaRPr b="0" lang="en-US" sz="40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743680" cy="47242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57280" indent="-5572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Stymulacja APC i komórek B w kierunku produkcji cytokin promujących Th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Krieg 1998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Redukcja eozynofilii, spadek syntezy IL-5, osłabienie nadreaktywności oskrzeli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Broide 1998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Redukcja intensywności zapalenia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Sur 1999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7280" indent="-55728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Redukcja liczby receptorów adenozynowych A</a:t>
            </a:r>
            <a:r>
              <a:rPr b="0" lang="pl-PL" sz="28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Metzger 1999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0880" y="533520"/>
            <a:ext cx="952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2362320"/>
            <a:ext cx="8743680" cy="327636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4560" indent="-574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Hamowanie syntezy IgE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Spiegelberg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Produkcja zmodyfikowanych antygenów w technice plazmidów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Huang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Redukcja liczby receptorów dla IL-5, chemokin (CCR-3) IL-2 i innych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(Kim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Zastosowanie CpG „anitsense” </a:t>
            </a:r>
            <a:br>
              <a:rPr sz="5400"/>
            </a:b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terapii w astmie - c.d.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Zalety terapii CpG „antisense”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743680" cy="487656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Promowanie zarówno swoistej jak i nieswoistej odpowiedzi immunologicznej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77800" indent="-5778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Celem jest mRNA, a nie genom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77800" indent="-5778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Niska dawk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77800" indent="-5778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Bardzo dyskretna toksyczność (u zwierząt nadprodukcja IFN-</a:t>
            </a:r>
            <a:r>
              <a:rPr b="0" lang="pl-PL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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i TNF</a:t>
            </a:r>
            <a:r>
              <a:rPr b="0" lang="pl-PL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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zwiększa wrażliwość na czynnik infekcyjny -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dowiedziona, 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stymulacja kolagenoz - </a:t>
            </a:r>
            <a:r>
              <a:rPr b="0" i="1" lang="pl-PL" sz="2800" spc="-1" strike="noStrike">
                <a:solidFill>
                  <a:srgbClr val="ffffcc"/>
                </a:solidFill>
                <a:latin typeface="Tahoma"/>
              </a:rPr>
              <a:t>hipotetyczna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77800" indent="-5778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Bardzo niski koszt (200 USD za gram !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enguin"/>
              </a:rPr>
              <a:t>Podsumowanie </a:t>
            </a:r>
            <a:endParaRPr b="0" lang="en-US" sz="60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743680" cy="495324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563040" indent="-56304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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mechanizm SIT opiera się o oddziaływanie mikrośrodowiska na komórki obwodowe 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563040" indent="-56304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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cytokiną inicjującą i odpowiedzialną za skuteczność SIT wydaje się być IL-10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563040" indent="-563040">
              <a:lnSpc>
                <a:spcPct val="13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"/>
              <a:tabLst>
                <a:tab algn="l" pos="474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ostateczny efekt immunoterapii wynika z przesunięcia stanu równowagi w obrębie komórek CD4</a:t>
            </a:r>
            <a:r>
              <a:rPr b="0" lang="pl-PL" sz="3200" spc="-1" strike="noStrike" baseline="30000">
                <a:solidFill>
                  <a:srgbClr val="ffffcc"/>
                </a:solidFill>
                <a:latin typeface="Tahoma"/>
              </a:rPr>
              <a:t>+</a:t>
            </a:r>
            <a:r>
              <a:rPr b="0" lang="pl-PL" sz="3200" spc="-1" strike="noStrike">
                <a:solidFill>
                  <a:srgbClr val="ffffcc"/>
                </a:solidFill>
                <a:latin typeface="Tahoma"/>
              </a:rPr>
              <a:t> w stronę Th</a:t>
            </a:r>
            <a:r>
              <a:rPr b="0" lang="pl-PL" sz="32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-720" y="649116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E-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744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Penguin"/>
              </a:rPr>
              <a:t>Zalecane piśmiennictwo</a:t>
            </a:r>
            <a:endParaRPr b="0" lang="en-US" sz="66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Askis C.A., 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ff00"/>
                </a:solidFill>
                <a:latin typeface="Tahoma"/>
              </a:rPr>
              <a:t>Mechanisms of allergen-specific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277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Blaser K. 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ff00"/>
                </a:solidFill>
                <a:latin typeface="Tahoma"/>
              </a:rPr>
              <a:t>immunotherapy.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Allergy 2000, 55, 522-530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277560" indent="-27756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Rolland J.M.,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ff00"/>
                </a:solidFill>
                <a:latin typeface="Tahoma"/>
              </a:rPr>
              <a:t>Activation of allergen-reactive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277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Lamb J.R. 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ff00"/>
                </a:solidFill>
                <a:latin typeface="Tahoma"/>
              </a:rPr>
              <a:t>T-lymphocytes and mechanisms of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277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O’Hehir R.E. 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ff00"/>
                </a:solidFill>
                <a:latin typeface="Tahoma"/>
              </a:rPr>
              <a:t>hyposensitization. 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w: Asthma and rhinitis. 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Ed.W. Busse, S. Holgate. Blackwell Sc.2000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277560" indent="-27756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Platts-Mills T.A.E. </a:t>
            </a:r>
            <a:r>
              <a:rPr b="0" lang="pl-PL" sz="2400" spc="-1" strike="noStrike">
                <a:solidFill>
                  <a:srgbClr val="00ff00"/>
                </a:solidFill>
                <a:latin typeface="Tahoma"/>
              </a:rPr>
              <a:t>Future directions for allergen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277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Mueller G.A., 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ff00"/>
                </a:solidFill>
                <a:latin typeface="Tahoma"/>
              </a:rPr>
              <a:t>immunotherapy. 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J Allergy Clin. Immunol.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 Wheatley L.M.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1998, 102, 335-343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277560" indent="-27756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Allergy 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ff00"/>
                </a:solidFill>
                <a:latin typeface="Tahoma"/>
              </a:rPr>
              <a:t>WHO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ff00"/>
                </a:solidFill>
                <a:latin typeface="Tahoma"/>
              </a:rPr>
              <a:t>Position Paper.</a:t>
            </a:r>
            <a:r>
              <a:rPr b="0" lang="pl-P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Tahoma"/>
              </a:rPr>
              <a:t>1998, 44,53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277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2775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1905120"/>
            <a:ext cx="8915400" cy="40384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cc"/>
                </a:solidFill>
                <a:latin typeface="Penguin"/>
              </a:rPr>
              <a:t>Definicja swoistej immunoterapii alergenowej </a:t>
            </a:r>
            <a:endParaRPr b="0" lang="en-US" sz="44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82280" y="2057400"/>
            <a:ext cx="87440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Swoista immunoterapia alergenowa 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jest to podawanie choremu na alergię szczepionki alergenowej we wzrastających stopniowo dawkach aż do takiej, która osłabia efektywnie objawy towarzyszące ekspozycji na swoisty alerge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27072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ff0000"/>
                </a:solidFill>
                <a:latin typeface="Tahoma"/>
              </a:rPr>
              <a:t>WHO Position Paper, Allergy, 1998, 44, 53 suplement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ffcc"/>
                </a:solidFill>
                <a:latin typeface="Penguin"/>
              </a:rPr>
              <a:t>Immunoterapia - Synopsis (1)</a:t>
            </a:r>
            <a:endParaRPr b="0" lang="en-US" sz="6000" spc="-1" strike="noStrike">
              <a:solidFill>
                <a:srgbClr val="ffffcc"/>
              </a:solidFill>
              <a:latin typeface="Pengui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8524800" cy="51814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51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Kontrolowane badania dowodzą, że immunoterapia alergenowa jest skuteczna w leczeniu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alergicznego nieżytu nosa i spojówek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alergicznej astmy oskrzelowej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alergii na owad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Leczenie alergii polega na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unikaniu alergenów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farmakoterapi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swoistej immunoterapi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551520" indent="-551520"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edukacji chorych i ich rodzin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3581280"/>
            <a:ext cx="8915400" cy="243864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905120"/>
            <a:ext cx="8915400" cy="144756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088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1981080"/>
            <a:ext cx="8525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Immunoterapia swoista jest wskazana wyłącznie u chorych z rozwiniętą alergią zależną od I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Odpowiedź na immunoterapię jest swoista. </a:t>
            </a: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Nie wolno stosować mieszanin alergenowych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, w których swoisty alergen występuje łącznie z innymi alergen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Immunoterapia - Synopsis (1) - c.d.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4114800"/>
            <a:ext cx="8915400" cy="152388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05120"/>
            <a:ext cx="8915400" cy="144756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0492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981080"/>
            <a:ext cx="852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Lekarzem podejmującym decyzję o immunoterapii i dokonującym oceny jej skuteczności jest </a:t>
            </a:r>
            <a:r>
              <a:rPr b="0" lang="pl-PL" sz="2800" spc="-1" strike="noStrike">
                <a:solidFill>
                  <a:srgbClr val="00ff00"/>
                </a:solidFill>
                <a:latin typeface="Tahoma"/>
              </a:rPr>
              <a:t>alergo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Należy stosować szczepionki standaryzowane o znanej sile antygenow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Immunoterapia - Synopsis (2)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3505320"/>
            <a:ext cx="8915400" cy="29718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447920"/>
            <a:ext cx="8915400" cy="1828800"/>
          </a:xfrm>
          <a:prstGeom prst="rect">
            <a:avLst/>
          </a:prstGeom>
          <a:solidFill>
            <a:srgbClr val="023266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04920"/>
            <a:ext cx="93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523880"/>
            <a:ext cx="852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Optymalna dawka terapeutyczna alergen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w terapii podtrzymującej mieści się w przedzi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5-20 </a:t>
            </a:r>
            <a:r>
              <a:rPr b="0" lang="pl-PL" sz="2800" spc="-1" strike="noStrike">
                <a:solidFill>
                  <a:srgbClr val="ffffcc"/>
                </a:solidFill>
                <a:latin typeface="GreekMathSymbols"/>
                <a:ea typeface="GreekMathSymbols"/>
              </a:rPr>
              <a:t></a:t>
            </a: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g na pojedynczą injekcj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Tahoma"/>
              </a:rPr>
              <a:t>Głównym objawem niepożądanym immunoterapii jest anafilaksja. Terapia ta jest dozwolona tylko pod ścisłą kontrolą lekarską i może być dokonywana tylko tam, gdzie istnieją warunki do walki ze wstrząs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720" y="649116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-</a:t>
            </a:r>
            <a:r>
              <a:rPr b="0" lang="pl-P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mail the Auth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98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cc"/>
                </a:solidFill>
                <a:latin typeface="Penguin"/>
              </a:rPr>
              <a:t>Immunoterapia - Synopsis (2)  - c.d.</a:t>
            </a:r>
            <a:endParaRPr b="0" lang="en-US" sz="5400" spc="-1" strike="noStrike">
              <a:solidFill>
                <a:srgbClr val="ffffcc"/>
              </a:solidFill>
              <a:latin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1T12:52:28Z</dcterms:created>
  <dc:creator>Radosław Zajdel</dc:creator>
  <dc:description/>
  <dc:language>en-US</dc:language>
  <cp:lastModifiedBy>Radosław Zajdel</cp:lastModifiedBy>
  <dcterms:modified xsi:type="dcterms:W3CDTF">2001-11-12T16:51:21Z</dcterms:modified>
  <cp:revision>146</cp:revision>
  <dc:subject/>
  <dc:title>The role of magnetic resonance imaging in diagnosis and monitoring the treatment of multiple sclerosis </dc:title>
</cp:coreProperties>
</file>